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4C1C65-21F8-4CAD-BB8B-40EF39DECA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EE97A6-0F89-4C3D-8ADD-8624550E9E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11D2F7-7A34-4AEB-863A-2139A7C096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1D6AE1-7595-4A12-93E7-7CB4B43CC8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88CFB5-9566-4E85-9B8A-69BA009707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0440A1-D413-4EC5-BDEB-743D636B00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80ADD9-FC4A-474F-B2E6-15CD47F953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5B9AD4-A0A6-4613-8C16-ADD57E3F83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99D272-AEA3-400D-BCE8-4A4D9F2FF7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0A6A16-9308-46B0-8091-D292E2FD16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B329B6-64EC-4CFA-BD26-84E652B0A5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D5426F-4D56-4660-8C8E-673145352B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BB8374-53DD-4DAE-B17D-6BB9B0586E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68B219-593C-4C54-9F33-6277B8A3EB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4EF4DB-E9B8-4145-9190-D25BBB2510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0A0285-B0D0-4B0F-AA31-716331FDF0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ED47D9-9072-4303-B646-0391688C152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0BE865-5B78-4463-A2F0-4988035CF2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9FE16A-3A8B-4F0B-8623-62110F4299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E2C4E3-FD03-46B9-B3B1-A447DD4450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A2FE30-E043-493E-BF16-664672D2CE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E07D89-4101-43D7-A262-9B56150984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2FAE72-FA81-4B64-9A20-1137F8F13E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FEC9B9-AEB4-452B-A0A4-BF64055144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Arial"/>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Arial"/>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DB202-62DE-4995-97FF-C32E3FBAFDE8}" type="slidenum">
              <a:rPr b="0" lang="en-US" sz="1400" spc="-1" strike="noStrike">
                <a:solidFill>
                  <a:srgbClr val="000000"/>
                </a:solidFill>
                <a:latin typeface="Comic Sans MS"/>
              </a:rPr>
              <a:t>&lt;number&gt;</a:t>
            </a:fld>
            <a:endParaRPr b="0" lang="en-US" sz="1400" spc="-1" strike="noStrike">
              <a:solidFill>
                <a:srgbClr val="000000"/>
              </a:solidFill>
              <a:latin typeface="Arial"/>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Arial"/>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Arial"/>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528D1-7128-49F5-A39E-C65299C5A02F}" type="slidenum">
              <a:rPr b="0" lang="en-US" sz="1400" spc="-1" strike="noStrike">
                <a:solidFill>
                  <a:srgbClr val="000000"/>
                </a:solidFill>
                <a:latin typeface="Comic Sans MS"/>
              </a:rPr>
              <a:t>&lt;number&gt;</a:t>
            </a:fld>
            <a:endParaRPr b="0" lang="en-US" sz="1400" spc="-1" strike="noStrike">
              <a:solidFill>
                <a:srgbClr val="000000"/>
              </a:solidFill>
              <a:latin typeface="Arial"/>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685800" y="304560"/>
            <a:ext cx="6858000" cy="51814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omic Sans MS"/>
              </a:rPr>
              <a:t>Opener: Write the sentence as an equation: </a:t>
            </a:r>
            <a:endParaRPr b="0" lang="en-US" sz="36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 9 more than a number is 42</a:t>
            </a:r>
            <a:r>
              <a:rPr b="0" lang="en-US" sz="2800" spc="-1" strike="noStrike">
                <a:solidFill>
                  <a:srgbClr val="000000"/>
                </a:solidFill>
                <a:latin typeface="Comic Sans MS"/>
              </a:rPr>
              <a:t>	</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2.) 10 less than a number is 12</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The total of 15 and a number is 23</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52" name=""/>
          <p:cNvSpPr/>
          <p:nvPr/>
        </p:nvSpPr>
        <p:spPr>
          <a:xfrm>
            <a:off x="2241720" y="1446120"/>
            <a:ext cx="196560" cy="169920"/>
          </a:xfrm>
          <a:custGeom>
            <a:avLst/>
            <a:gdLst/>
            <a:ahLst/>
            <a:rect l="l" t="t" r="r" b="b"/>
            <a:pathLst>
              <a:path w="547" h="473">
                <a:moveTo>
                  <a:pt x="6499" y="4018"/>
                </a:moveTo>
                <a:cubicBezTo>
                  <a:pt x="6456" y="4132"/>
                  <a:pt x="6465" y="4286"/>
                  <a:pt x="6424" y="4415"/>
                </a:cubicBezTo>
                <a:cubicBezTo>
                  <a:pt x="6404" y="4456"/>
                  <a:pt x="6396" y="4462"/>
                  <a:pt x="6400" y="4490"/>
                </a:cubicBezTo>
              </a:path>
              <a:path w="547" h="473">
                <a:moveTo>
                  <a:pt x="6226" y="4217"/>
                </a:moveTo>
                <a:cubicBezTo>
                  <a:pt x="6326" y="4255"/>
                  <a:pt x="6457" y="4242"/>
                  <a:pt x="6573" y="4242"/>
                </a:cubicBezTo>
                <a:cubicBezTo>
                  <a:pt x="6647" y="4242"/>
                  <a:pt x="6704" y="4253"/>
                  <a:pt x="6772" y="4266"/>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4027320" y="1438200"/>
            <a:ext cx="81000" cy="187560"/>
          </a:xfrm>
          <a:custGeom>
            <a:avLst/>
            <a:gdLst/>
            <a:ahLst/>
            <a:rect l="l" t="t" r="r" b="b"/>
            <a:pathLst>
              <a:path w="224" h="521">
                <a:moveTo>
                  <a:pt x="11286" y="3994"/>
                </a:moveTo>
                <a:cubicBezTo>
                  <a:pt x="11262" y="4090"/>
                  <a:pt x="11262" y="4200"/>
                  <a:pt x="11237" y="4291"/>
                </a:cubicBezTo>
                <a:cubicBezTo>
                  <a:pt x="11224" y="4337"/>
                  <a:pt x="11171" y="4418"/>
                  <a:pt x="11187" y="4465"/>
                </a:cubicBezTo>
                <a:cubicBezTo>
                  <a:pt x="11208" y="4529"/>
                  <a:pt x="11313" y="4514"/>
                  <a:pt x="11361" y="4514"/>
                </a:cubicBezTo>
                <a:cubicBezTo>
                  <a:pt x="11377" y="4514"/>
                  <a:pt x="11394" y="4514"/>
                  <a:pt x="11410" y="4514"/>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3187800" y="2108160"/>
            <a:ext cx="1465200" cy="266760"/>
          </a:xfrm>
          <a:custGeom>
            <a:avLst/>
            <a:gdLst/>
            <a:ahLst/>
            <a:rect l="l" t="t" r="r" b="b"/>
            <a:pathLst>
              <a:path w="4069" h="745">
                <a:moveTo>
                  <a:pt x="9351" y="6127"/>
                </a:moveTo>
                <a:cubicBezTo>
                  <a:pt x="9401" y="5997"/>
                  <a:pt x="9364" y="5816"/>
                  <a:pt x="9153" y="5854"/>
                </a:cubicBezTo>
                <a:cubicBezTo>
                  <a:pt x="8971" y="5887"/>
                  <a:pt x="8918" y="6035"/>
                  <a:pt x="8855" y="6176"/>
                </a:cubicBezTo>
                <a:cubicBezTo>
                  <a:pt x="9094" y="6176"/>
                  <a:pt x="9177" y="6148"/>
                  <a:pt x="9327" y="5953"/>
                </a:cubicBezTo>
                <a:cubicBezTo>
                  <a:pt x="9317" y="6171"/>
                  <a:pt x="9290" y="6383"/>
                  <a:pt x="9252" y="6598"/>
                </a:cubicBezTo>
              </a:path>
              <a:path w="4069" h="745">
                <a:moveTo>
                  <a:pt x="9847" y="5978"/>
                </a:moveTo>
                <a:cubicBezTo>
                  <a:pt x="9838" y="6163"/>
                  <a:pt x="9811" y="6342"/>
                  <a:pt x="9773" y="6524"/>
                </a:cubicBezTo>
              </a:path>
              <a:path w="4069" h="745">
                <a:moveTo>
                  <a:pt x="9723" y="6300"/>
                </a:moveTo>
                <a:cubicBezTo>
                  <a:pt x="9865" y="6278"/>
                  <a:pt x="10002" y="6259"/>
                  <a:pt x="10145" y="6251"/>
                </a:cubicBezTo>
              </a:path>
              <a:path w="4069" h="745">
                <a:moveTo>
                  <a:pt x="10542" y="5978"/>
                </a:moveTo>
                <a:cubicBezTo>
                  <a:pt x="10493" y="6075"/>
                  <a:pt x="10418" y="6259"/>
                  <a:pt x="10418" y="6375"/>
                </a:cubicBezTo>
                <a:cubicBezTo>
                  <a:pt x="10418" y="6553"/>
                  <a:pt x="10594" y="6505"/>
                  <a:pt x="10691" y="6449"/>
                </a:cubicBezTo>
              </a:path>
              <a:path w="4069" h="745">
                <a:moveTo>
                  <a:pt x="11038" y="6077"/>
                </a:moveTo>
                <a:cubicBezTo>
                  <a:pt x="11122" y="6065"/>
                  <a:pt x="11202" y="6037"/>
                  <a:pt x="11286" y="6028"/>
                </a:cubicBezTo>
              </a:path>
              <a:path w="4069" h="745">
                <a:moveTo>
                  <a:pt x="11038" y="6226"/>
                </a:moveTo>
                <a:cubicBezTo>
                  <a:pt x="11153" y="6226"/>
                  <a:pt x="11247" y="6219"/>
                  <a:pt x="11361" y="6201"/>
                </a:cubicBezTo>
              </a:path>
              <a:path w="4069" h="745">
                <a:moveTo>
                  <a:pt x="11708" y="6003"/>
                </a:moveTo>
                <a:cubicBezTo>
                  <a:pt x="11696" y="6042"/>
                  <a:pt x="11603" y="6248"/>
                  <a:pt x="11683" y="6276"/>
                </a:cubicBezTo>
                <a:cubicBezTo>
                  <a:pt x="11799" y="6317"/>
                  <a:pt x="11949" y="6254"/>
                  <a:pt x="12055" y="6226"/>
                </a:cubicBezTo>
              </a:path>
              <a:path w="4069" h="745">
                <a:moveTo>
                  <a:pt x="12129" y="5953"/>
                </a:moveTo>
                <a:cubicBezTo>
                  <a:pt x="12026" y="6111"/>
                  <a:pt x="11994" y="6239"/>
                  <a:pt x="11981" y="6424"/>
                </a:cubicBezTo>
                <a:cubicBezTo>
                  <a:pt x="11981" y="6432"/>
                  <a:pt x="11981" y="6441"/>
                  <a:pt x="11981" y="6449"/>
                </a:cubicBezTo>
              </a:path>
              <a:path w="4069" h="745">
                <a:moveTo>
                  <a:pt x="12502" y="6052"/>
                </a:moveTo>
                <a:cubicBezTo>
                  <a:pt x="12602" y="5975"/>
                  <a:pt x="12623" y="5963"/>
                  <a:pt x="12750" y="5953"/>
                </a:cubicBezTo>
                <a:cubicBezTo>
                  <a:pt x="12715" y="6103"/>
                  <a:pt x="12620" y="6242"/>
                  <a:pt x="12526" y="6375"/>
                </a:cubicBezTo>
                <a:cubicBezTo>
                  <a:pt x="12463" y="6460"/>
                  <a:pt x="12450" y="6480"/>
                  <a:pt x="12402" y="6524"/>
                </a:cubicBezTo>
                <a:cubicBezTo>
                  <a:pt x="12565" y="6499"/>
                  <a:pt x="12611" y="6467"/>
                  <a:pt x="12774" y="6524"/>
                </a:cubicBezTo>
                <a:cubicBezTo>
                  <a:pt x="12847" y="6548"/>
                  <a:pt x="12871" y="6556"/>
                  <a:pt x="12923" y="6548"/>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5099040" y="1446120"/>
            <a:ext cx="98280" cy="73080"/>
          </a:xfrm>
          <a:custGeom>
            <a:avLst/>
            <a:gdLst/>
            <a:ahLst/>
            <a:rect l="l" t="t" r="r" b="b"/>
            <a:pathLst>
              <a:path w="274" h="200">
                <a:moveTo>
                  <a:pt x="14163" y="4018"/>
                </a:moveTo>
                <a:cubicBezTo>
                  <a:pt x="14254" y="4018"/>
                  <a:pt x="14345" y="4018"/>
                  <a:pt x="14436" y="4018"/>
                </a:cubicBezTo>
              </a:path>
              <a:path w="274" h="200">
                <a:moveTo>
                  <a:pt x="14163" y="4192"/>
                </a:moveTo>
                <a:cubicBezTo>
                  <a:pt x="14251" y="4202"/>
                  <a:pt x="14300" y="4207"/>
                  <a:pt x="14387" y="4192"/>
                </a:cubicBezTo>
              </a:path>
            </a:pathLst>
          </a:custGeom>
          <a:noFill/>
          <a:ln cap="rnd" w="34920">
            <a:solidFill>
              <a:srgbClr val="ff0000"/>
            </a:solidFill>
            <a:roun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56" name=""/>
          <p:cNvSpPr/>
          <p:nvPr/>
        </p:nvSpPr>
        <p:spPr>
          <a:xfrm>
            <a:off x="1776240" y="2820960"/>
            <a:ext cx="2081520" cy="341280"/>
          </a:xfrm>
          <a:custGeom>
            <a:avLst/>
            <a:gdLst/>
            <a:ahLst/>
            <a:rect l="l" t="t" r="r" b="b"/>
            <a:pathLst>
              <a:path w="5781" h="944">
                <a:moveTo>
                  <a:pt x="6400" y="8458"/>
                </a:moveTo>
                <a:cubicBezTo>
                  <a:pt x="6544" y="8448"/>
                  <a:pt x="6679" y="8405"/>
                  <a:pt x="6821" y="8384"/>
                </a:cubicBezTo>
                <a:cubicBezTo>
                  <a:pt x="6838" y="8384"/>
                  <a:pt x="6854" y="8384"/>
                  <a:pt x="6871" y="8384"/>
                </a:cubicBezTo>
              </a:path>
              <a:path w="5781" h="944">
                <a:moveTo>
                  <a:pt x="10344" y="8310"/>
                </a:moveTo>
                <a:cubicBezTo>
                  <a:pt x="10339" y="8461"/>
                  <a:pt x="10319" y="8606"/>
                  <a:pt x="10319" y="8756"/>
                </a:cubicBezTo>
                <a:cubicBezTo>
                  <a:pt x="10319" y="8764"/>
                  <a:pt x="10319" y="8773"/>
                  <a:pt x="10319" y="8781"/>
                </a:cubicBezTo>
              </a:path>
              <a:path w="5781" h="944">
                <a:moveTo>
                  <a:pt x="10319" y="8260"/>
                </a:moveTo>
                <a:cubicBezTo>
                  <a:pt x="10371" y="8174"/>
                  <a:pt x="10444" y="8113"/>
                  <a:pt x="10567" y="8136"/>
                </a:cubicBezTo>
                <a:cubicBezTo>
                  <a:pt x="10643" y="8150"/>
                  <a:pt x="10775" y="8217"/>
                  <a:pt x="10691" y="8310"/>
                </a:cubicBezTo>
                <a:cubicBezTo>
                  <a:pt x="10646" y="8360"/>
                  <a:pt x="10558" y="8406"/>
                  <a:pt x="10492" y="8409"/>
                </a:cubicBezTo>
                <a:cubicBezTo>
                  <a:pt x="10467" y="8409"/>
                  <a:pt x="10443" y="8409"/>
                  <a:pt x="10418" y="8409"/>
                </a:cubicBezTo>
              </a:path>
              <a:path w="5781" h="944">
                <a:moveTo>
                  <a:pt x="5085" y="8334"/>
                </a:moveTo>
                <a:cubicBezTo>
                  <a:pt x="5108" y="8298"/>
                  <a:pt x="5130" y="8239"/>
                  <a:pt x="5209" y="8186"/>
                </a:cubicBezTo>
                <a:cubicBezTo>
                  <a:pt x="5280" y="8139"/>
                  <a:pt x="5350" y="8113"/>
                  <a:pt x="5432" y="8086"/>
                </a:cubicBezTo>
                <a:cubicBezTo>
                  <a:pt x="5552" y="8047"/>
                  <a:pt x="5683" y="8056"/>
                  <a:pt x="5804" y="8012"/>
                </a:cubicBezTo>
                <a:cubicBezTo>
                  <a:pt x="5936" y="7965"/>
                  <a:pt x="6063" y="7953"/>
                  <a:pt x="6201" y="7913"/>
                </a:cubicBezTo>
                <a:cubicBezTo>
                  <a:pt x="6314" y="7880"/>
                  <a:pt x="6430" y="7867"/>
                  <a:pt x="6548" y="7863"/>
                </a:cubicBezTo>
                <a:cubicBezTo>
                  <a:pt x="6674" y="7859"/>
                  <a:pt x="6769" y="7852"/>
                  <a:pt x="6896" y="7863"/>
                </a:cubicBezTo>
                <a:cubicBezTo>
                  <a:pt x="7010" y="7873"/>
                  <a:pt x="7109" y="7850"/>
                  <a:pt x="7218" y="7838"/>
                </a:cubicBezTo>
                <a:cubicBezTo>
                  <a:pt x="7331" y="7825"/>
                  <a:pt x="7432" y="7852"/>
                  <a:pt x="7541" y="7863"/>
                </a:cubicBezTo>
                <a:cubicBezTo>
                  <a:pt x="7656" y="7875"/>
                  <a:pt x="7773" y="7885"/>
                  <a:pt x="7888" y="7888"/>
                </a:cubicBezTo>
                <a:cubicBezTo>
                  <a:pt x="8026" y="7892"/>
                  <a:pt x="8151" y="7929"/>
                  <a:pt x="8285" y="7962"/>
                </a:cubicBezTo>
                <a:cubicBezTo>
                  <a:pt x="8474" y="8009"/>
                  <a:pt x="8667" y="8037"/>
                  <a:pt x="8855" y="8086"/>
                </a:cubicBezTo>
                <a:cubicBezTo>
                  <a:pt x="8975" y="8117"/>
                  <a:pt x="9087" y="8190"/>
                  <a:pt x="9203" y="8235"/>
                </a:cubicBezTo>
                <a:cubicBezTo>
                  <a:pt x="9271" y="8261"/>
                  <a:pt x="9335" y="8286"/>
                  <a:pt x="9401" y="8310"/>
                </a:cubicBezTo>
              </a:path>
              <a:path w="5781" h="944">
                <a:moveTo>
                  <a:pt x="9302" y="8111"/>
                </a:moveTo>
                <a:cubicBezTo>
                  <a:pt x="9375" y="8218"/>
                  <a:pt x="9424" y="8316"/>
                  <a:pt x="9475" y="8434"/>
                </a:cubicBezTo>
                <a:cubicBezTo>
                  <a:pt x="9340" y="8434"/>
                  <a:pt x="9212" y="8438"/>
                  <a:pt x="9079" y="8458"/>
                </a:cubicBezTo>
              </a:path>
              <a:path w="5781" h="944">
                <a:moveTo>
                  <a:pt x="5110" y="8012"/>
                </a:moveTo>
                <a:cubicBezTo>
                  <a:pt x="5063" y="8123"/>
                  <a:pt x="5017" y="8228"/>
                  <a:pt x="4961" y="8334"/>
                </a:cubicBezTo>
                <a:cubicBezTo>
                  <a:pt x="4953" y="8351"/>
                  <a:pt x="4944" y="8367"/>
                  <a:pt x="4936" y="8384"/>
                </a:cubicBezTo>
                <a:cubicBezTo>
                  <a:pt x="5049" y="8384"/>
                  <a:pt x="5149" y="8372"/>
                  <a:pt x="5259" y="8359"/>
                </a:cubicBezTo>
                <a:cubicBezTo>
                  <a:pt x="5275" y="8359"/>
                  <a:pt x="5292" y="8359"/>
                  <a:pt x="5308" y="8359"/>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2911320" y="3581280"/>
            <a:ext cx="268560" cy="384120"/>
          </a:xfrm>
          <a:custGeom>
            <a:avLst/>
            <a:gdLst/>
            <a:ahLst/>
            <a:rect l="l" t="t" r="r" b="b"/>
            <a:pathLst>
              <a:path w="745" h="1067">
                <a:moveTo>
                  <a:pt x="8161" y="10170"/>
                </a:moveTo>
                <a:cubicBezTo>
                  <a:pt x="8193" y="10378"/>
                  <a:pt x="8266" y="10577"/>
                  <a:pt x="8285" y="10790"/>
                </a:cubicBezTo>
                <a:cubicBezTo>
                  <a:pt x="8285" y="10907"/>
                  <a:pt x="8283" y="10941"/>
                  <a:pt x="8310" y="11013"/>
                </a:cubicBezTo>
              </a:path>
              <a:path w="745" h="1067">
                <a:moveTo>
                  <a:pt x="8086" y="10244"/>
                </a:moveTo>
                <a:cubicBezTo>
                  <a:pt x="8145" y="10138"/>
                  <a:pt x="8203" y="10082"/>
                  <a:pt x="8310" y="10021"/>
                </a:cubicBezTo>
                <a:cubicBezTo>
                  <a:pt x="8430" y="9953"/>
                  <a:pt x="8572" y="9911"/>
                  <a:pt x="8706" y="9971"/>
                </a:cubicBezTo>
                <a:cubicBezTo>
                  <a:pt x="8836" y="10029"/>
                  <a:pt x="8873" y="10184"/>
                  <a:pt x="8781" y="10294"/>
                </a:cubicBezTo>
                <a:cubicBezTo>
                  <a:pt x="8701" y="10389"/>
                  <a:pt x="8447" y="10408"/>
                  <a:pt x="8334" y="10393"/>
                </a:cubicBezTo>
                <a:cubicBezTo>
                  <a:pt x="8294" y="10373"/>
                  <a:pt x="8288" y="10364"/>
                  <a:pt x="8260" y="10368"/>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3367080" y="3544920"/>
            <a:ext cx="1000080" cy="196920"/>
          </a:xfrm>
          <a:custGeom>
            <a:avLst/>
            <a:gdLst/>
            <a:ahLst/>
            <a:rect l="l" t="t" r="r" b="b"/>
            <a:pathLst>
              <a:path w="2779" h="547">
                <a:moveTo>
                  <a:pt x="9351" y="10120"/>
                </a:moveTo>
                <a:cubicBezTo>
                  <a:pt x="9477" y="10120"/>
                  <a:pt x="9597" y="10099"/>
                  <a:pt x="9723" y="10096"/>
                </a:cubicBezTo>
                <a:cubicBezTo>
                  <a:pt x="9756" y="10096"/>
                  <a:pt x="9790" y="10096"/>
                  <a:pt x="9823" y="10096"/>
                </a:cubicBezTo>
              </a:path>
              <a:path w="2779" h="547">
                <a:moveTo>
                  <a:pt x="10319" y="9847"/>
                </a:moveTo>
                <a:cubicBezTo>
                  <a:pt x="10319" y="9999"/>
                  <a:pt x="10332" y="10144"/>
                  <a:pt x="10344" y="10294"/>
                </a:cubicBezTo>
                <a:cubicBezTo>
                  <a:pt x="10344" y="10319"/>
                  <a:pt x="10344" y="10343"/>
                  <a:pt x="10344" y="10368"/>
                </a:cubicBezTo>
              </a:path>
              <a:path w="2779" h="547">
                <a:moveTo>
                  <a:pt x="10889" y="9971"/>
                </a:moveTo>
                <a:cubicBezTo>
                  <a:pt x="10772" y="9986"/>
                  <a:pt x="10756" y="10050"/>
                  <a:pt x="10740" y="10170"/>
                </a:cubicBezTo>
                <a:cubicBezTo>
                  <a:pt x="10722" y="10307"/>
                  <a:pt x="10806" y="10407"/>
                  <a:pt x="10939" y="10393"/>
                </a:cubicBezTo>
                <a:cubicBezTo>
                  <a:pt x="11045" y="10382"/>
                  <a:pt x="11208" y="10320"/>
                  <a:pt x="11261" y="10220"/>
                </a:cubicBezTo>
                <a:cubicBezTo>
                  <a:pt x="11310" y="10126"/>
                  <a:pt x="11171" y="10010"/>
                  <a:pt x="11112" y="9971"/>
                </a:cubicBezTo>
                <a:cubicBezTo>
                  <a:pt x="11031" y="9917"/>
                  <a:pt x="10926" y="9952"/>
                  <a:pt x="10840" y="9971"/>
                </a:cubicBezTo>
              </a:path>
              <a:path w="2779" h="547">
                <a:moveTo>
                  <a:pt x="11757" y="9996"/>
                </a:moveTo>
                <a:cubicBezTo>
                  <a:pt x="11865" y="9996"/>
                  <a:pt x="11972" y="9996"/>
                  <a:pt x="12080" y="9996"/>
                </a:cubicBezTo>
              </a:path>
              <a:path w="2779" h="547">
                <a:moveTo>
                  <a:pt x="11708" y="10220"/>
                </a:moveTo>
                <a:cubicBezTo>
                  <a:pt x="11833" y="10209"/>
                  <a:pt x="11953" y="10195"/>
                  <a:pt x="12080" y="10195"/>
                </a:cubicBezTo>
                <a:cubicBezTo>
                  <a:pt x="12096" y="10195"/>
                  <a:pt x="12113" y="10195"/>
                  <a:pt x="12129" y="10195"/>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4554360" y="3537000"/>
            <a:ext cx="285840" cy="204840"/>
          </a:xfrm>
          <a:custGeom>
            <a:avLst/>
            <a:gdLst/>
            <a:ahLst/>
            <a:rect l="l" t="t" r="r" b="b"/>
            <a:pathLst>
              <a:path w="795" h="571">
                <a:moveTo>
                  <a:pt x="12650" y="9897"/>
                </a:moveTo>
                <a:cubicBezTo>
                  <a:pt x="12650" y="10038"/>
                  <a:pt x="12650" y="10178"/>
                  <a:pt x="12650" y="10319"/>
                </a:cubicBezTo>
              </a:path>
              <a:path w="795" h="571">
                <a:moveTo>
                  <a:pt x="12874" y="9971"/>
                </a:moveTo>
                <a:cubicBezTo>
                  <a:pt x="12921" y="9894"/>
                  <a:pt x="13007" y="9877"/>
                  <a:pt x="13097" y="9847"/>
                </a:cubicBezTo>
                <a:cubicBezTo>
                  <a:pt x="13145" y="9831"/>
                  <a:pt x="13271" y="9791"/>
                  <a:pt x="13271" y="9897"/>
                </a:cubicBezTo>
                <a:cubicBezTo>
                  <a:pt x="13271" y="9954"/>
                  <a:pt x="13206" y="10024"/>
                  <a:pt x="13171" y="10071"/>
                </a:cubicBezTo>
                <a:cubicBezTo>
                  <a:pt x="13104" y="10162"/>
                  <a:pt x="12994" y="10206"/>
                  <a:pt x="12948" y="10319"/>
                </a:cubicBezTo>
                <a:cubicBezTo>
                  <a:pt x="12948" y="10335"/>
                  <a:pt x="12948" y="10352"/>
                  <a:pt x="12948" y="10368"/>
                </a:cubicBezTo>
                <a:cubicBezTo>
                  <a:pt x="13003" y="10314"/>
                  <a:pt x="13046" y="10194"/>
                  <a:pt x="13122" y="10244"/>
                </a:cubicBezTo>
                <a:cubicBezTo>
                  <a:pt x="13193" y="10291"/>
                  <a:pt x="13239" y="10417"/>
                  <a:pt x="13345" y="10393"/>
                </a:cubicBezTo>
                <a:cubicBezTo>
                  <a:pt x="13399" y="10366"/>
                  <a:pt x="13419" y="10355"/>
                  <a:pt x="13444" y="10319"/>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2081160" y="4133880"/>
            <a:ext cx="2224080" cy="598320"/>
          </a:xfrm>
          <a:custGeom>
            <a:avLst/>
            <a:gdLst/>
            <a:ahLst/>
            <a:rect l="l" t="t" r="r" b="b"/>
            <a:pathLst>
              <a:path w="6178" h="1662">
                <a:moveTo>
                  <a:pt x="6499" y="12328"/>
                </a:moveTo>
                <a:cubicBezTo>
                  <a:pt x="6438" y="12521"/>
                  <a:pt x="6419" y="12698"/>
                  <a:pt x="6400" y="12898"/>
                </a:cubicBezTo>
                <a:cubicBezTo>
                  <a:pt x="6400" y="12906"/>
                  <a:pt x="6400" y="12915"/>
                  <a:pt x="6400" y="12923"/>
                </a:cubicBezTo>
              </a:path>
              <a:path w="6178" h="1662">
                <a:moveTo>
                  <a:pt x="6052" y="12675"/>
                </a:moveTo>
                <a:cubicBezTo>
                  <a:pt x="6202" y="12640"/>
                  <a:pt x="6394" y="12597"/>
                  <a:pt x="6548" y="12601"/>
                </a:cubicBezTo>
                <a:cubicBezTo>
                  <a:pt x="6622" y="12603"/>
                  <a:pt x="6695" y="12626"/>
                  <a:pt x="6772" y="12626"/>
                </a:cubicBezTo>
              </a:path>
              <a:path w="6178" h="1662">
                <a:moveTo>
                  <a:pt x="9451" y="12303"/>
                </a:moveTo>
                <a:cubicBezTo>
                  <a:pt x="9395" y="12469"/>
                  <a:pt x="9363" y="12623"/>
                  <a:pt x="9351" y="12799"/>
                </a:cubicBezTo>
              </a:path>
              <a:path w="6178" h="1662">
                <a:moveTo>
                  <a:pt x="10096" y="12129"/>
                </a:moveTo>
                <a:cubicBezTo>
                  <a:pt x="9992" y="12201"/>
                  <a:pt x="9831" y="12167"/>
                  <a:pt x="9773" y="12278"/>
                </a:cubicBezTo>
                <a:cubicBezTo>
                  <a:pt x="9765" y="12311"/>
                  <a:pt x="9756" y="12345"/>
                  <a:pt x="9748" y="12378"/>
                </a:cubicBezTo>
                <a:cubicBezTo>
                  <a:pt x="9812" y="12409"/>
                  <a:pt x="9923" y="12287"/>
                  <a:pt x="10046" y="12378"/>
                </a:cubicBezTo>
                <a:cubicBezTo>
                  <a:pt x="10203" y="12495"/>
                  <a:pt x="10148" y="12674"/>
                  <a:pt x="9971" y="12725"/>
                </a:cubicBezTo>
                <a:cubicBezTo>
                  <a:pt x="9862" y="12725"/>
                  <a:pt x="9835" y="12730"/>
                  <a:pt x="9773" y="12700"/>
                </a:cubicBezTo>
              </a:path>
              <a:path w="6178" h="1662">
                <a:moveTo>
                  <a:pt x="5854" y="12849"/>
                </a:moveTo>
                <a:cubicBezTo>
                  <a:pt x="5953" y="13061"/>
                  <a:pt x="6111" y="13121"/>
                  <a:pt x="6350" y="13146"/>
                </a:cubicBezTo>
                <a:cubicBezTo>
                  <a:pt x="6652" y="13178"/>
                  <a:pt x="6968" y="13143"/>
                  <a:pt x="7169" y="12898"/>
                </a:cubicBezTo>
                <a:cubicBezTo>
                  <a:pt x="7310" y="12726"/>
                  <a:pt x="7386" y="12439"/>
                  <a:pt x="7218" y="12254"/>
                </a:cubicBezTo>
                <a:cubicBezTo>
                  <a:pt x="7100" y="12124"/>
                  <a:pt x="6775" y="11989"/>
                  <a:pt x="6598" y="12030"/>
                </a:cubicBezTo>
                <a:cubicBezTo>
                  <a:pt x="6377" y="12081"/>
                  <a:pt x="6131" y="12242"/>
                  <a:pt x="5978" y="12402"/>
                </a:cubicBezTo>
                <a:cubicBezTo>
                  <a:pt x="5802" y="12586"/>
                  <a:pt x="5734" y="12708"/>
                  <a:pt x="5829" y="12948"/>
                </a:cubicBezTo>
                <a:cubicBezTo>
                  <a:pt x="5879" y="13047"/>
                  <a:pt x="5896" y="13080"/>
                  <a:pt x="5928" y="13146"/>
                </a:cubicBezTo>
              </a:path>
              <a:path w="6178" h="1662">
                <a:moveTo>
                  <a:pt x="7367" y="12328"/>
                </a:moveTo>
                <a:cubicBezTo>
                  <a:pt x="7517" y="12169"/>
                  <a:pt x="7677" y="12060"/>
                  <a:pt x="7888" y="11981"/>
                </a:cubicBezTo>
                <a:cubicBezTo>
                  <a:pt x="8085" y="11907"/>
                  <a:pt x="8283" y="11847"/>
                  <a:pt x="8483" y="11782"/>
                </a:cubicBezTo>
                <a:cubicBezTo>
                  <a:pt x="8702" y="11711"/>
                  <a:pt x="8949" y="11649"/>
                  <a:pt x="9178" y="11609"/>
                </a:cubicBezTo>
                <a:cubicBezTo>
                  <a:pt x="9566" y="11541"/>
                  <a:pt x="9975" y="11500"/>
                  <a:pt x="10368" y="11485"/>
                </a:cubicBezTo>
                <a:cubicBezTo>
                  <a:pt x="10620" y="11476"/>
                  <a:pt x="10889" y="11491"/>
                  <a:pt x="11137" y="11534"/>
                </a:cubicBezTo>
                <a:cubicBezTo>
                  <a:pt x="11277" y="11558"/>
                  <a:pt x="11392" y="11623"/>
                  <a:pt x="11485" y="11733"/>
                </a:cubicBezTo>
                <a:cubicBezTo>
                  <a:pt x="11568" y="11832"/>
                  <a:pt x="11601" y="11958"/>
                  <a:pt x="11633" y="12080"/>
                </a:cubicBezTo>
                <a:cubicBezTo>
                  <a:pt x="11656" y="12168"/>
                  <a:pt x="11678" y="12242"/>
                  <a:pt x="11708" y="12328"/>
                </a:cubicBezTo>
                <a:cubicBezTo>
                  <a:pt x="11719" y="12361"/>
                  <a:pt x="11745" y="12394"/>
                  <a:pt x="11757" y="12427"/>
                </a:cubicBezTo>
              </a:path>
              <a:path w="6178" h="1662">
                <a:moveTo>
                  <a:pt x="11559" y="12204"/>
                </a:moveTo>
                <a:cubicBezTo>
                  <a:pt x="11602" y="12311"/>
                  <a:pt x="11638" y="12407"/>
                  <a:pt x="11708" y="12502"/>
                </a:cubicBezTo>
                <a:cubicBezTo>
                  <a:pt x="11716" y="12510"/>
                  <a:pt x="11725" y="12518"/>
                  <a:pt x="11733" y="12526"/>
                </a:cubicBezTo>
                <a:cubicBezTo>
                  <a:pt x="11815" y="12417"/>
                  <a:pt x="11882" y="12295"/>
                  <a:pt x="11956" y="12179"/>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5054760" y="4394160"/>
            <a:ext cx="142560" cy="214200"/>
          </a:xfrm>
          <a:custGeom>
            <a:avLst/>
            <a:gdLst/>
            <a:ahLst/>
            <a:rect l="l" t="t" r="r" b="b"/>
            <a:pathLst>
              <a:path w="398" h="596">
                <a:moveTo>
                  <a:pt x="14089" y="12229"/>
                </a:moveTo>
                <a:cubicBezTo>
                  <a:pt x="14063" y="12418"/>
                  <a:pt x="14049" y="12608"/>
                  <a:pt x="14039" y="12799"/>
                </a:cubicBezTo>
              </a:path>
              <a:path w="398" h="596">
                <a:moveTo>
                  <a:pt x="14436" y="12204"/>
                </a:moveTo>
                <a:cubicBezTo>
                  <a:pt x="14358" y="12352"/>
                  <a:pt x="14308" y="12440"/>
                  <a:pt x="14163" y="12526"/>
                </a:cubicBezTo>
                <a:cubicBezTo>
                  <a:pt x="14221" y="12413"/>
                  <a:pt x="14321" y="12556"/>
                  <a:pt x="14362" y="12626"/>
                </a:cubicBezTo>
                <a:cubicBezTo>
                  <a:pt x="14392" y="12677"/>
                  <a:pt x="14391" y="12744"/>
                  <a:pt x="14412" y="12799"/>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6107040" y="4384800"/>
            <a:ext cx="652680" cy="214200"/>
          </a:xfrm>
          <a:custGeom>
            <a:avLst/>
            <a:gdLst/>
            <a:ahLst/>
            <a:rect l="l" t="t" r="r" b="b"/>
            <a:pathLst>
              <a:path w="1812" h="596">
                <a:moveTo>
                  <a:pt x="16966" y="12526"/>
                </a:moveTo>
                <a:cubicBezTo>
                  <a:pt x="17065" y="12526"/>
                  <a:pt x="17165" y="12526"/>
                  <a:pt x="17264" y="12526"/>
                </a:cubicBezTo>
              </a:path>
              <a:path w="1812" h="596">
                <a:moveTo>
                  <a:pt x="16966" y="12725"/>
                </a:moveTo>
                <a:cubicBezTo>
                  <a:pt x="17059" y="12716"/>
                  <a:pt x="17145" y="12700"/>
                  <a:pt x="17239" y="12700"/>
                </a:cubicBezTo>
              </a:path>
              <a:path w="1812" h="596">
                <a:moveTo>
                  <a:pt x="17835" y="12328"/>
                </a:moveTo>
                <a:cubicBezTo>
                  <a:pt x="17967" y="12265"/>
                  <a:pt x="18017" y="12245"/>
                  <a:pt x="18157" y="12254"/>
                </a:cubicBezTo>
                <a:cubicBezTo>
                  <a:pt x="18094" y="12443"/>
                  <a:pt x="17951" y="12580"/>
                  <a:pt x="17810" y="12725"/>
                </a:cubicBezTo>
                <a:cubicBezTo>
                  <a:pt x="17793" y="12741"/>
                  <a:pt x="17777" y="12758"/>
                  <a:pt x="17760" y="12774"/>
                </a:cubicBezTo>
                <a:cubicBezTo>
                  <a:pt x="17916" y="12720"/>
                  <a:pt x="18002" y="12702"/>
                  <a:pt x="18157" y="12725"/>
                </a:cubicBezTo>
                <a:cubicBezTo>
                  <a:pt x="18174" y="12725"/>
                  <a:pt x="18190" y="12725"/>
                  <a:pt x="18207" y="12725"/>
                </a:cubicBezTo>
              </a:path>
              <a:path w="1812" h="596">
                <a:moveTo>
                  <a:pt x="18430" y="12204"/>
                </a:moveTo>
                <a:cubicBezTo>
                  <a:pt x="18469" y="12201"/>
                  <a:pt x="18697" y="12133"/>
                  <a:pt x="18678" y="12229"/>
                </a:cubicBezTo>
                <a:cubicBezTo>
                  <a:pt x="18626" y="12332"/>
                  <a:pt x="18606" y="12367"/>
                  <a:pt x="18529" y="12402"/>
                </a:cubicBezTo>
                <a:cubicBezTo>
                  <a:pt x="18512" y="12410"/>
                  <a:pt x="18496" y="12419"/>
                  <a:pt x="18479" y="12427"/>
                </a:cubicBezTo>
                <a:cubicBezTo>
                  <a:pt x="18641" y="12408"/>
                  <a:pt x="18842" y="12415"/>
                  <a:pt x="18752" y="12650"/>
                </a:cubicBezTo>
                <a:cubicBezTo>
                  <a:pt x="18697" y="12795"/>
                  <a:pt x="18595" y="12769"/>
                  <a:pt x="18479" y="12750"/>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3687840" y="5143680"/>
            <a:ext cx="9360" cy="214200"/>
          </a:xfrm>
          <a:custGeom>
            <a:avLst/>
            <a:gdLst/>
            <a:ahLst/>
            <a:rect l="l" t="t" r="r" b="b"/>
            <a:pathLst>
              <a:path w="26" h="596">
                <a:moveTo>
                  <a:pt x="10269" y="14288"/>
                </a:moveTo>
                <a:cubicBezTo>
                  <a:pt x="10269" y="14472"/>
                  <a:pt x="10258" y="14650"/>
                  <a:pt x="10244" y="14833"/>
                </a:cubicBezTo>
                <a:cubicBezTo>
                  <a:pt x="10244" y="14850"/>
                  <a:pt x="10244" y="14866"/>
                  <a:pt x="10244" y="14883"/>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3830760" y="5072040"/>
            <a:ext cx="1349280" cy="277920"/>
          </a:xfrm>
          <a:custGeom>
            <a:avLst/>
            <a:gdLst/>
            <a:ahLst/>
            <a:rect l="l" t="t" r="r" b="b"/>
            <a:pathLst>
              <a:path w="3747" h="770">
                <a:moveTo>
                  <a:pt x="10914" y="14213"/>
                </a:moveTo>
                <a:cubicBezTo>
                  <a:pt x="10817" y="14250"/>
                  <a:pt x="10777" y="14213"/>
                  <a:pt x="10716" y="14312"/>
                </a:cubicBezTo>
                <a:cubicBezTo>
                  <a:pt x="10664" y="14395"/>
                  <a:pt x="10643" y="14457"/>
                  <a:pt x="10666" y="14536"/>
                </a:cubicBezTo>
                <a:cubicBezTo>
                  <a:pt x="10821" y="14458"/>
                  <a:pt x="10960" y="14374"/>
                  <a:pt x="11063" y="14585"/>
                </a:cubicBezTo>
                <a:cubicBezTo>
                  <a:pt x="11180" y="14823"/>
                  <a:pt x="10929" y="14863"/>
                  <a:pt x="10765" y="14833"/>
                </a:cubicBezTo>
                <a:cubicBezTo>
                  <a:pt x="10749" y="14825"/>
                  <a:pt x="10732" y="14816"/>
                  <a:pt x="10716" y="14808"/>
                </a:cubicBezTo>
              </a:path>
              <a:path w="3747" h="770">
                <a:moveTo>
                  <a:pt x="11559" y="14288"/>
                </a:moveTo>
                <a:cubicBezTo>
                  <a:pt x="11567" y="14405"/>
                  <a:pt x="11584" y="14516"/>
                  <a:pt x="11584" y="14635"/>
                </a:cubicBezTo>
              </a:path>
              <a:path w="3747" h="770">
                <a:moveTo>
                  <a:pt x="11435" y="14511"/>
                </a:moveTo>
                <a:cubicBezTo>
                  <a:pt x="11560" y="14487"/>
                  <a:pt x="11683" y="14464"/>
                  <a:pt x="11807" y="14436"/>
                </a:cubicBezTo>
              </a:path>
              <a:path w="3747" h="770">
                <a:moveTo>
                  <a:pt x="12030" y="14188"/>
                </a:moveTo>
                <a:cubicBezTo>
                  <a:pt x="12030" y="14350"/>
                  <a:pt x="12031" y="14501"/>
                  <a:pt x="12055" y="14660"/>
                </a:cubicBezTo>
              </a:path>
              <a:path w="3747" h="770">
                <a:moveTo>
                  <a:pt x="12303" y="14337"/>
                </a:moveTo>
                <a:cubicBezTo>
                  <a:pt x="12233" y="14464"/>
                  <a:pt x="12244" y="14494"/>
                  <a:pt x="12105" y="14536"/>
                </a:cubicBezTo>
                <a:cubicBezTo>
                  <a:pt x="12205" y="14454"/>
                  <a:pt x="12306" y="14496"/>
                  <a:pt x="12378" y="14610"/>
                </a:cubicBezTo>
                <a:cubicBezTo>
                  <a:pt x="12400" y="14702"/>
                  <a:pt x="12411" y="14727"/>
                  <a:pt x="12378" y="14784"/>
                </a:cubicBezTo>
              </a:path>
              <a:path w="3747" h="770">
                <a:moveTo>
                  <a:pt x="12725" y="14436"/>
                </a:moveTo>
                <a:cubicBezTo>
                  <a:pt x="12810" y="14406"/>
                  <a:pt x="12884" y="14393"/>
                  <a:pt x="12973" y="14387"/>
                </a:cubicBezTo>
              </a:path>
              <a:path w="3747" h="770">
                <a:moveTo>
                  <a:pt x="12725" y="14635"/>
                </a:moveTo>
                <a:cubicBezTo>
                  <a:pt x="12860" y="14635"/>
                  <a:pt x="12912" y="14631"/>
                  <a:pt x="12998" y="14585"/>
                </a:cubicBezTo>
              </a:path>
              <a:path w="3747" h="770">
                <a:moveTo>
                  <a:pt x="13395" y="14238"/>
                </a:moveTo>
                <a:cubicBezTo>
                  <a:pt x="13591" y="14202"/>
                  <a:pt x="13710" y="14316"/>
                  <a:pt x="13667" y="14536"/>
                </a:cubicBezTo>
                <a:cubicBezTo>
                  <a:pt x="13630" y="14727"/>
                  <a:pt x="13496" y="14738"/>
                  <a:pt x="13345" y="14784"/>
                </a:cubicBezTo>
                <a:cubicBezTo>
                  <a:pt x="13389" y="14684"/>
                  <a:pt x="13535" y="14567"/>
                  <a:pt x="13667" y="14660"/>
                </a:cubicBezTo>
                <a:cubicBezTo>
                  <a:pt x="13667" y="14676"/>
                  <a:pt x="13667" y="14693"/>
                  <a:pt x="13667" y="14709"/>
                </a:cubicBezTo>
              </a:path>
              <a:path w="3747" h="770">
                <a:moveTo>
                  <a:pt x="13915" y="14163"/>
                </a:moveTo>
                <a:cubicBezTo>
                  <a:pt x="14041" y="14105"/>
                  <a:pt x="14100" y="14099"/>
                  <a:pt x="14238" y="14114"/>
                </a:cubicBezTo>
                <a:cubicBezTo>
                  <a:pt x="14263" y="14276"/>
                  <a:pt x="14233" y="14301"/>
                  <a:pt x="14089" y="14387"/>
                </a:cubicBezTo>
                <a:cubicBezTo>
                  <a:pt x="14168" y="14260"/>
                  <a:pt x="14357" y="14253"/>
                  <a:pt x="14387" y="14461"/>
                </a:cubicBezTo>
                <a:cubicBezTo>
                  <a:pt x="14412" y="14637"/>
                  <a:pt x="14272" y="14711"/>
                  <a:pt x="14139" y="14684"/>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371600" y="1980720"/>
            <a:ext cx="6400800" cy="20322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Unit 5</a:t>
            </a:r>
            <a:br>
              <a:rPr sz="4000"/>
            </a:br>
            <a:r>
              <a:rPr b="0" lang="en-US" sz="4000" spc="-1" strike="noStrike">
                <a:solidFill>
                  <a:srgbClr val="ff0000"/>
                </a:solidFill>
                <a:latin typeface="Comic Sans MS"/>
              </a:rPr>
              <a:t>Expressions, Equations and Integers</a:t>
            </a:r>
            <a:endParaRPr b="0" lang="en-US" sz="4000" spc="-1" strike="noStrike">
              <a:solidFill>
                <a:srgbClr val="ff0000"/>
              </a:solidFill>
              <a:latin typeface="Comic Sans MS"/>
            </a:endParaRPr>
          </a:p>
        </p:txBody>
      </p:sp>
      <p:sp>
        <p:nvSpPr>
          <p:cNvPr id="166" name="PlaceHolder 2"/>
          <p:cNvSpPr>
            <a:spLocks noGrp="1"/>
          </p:cNvSpPr>
          <p:nvPr>
            <p:ph type="subTitle"/>
          </p:nvPr>
        </p:nvSpPr>
        <p:spPr>
          <a:xfrm>
            <a:off x="1549080" y="4051080"/>
            <a:ext cx="6032520" cy="12826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tions 12.2: Solving Addition Equations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440" y="304920"/>
            <a:ext cx="6870600" cy="1218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omic Sans MS"/>
              </a:rPr>
              <a:t>Objective: Determine the unknown in a linear equation</a:t>
            </a:r>
            <a:endParaRPr b="0" lang="en-US" sz="3600" spc="-1" strike="noStrike">
              <a:solidFill>
                <a:srgbClr val="000000"/>
              </a:solidFill>
              <a:latin typeface="Comic Sans MS"/>
            </a:endParaRPr>
          </a:p>
        </p:txBody>
      </p:sp>
      <p:sp>
        <p:nvSpPr>
          <p:cNvPr id="168" name="PlaceHolder 2"/>
          <p:cNvSpPr>
            <a:spLocks noGrp="1"/>
          </p:cNvSpPr>
          <p:nvPr>
            <p:ph/>
          </p:nvPr>
        </p:nvSpPr>
        <p:spPr>
          <a:xfrm>
            <a:off x="-360" y="2133720"/>
            <a:ext cx="8534520" cy="4495680"/>
          </a:xfrm>
          <a:prstGeom prst="rect">
            <a:avLst/>
          </a:prstGeom>
          <a:noFill/>
          <a:ln w="0">
            <a:noFill/>
          </a:ln>
        </p:spPr>
        <p:txBody>
          <a:bodyPr lIns="90000" rIns="90000" tIns="46800" bIns="46800" anchor="t">
            <a:normAutofit/>
          </a:bodyPr>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00"/>
                </a:solidFill>
                <a:uFillTx/>
                <a:latin typeface="Comic Sans MS"/>
              </a:rPr>
              <a:t>Solving Addition Equations</a:t>
            </a:r>
            <a:endParaRPr b="0" lang="en-US" sz="3200" spc="-1" strike="noStrike">
              <a:solidFill>
                <a:srgbClr val="000000"/>
              </a:solidFill>
              <a:latin typeface="Comic Sans MS"/>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Comic Sans MS"/>
              </a:rPr>
              <a:t>	</a:t>
            </a:r>
            <a:r>
              <a:rPr b="0" lang="en-US" sz="3200" spc="-1" strike="noStrike">
                <a:solidFill>
                  <a:srgbClr val="006600"/>
                </a:solidFill>
                <a:latin typeface="Comic Sans MS"/>
              </a:rPr>
              <a:t>	</a:t>
            </a:r>
            <a:r>
              <a:rPr b="0" lang="en-US" sz="3200" spc="-1" strike="noStrike">
                <a:solidFill>
                  <a:srgbClr val="006600"/>
                </a:solidFill>
                <a:latin typeface="Comic Sans MS"/>
              </a:rPr>
              <a:t>- To solve an addition equation, </a:t>
            </a:r>
            <a:r>
              <a:rPr b="0" i="1" lang="en-US" sz="3200" spc="-1" strike="noStrike">
                <a:solidFill>
                  <a:srgbClr val="006600"/>
                </a:solidFill>
                <a:latin typeface="Comic Sans MS"/>
              </a:rPr>
              <a:t>subtract</a:t>
            </a:r>
            <a:r>
              <a:rPr b="0" lang="en-US" sz="3200" spc="-1" strike="noStrike">
                <a:solidFill>
                  <a:srgbClr val="006600"/>
                </a:solidFill>
                <a:latin typeface="Comic Sans MS"/>
              </a:rPr>
              <a:t> the same number from each side so that the variable is by itself on one side.</a:t>
            </a:r>
            <a:endParaRPr b="0" lang="en-US" sz="3200" spc="-1" strike="noStrike">
              <a:solidFill>
                <a:srgbClr val="000000"/>
              </a:solidFill>
              <a:latin typeface="Comic Sans MS"/>
            </a:endParaRPr>
          </a:p>
        </p:txBody>
      </p:sp>
      <p:sp>
        <p:nvSpPr>
          <p:cNvPr id="169" name=""/>
          <p:cNvSpPr/>
          <p:nvPr/>
        </p:nvSpPr>
        <p:spPr>
          <a:xfrm>
            <a:off x="3009960" y="4357800"/>
            <a:ext cx="1258920" cy="723960"/>
          </a:xfrm>
          <a:custGeom>
            <a:avLst/>
            <a:gdLst/>
            <a:ahLst/>
            <a:rect l="l" t="t" r="r" b="b"/>
            <a:pathLst>
              <a:path w="3499" h="2010">
                <a:moveTo>
                  <a:pt x="8359" y="12923"/>
                </a:moveTo>
                <a:lnTo>
                  <a:pt x="8359" y="12923"/>
                </a:lnTo>
              </a:path>
              <a:path w="3499" h="2010">
                <a:moveTo>
                  <a:pt x="8806" y="12576"/>
                </a:moveTo>
                <a:cubicBezTo>
                  <a:pt x="8806" y="12635"/>
                  <a:pt x="8825" y="12629"/>
                  <a:pt x="8855" y="12675"/>
                </a:cubicBezTo>
                <a:cubicBezTo>
                  <a:pt x="8885" y="12722"/>
                  <a:pt x="8925" y="12788"/>
                  <a:pt x="8954" y="12824"/>
                </a:cubicBezTo>
                <a:cubicBezTo>
                  <a:pt x="8995" y="12876"/>
                  <a:pt x="9043" y="12897"/>
                  <a:pt x="9079" y="12948"/>
                </a:cubicBezTo>
                <a:cubicBezTo>
                  <a:pt x="9120" y="13006"/>
                  <a:pt x="9153" y="13013"/>
                  <a:pt x="9203" y="13047"/>
                </a:cubicBezTo>
                <a:cubicBezTo>
                  <a:pt x="9237" y="13070"/>
                  <a:pt x="9237" y="13087"/>
                  <a:pt x="9277" y="13097"/>
                </a:cubicBezTo>
              </a:path>
              <a:path w="3499" h="2010">
                <a:moveTo>
                  <a:pt x="9401" y="12551"/>
                </a:moveTo>
                <a:cubicBezTo>
                  <a:pt x="9401" y="12663"/>
                  <a:pt x="9408" y="12766"/>
                  <a:pt x="9376" y="12874"/>
                </a:cubicBezTo>
                <a:cubicBezTo>
                  <a:pt x="9347" y="12972"/>
                  <a:pt x="9348" y="13077"/>
                  <a:pt x="9302" y="13171"/>
                </a:cubicBezTo>
                <a:cubicBezTo>
                  <a:pt x="9258" y="13263"/>
                  <a:pt x="9266" y="13357"/>
                  <a:pt x="9227" y="13444"/>
                </a:cubicBezTo>
                <a:cubicBezTo>
                  <a:pt x="9199" y="13507"/>
                  <a:pt x="9199" y="13549"/>
                  <a:pt x="9178" y="13618"/>
                </a:cubicBezTo>
                <a:cubicBezTo>
                  <a:pt x="9165" y="13661"/>
                  <a:pt x="9157" y="13707"/>
                  <a:pt x="9128" y="13717"/>
                </a:cubicBezTo>
              </a:path>
              <a:path w="3499" h="2010">
                <a:moveTo>
                  <a:pt x="9922" y="12378"/>
                </a:moveTo>
                <a:cubicBezTo>
                  <a:pt x="9922" y="12560"/>
                  <a:pt x="9922" y="12741"/>
                  <a:pt x="9922" y="12923"/>
                </a:cubicBezTo>
              </a:path>
              <a:path w="3499" h="2010">
                <a:moveTo>
                  <a:pt x="9723" y="12626"/>
                </a:moveTo>
                <a:cubicBezTo>
                  <a:pt x="9864" y="12626"/>
                  <a:pt x="10004" y="12626"/>
                  <a:pt x="10145" y="12626"/>
                </a:cubicBezTo>
              </a:path>
              <a:path w="3499" h="2010">
                <a:moveTo>
                  <a:pt x="10914" y="12105"/>
                </a:moveTo>
                <a:cubicBezTo>
                  <a:pt x="10914" y="12156"/>
                  <a:pt x="10890" y="12184"/>
                  <a:pt x="10840" y="12204"/>
                </a:cubicBezTo>
                <a:cubicBezTo>
                  <a:pt x="10811" y="12216"/>
                  <a:pt x="10745" y="12227"/>
                  <a:pt x="10716" y="12229"/>
                </a:cubicBezTo>
                <a:cubicBezTo>
                  <a:pt x="10659" y="12233"/>
                  <a:pt x="10599" y="12229"/>
                  <a:pt x="10542" y="12229"/>
                </a:cubicBezTo>
                <a:cubicBezTo>
                  <a:pt x="10542" y="12345"/>
                  <a:pt x="10542" y="12460"/>
                  <a:pt x="10542" y="12576"/>
                </a:cubicBezTo>
                <a:cubicBezTo>
                  <a:pt x="10655" y="12576"/>
                  <a:pt x="10787" y="12555"/>
                  <a:pt x="10889" y="12601"/>
                </a:cubicBezTo>
                <a:cubicBezTo>
                  <a:pt x="10989" y="12646"/>
                  <a:pt x="10933" y="12636"/>
                  <a:pt x="10988" y="12700"/>
                </a:cubicBezTo>
                <a:cubicBezTo>
                  <a:pt x="11009" y="12725"/>
                  <a:pt x="11013" y="12720"/>
                  <a:pt x="11013" y="12774"/>
                </a:cubicBezTo>
                <a:cubicBezTo>
                  <a:pt x="11013" y="12855"/>
                  <a:pt x="11043" y="12972"/>
                  <a:pt x="10964" y="13022"/>
                </a:cubicBezTo>
                <a:cubicBezTo>
                  <a:pt x="10940" y="13037"/>
                  <a:pt x="10881" y="13071"/>
                  <a:pt x="10864" y="13072"/>
                </a:cubicBezTo>
                <a:cubicBezTo>
                  <a:pt x="10807" y="13076"/>
                  <a:pt x="10474" y="13095"/>
                  <a:pt x="10468" y="13047"/>
                </a:cubicBezTo>
                <a:cubicBezTo>
                  <a:pt x="10468" y="13039"/>
                  <a:pt x="10468" y="13030"/>
                  <a:pt x="10468" y="13022"/>
                </a:cubicBezTo>
              </a:path>
              <a:path w="3499" h="2010">
                <a:moveTo>
                  <a:pt x="11534" y="12576"/>
                </a:moveTo>
                <a:cubicBezTo>
                  <a:pt x="11534" y="12568"/>
                  <a:pt x="11534" y="12559"/>
                  <a:pt x="11534" y="12551"/>
                </a:cubicBezTo>
                <a:cubicBezTo>
                  <a:pt x="11617" y="12551"/>
                  <a:pt x="11699" y="12551"/>
                  <a:pt x="11782" y="12551"/>
                </a:cubicBezTo>
              </a:path>
              <a:path w="3499" h="2010">
                <a:moveTo>
                  <a:pt x="11534" y="12824"/>
                </a:moveTo>
                <a:cubicBezTo>
                  <a:pt x="11642" y="12824"/>
                  <a:pt x="11749" y="12824"/>
                  <a:pt x="11857" y="12824"/>
                </a:cubicBezTo>
              </a:path>
              <a:path w="3499" h="2010">
                <a:moveTo>
                  <a:pt x="9847" y="13618"/>
                </a:moveTo>
                <a:cubicBezTo>
                  <a:pt x="9979" y="13618"/>
                  <a:pt x="10112" y="13618"/>
                  <a:pt x="10244" y="13618"/>
                </a:cubicBezTo>
              </a:path>
              <a:path w="3499" h="2010">
                <a:moveTo>
                  <a:pt x="11088" y="13395"/>
                </a:moveTo>
                <a:cubicBezTo>
                  <a:pt x="10942" y="13395"/>
                  <a:pt x="10719" y="13368"/>
                  <a:pt x="10616" y="13419"/>
                </a:cubicBezTo>
                <a:cubicBezTo>
                  <a:pt x="10582" y="13436"/>
                  <a:pt x="10592" y="13447"/>
                  <a:pt x="10592" y="13494"/>
                </a:cubicBezTo>
                <a:cubicBezTo>
                  <a:pt x="10592" y="13544"/>
                  <a:pt x="10592" y="13593"/>
                  <a:pt x="10592" y="13643"/>
                </a:cubicBezTo>
                <a:cubicBezTo>
                  <a:pt x="10698" y="13643"/>
                  <a:pt x="11034" y="13594"/>
                  <a:pt x="11088" y="13667"/>
                </a:cubicBezTo>
                <a:cubicBezTo>
                  <a:pt x="11130" y="13724"/>
                  <a:pt x="11156" y="13739"/>
                  <a:pt x="11162" y="13816"/>
                </a:cubicBezTo>
                <a:cubicBezTo>
                  <a:pt x="11169" y="13907"/>
                  <a:pt x="11173" y="13962"/>
                  <a:pt x="11112" y="14015"/>
                </a:cubicBezTo>
                <a:cubicBezTo>
                  <a:pt x="11010" y="14104"/>
                  <a:pt x="10946" y="14114"/>
                  <a:pt x="10815" y="14114"/>
                </a:cubicBezTo>
                <a:cubicBezTo>
                  <a:pt x="10774" y="14114"/>
                  <a:pt x="10688" y="14132"/>
                  <a:pt x="10666" y="14089"/>
                </a:cubicBezTo>
                <a:cubicBezTo>
                  <a:pt x="10666" y="14061"/>
                  <a:pt x="10664" y="14050"/>
                  <a:pt x="10641" y="14039"/>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4483080" y="4411800"/>
            <a:ext cx="357120" cy="366480"/>
          </a:xfrm>
          <a:custGeom>
            <a:avLst/>
            <a:gdLst/>
            <a:ahLst/>
            <a:rect l="l" t="t" r="r" b="b"/>
            <a:pathLst>
              <a:path w="993" h="1018">
                <a:moveTo>
                  <a:pt x="12452" y="12328"/>
                </a:moveTo>
                <a:cubicBezTo>
                  <a:pt x="12452" y="12642"/>
                  <a:pt x="12452" y="12957"/>
                  <a:pt x="12452" y="13271"/>
                </a:cubicBezTo>
              </a:path>
              <a:path w="993" h="1018">
                <a:moveTo>
                  <a:pt x="12874" y="12452"/>
                </a:moveTo>
                <a:cubicBezTo>
                  <a:pt x="12916" y="12368"/>
                  <a:pt x="12854" y="12448"/>
                  <a:pt x="12973" y="12353"/>
                </a:cubicBezTo>
                <a:cubicBezTo>
                  <a:pt x="13015" y="12319"/>
                  <a:pt x="13055" y="12303"/>
                  <a:pt x="13097" y="12278"/>
                </a:cubicBezTo>
                <a:cubicBezTo>
                  <a:pt x="13120" y="12264"/>
                  <a:pt x="13120" y="12257"/>
                  <a:pt x="13171" y="12254"/>
                </a:cubicBezTo>
                <a:cubicBezTo>
                  <a:pt x="13227" y="12251"/>
                  <a:pt x="13245" y="12257"/>
                  <a:pt x="13271" y="12278"/>
                </a:cubicBezTo>
                <a:cubicBezTo>
                  <a:pt x="13295" y="12297"/>
                  <a:pt x="13309" y="12308"/>
                  <a:pt x="13320" y="12353"/>
                </a:cubicBezTo>
                <a:cubicBezTo>
                  <a:pt x="13336" y="12420"/>
                  <a:pt x="13322" y="12499"/>
                  <a:pt x="13295" y="12551"/>
                </a:cubicBezTo>
                <a:cubicBezTo>
                  <a:pt x="13273" y="12592"/>
                  <a:pt x="13265" y="12600"/>
                  <a:pt x="13221" y="12626"/>
                </a:cubicBezTo>
                <a:cubicBezTo>
                  <a:pt x="13192" y="12643"/>
                  <a:pt x="13159" y="12648"/>
                  <a:pt x="13122" y="12650"/>
                </a:cubicBezTo>
                <a:cubicBezTo>
                  <a:pt x="13111" y="12651"/>
                  <a:pt x="13005" y="12650"/>
                  <a:pt x="13072" y="12650"/>
                </a:cubicBezTo>
                <a:cubicBezTo>
                  <a:pt x="13143" y="12650"/>
                  <a:pt x="13241" y="12631"/>
                  <a:pt x="13295" y="12675"/>
                </a:cubicBezTo>
                <a:cubicBezTo>
                  <a:pt x="13312" y="12689"/>
                  <a:pt x="13372" y="12723"/>
                  <a:pt x="13395" y="12750"/>
                </a:cubicBezTo>
                <a:cubicBezTo>
                  <a:pt x="13402" y="12759"/>
                  <a:pt x="13440" y="12836"/>
                  <a:pt x="13444" y="12849"/>
                </a:cubicBezTo>
                <a:cubicBezTo>
                  <a:pt x="13469" y="12941"/>
                  <a:pt x="13435" y="13028"/>
                  <a:pt x="13395" y="13097"/>
                </a:cubicBezTo>
                <a:cubicBezTo>
                  <a:pt x="13352" y="13171"/>
                  <a:pt x="13310" y="13198"/>
                  <a:pt x="13246" y="13246"/>
                </a:cubicBezTo>
                <a:cubicBezTo>
                  <a:pt x="13220" y="13266"/>
                  <a:pt x="13225" y="13268"/>
                  <a:pt x="13171" y="13271"/>
                </a:cubicBezTo>
                <a:cubicBezTo>
                  <a:pt x="13065" y="13277"/>
                  <a:pt x="12860" y="13295"/>
                  <a:pt x="12799" y="13246"/>
                </a:cubicBezTo>
                <a:cubicBezTo>
                  <a:pt x="12762" y="13216"/>
                  <a:pt x="12776" y="13188"/>
                  <a:pt x="12774" y="13146"/>
                </a:cubicBezTo>
                <a:cubicBezTo>
                  <a:pt x="12773" y="13122"/>
                  <a:pt x="12774" y="13096"/>
                  <a:pt x="12774" y="13072"/>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3340080" y="5340240"/>
            <a:ext cx="169920" cy="473040"/>
          </a:xfrm>
          <a:custGeom>
            <a:avLst/>
            <a:gdLst/>
            <a:ahLst/>
            <a:rect l="l" t="t" r="r" b="b"/>
            <a:pathLst>
              <a:path w="472" h="1316">
                <a:moveTo>
                  <a:pt x="9277" y="14833"/>
                </a:moveTo>
                <a:cubicBezTo>
                  <a:pt x="9277" y="14918"/>
                  <a:pt x="9310" y="14921"/>
                  <a:pt x="9327" y="15007"/>
                </a:cubicBezTo>
                <a:cubicBezTo>
                  <a:pt x="9341" y="15075"/>
                  <a:pt x="9389" y="15139"/>
                  <a:pt x="9401" y="15205"/>
                </a:cubicBezTo>
                <a:cubicBezTo>
                  <a:pt x="9417" y="15297"/>
                  <a:pt x="9443" y="15305"/>
                  <a:pt x="9475" y="15379"/>
                </a:cubicBezTo>
                <a:cubicBezTo>
                  <a:pt x="9487" y="15407"/>
                  <a:pt x="9493" y="15449"/>
                  <a:pt x="9500" y="15478"/>
                </a:cubicBezTo>
              </a:path>
              <a:path w="472" h="1316">
                <a:moveTo>
                  <a:pt x="9748" y="14858"/>
                </a:moveTo>
                <a:cubicBezTo>
                  <a:pt x="9665" y="14942"/>
                  <a:pt x="9690" y="15019"/>
                  <a:pt x="9649" y="15131"/>
                </a:cubicBezTo>
                <a:cubicBezTo>
                  <a:pt x="9621" y="15207"/>
                  <a:pt x="9603" y="15299"/>
                  <a:pt x="9599" y="15379"/>
                </a:cubicBezTo>
                <a:cubicBezTo>
                  <a:pt x="9595" y="15457"/>
                  <a:pt x="9565" y="15524"/>
                  <a:pt x="9550" y="15602"/>
                </a:cubicBezTo>
                <a:cubicBezTo>
                  <a:pt x="9539" y="15662"/>
                  <a:pt x="9514" y="15717"/>
                  <a:pt x="9500" y="15776"/>
                </a:cubicBezTo>
                <a:cubicBezTo>
                  <a:pt x="9475" y="15880"/>
                  <a:pt x="9434" y="15993"/>
                  <a:pt x="9426" y="16098"/>
                </a:cubicBezTo>
                <a:cubicBezTo>
                  <a:pt x="9426" y="16123"/>
                  <a:pt x="9426" y="16131"/>
                  <a:pt x="9426" y="16148"/>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3840120" y="4840200"/>
            <a:ext cx="1482840" cy="938160"/>
          </a:xfrm>
          <a:custGeom>
            <a:avLst/>
            <a:gdLst/>
            <a:ahLst/>
            <a:rect l="l" t="t" r="r" b="b"/>
            <a:pathLst>
              <a:path w="4119" h="2606">
                <a:moveTo>
                  <a:pt x="13320" y="14858"/>
                </a:moveTo>
                <a:cubicBezTo>
                  <a:pt x="13418" y="14840"/>
                  <a:pt x="13441" y="14801"/>
                  <a:pt x="13543" y="14759"/>
                </a:cubicBezTo>
                <a:cubicBezTo>
                  <a:pt x="13728" y="14683"/>
                  <a:pt x="13925" y="14651"/>
                  <a:pt x="14114" y="14610"/>
                </a:cubicBezTo>
                <a:cubicBezTo>
                  <a:pt x="14255" y="14580"/>
                  <a:pt x="14390" y="14585"/>
                  <a:pt x="14536" y="14585"/>
                </a:cubicBezTo>
                <a:cubicBezTo>
                  <a:pt x="14619" y="14585"/>
                  <a:pt x="14701" y="14585"/>
                  <a:pt x="14784" y="14585"/>
                </a:cubicBezTo>
              </a:path>
              <a:path w="4119" h="2606">
                <a:moveTo>
                  <a:pt x="12179" y="13767"/>
                </a:moveTo>
                <a:cubicBezTo>
                  <a:pt x="12287" y="13767"/>
                  <a:pt x="12394" y="13767"/>
                  <a:pt x="12502" y="13767"/>
                </a:cubicBezTo>
              </a:path>
              <a:path w="4119" h="2606">
                <a:moveTo>
                  <a:pt x="13469" y="13444"/>
                </a:moveTo>
                <a:cubicBezTo>
                  <a:pt x="13337" y="13444"/>
                  <a:pt x="13204" y="13444"/>
                  <a:pt x="13072" y="13444"/>
                </a:cubicBezTo>
                <a:cubicBezTo>
                  <a:pt x="13072" y="13576"/>
                  <a:pt x="13072" y="13709"/>
                  <a:pt x="13072" y="13841"/>
                </a:cubicBezTo>
                <a:cubicBezTo>
                  <a:pt x="13146" y="13841"/>
                  <a:pt x="13210" y="13826"/>
                  <a:pt x="13271" y="13816"/>
                </a:cubicBezTo>
                <a:cubicBezTo>
                  <a:pt x="13362" y="13802"/>
                  <a:pt x="13468" y="13816"/>
                  <a:pt x="13543" y="13841"/>
                </a:cubicBezTo>
                <a:cubicBezTo>
                  <a:pt x="13589" y="13856"/>
                  <a:pt x="13603" y="13869"/>
                  <a:pt x="13618" y="13915"/>
                </a:cubicBezTo>
                <a:cubicBezTo>
                  <a:pt x="13643" y="13990"/>
                  <a:pt x="13654" y="14310"/>
                  <a:pt x="13568" y="14337"/>
                </a:cubicBezTo>
                <a:cubicBezTo>
                  <a:pt x="13507" y="14356"/>
                  <a:pt x="13453" y="14389"/>
                  <a:pt x="13395" y="14412"/>
                </a:cubicBezTo>
                <a:cubicBezTo>
                  <a:pt x="13309" y="14447"/>
                  <a:pt x="13097" y="14408"/>
                  <a:pt x="13047" y="14387"/>
                </a:cubicBezTo>
                <a:cubicBezTo>
                  <a:pt x="13018" y="14375"/>
                  <a:pt x="12983" y="14342"/>
                  <a:pt x="12973" y="14337"/>
                </a:cubicBezTo>
                <a:cubicBezTo>
                  <a:pt x="12938" y="14320"/>
                  <a:pt x="12948" y="14311"/>
                  <a:pt x="12948" y="14263"/>
                </a:cubicBezTo>
                <a:cubicBezTo>
                  <a:pt x="12948" y="14238"/>
                  <a:pt x="12948" y="14213"/>
                  <a:pt x="12948" y="14188"/>
                </a:cubicBezTo>
              </a:path>
              <a:path w="4119" h="2606">
                <a:moveTo>
                  <a:pt x="10740" y="14362"/>
                </a:moveTo>
                <a:cubicBezTo>
                  <a:pt x="10740" y="14435"/>
                  <a:pt x="10718" y="14382"/>
                  <a:pt x="10691" y="14436"/>
                </a:cubicBezTo>
                <a:cubicBezTo>
                  <a:pt x="10675" y="14468"/>
                  <a:pt x="10666" y="14496"/>
                  <a:pt x="10666" y="14536"/>
                </a:cubicBezTo>
                <a:cubicBezTo>
                  <a:pt x="10666" y="14544"/>
                  <a:pt x="10666" y="14552"/>
                  <a:pt x="10666" y="14560"/>
                </a:cubicBezTo>
                <a:cubicBezTo>
                  <a:pt x="10740" y="14560"/>
                  <a:pt x="10880" y="14580"/>
                  <a:pt x="10914" y="14536"/>
                </a:cubicBezTo>
                <a:cubicBezTo>
                  <a:pt x="10957" y="14479"/>
                  <a:pt x="10929" y="14491"/>
                  <a:pt x="10914" y="14461"/>
                </a:cubicBezTo>
                <a:cubicBezTo>
                  <a:pt x="10903" y="14439"/>
                  <a:pt x="10866" y="14415"/>
                  <a:pt x="10840" y="14412"/>
                </a:cubicBezTo>
                <a:cubicBezTo>
                  <a:pt x="10793" y="14406"/>
                  <a:pt x="10750" y="14406"/>
                  <a:pt x="10716" y="14436"/>
                </a:cubicBezTo>
                <a:cubicBezTo>
                  <a:pt x="10708" y="14444"/>
                  <a:pt x="10699" y="14453"/>
                  <a:pt x="10691" y="14461"/>
                </a:cubicBezTo>
              </a:path>
              <a:path w="4119" h="2606">
                <a:moveTo>
                  <a:pt x="11559" y="15106"/>
                </a:moveTo>
                <a:cubicBezTo>
                  <a:pt x="11559" y="15098"/>
                  <a:pt x="11559" y="15089"/>
                  <a:pt x="11559" y="15081"/>
                </a:cubicBezTo>
                <a:cubicBezTo>
                  <a:pt x="11683" y="15081"/>
                  <a:pt x="11807" y="15081"/>
                  <a:pt x="11931" y="15081"/>
                </a:cubicBezTo>
              </a:path>
              <a:path w="4119" h="2606">
                <a:moveTo>
                  <a:pt x="11584" y="15453"/>
                </a:moveTo>
                <a:cubicBezTo>
                  <a:pt x="11766" y="15453"/>
                  <a:pt x="11947" y="15453"/>
                  <a:pt x="12129" y="15453"/>
                </a:cubicBezTo>
              </a:path>
              <a:path w="4119" h="2606">
                <a:moveTo>
                  <a:pt x="13221" y="15156"/>
                </a:moveTo>
                <a:cubicBezTo>
                  <a:pt x="13148" y="15156"/>
                  <a:pt x="13082" y="15148"/>
                  <a:pt x="13022" y="15180"/>
                </a:cubicBezTo>
                <a:cubicBezTo>
                  <a:pt x="12965" y="15210"/>
                  <a:pt x="12932" y="15252"/>
                  <a:pt x="12898" y="15280"/>
                </a:cubicBezTo>
                <a:cubicBezTo>
                  <a:pt x="12859" y="15312"/>
                  <a:pt x="12829" y="15313"/>
                  <a:pt x="12824" y="15354"/>
                </a:cubicBezTo>
                <a:cubicBezTo>
                  <a:pt x="12819" y="15395"/>
                  <a:pt x="12799" y="15373"/>
                  <a:pt x="12799" y="15429"/>
                </a:cubicBezTo>
                <a:cubicBezTo>
                  <a:pt x="12843" y="15463"/>
                  <a:pt x="12868" y="15478"/>
                  <a:pt x="12923" y="15478"/>
                </a:cubicBezTo>
                <a:cubicBezTo>
                  <a:pt x="13001" y="15478"/>
                  <a:pt x="13051" y="15543"/>
                  <a:pt x="13097" y="15577"/>
                </a:cubicBezTo>
                <a:cubicBezTo>
                  <a:pt x="13135" y="15605"/>
                  <a:pt x="13187" y="15604"/>
                  <a:pt x="13221" y="15627"/>
                </a:cubicBezTo>
                <a:cubicBezTo>
                  <a:pt x="13258" y="15651"/>
                  <a:pt x="13246" y="15688"/>
                  <a:pt x="13246" y="15726"/>
                </a:cubicBezTo>
                <a:cubicBezTo>
                  <a:pt x="13246" y="15796"/>
                  <a:pt x="13282" y="15982"/>
                  <a:pt x="13221" y="16024"/>
                </a:cubicBezTo>
                <a:cubicBezTo>
                  <a:pt x="13173" y="16057"/>
                  <a:pt x="13126" y="16049"/>
                  <a:pt x="13072" y="16049"/>
                </a:cubicBezTo>
                <a:cubicBezTo>
                  <a:pt x="13035" y="16049"/>
                  <a:pt x="12968" y="16065"/>
                  <a:pt x="12948" y="16024"/>
                </a:cubicBezTo>
                <a:cubicBezTo>
                  <a:pt x="12908" y="15945"/>
                  <a:pt x="12959" y="15791"/>
                  <a:pt x="12998" y="15751"/>
                </a:cubicBezTo>
                <a:cubicBezTo>
                  <a:pt x="13055" y="15693"/>
                  <a:pt x="13108" y="15650"/>
                  <a:pt x="13171" y="15602"/>
                </a:cubicBezTo>
                <a:cubicBezTo>
                  <a:pt x="13207" y="15575"/>
                  <a:pt x="13240" y="15556"/>
                  <a:pt x="13271" y="15528"/>
                </a:cubicBezTo>
                <a:cubicBezTo>
                  <a:pt x="13308" y="15495"/>
                  <a:pt x="13295" y="15451"/>
                  <a:pt x="13295" y="15404"/>
                </a:cubicBezTo>
                <a:cubicBezTo>
                  <a:pt x="13295" y="15338"/>
                  <a:pt x="13287" y="15289"/>
                  <a:pt x="13271" y="15255"/>
                </a:cubicBezTo>
                <a:cubicBezTo>
                  <a:pt x="13268" y="15249"/>
                  <a:pt x="13251" y="15184"/>
                  <a:pt x="13246" y="15180"/>
                </a:cubicBezTo>
                <a:cubicBezTo>
                  <a:pt x="13238" y="15180"/>
                  <a:pt x="13229" y="15180"/>
                  <a:pt x="13221" y="15180"/>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3125880" y="3606840"/>
            <a:ext cx="1440" cy="1440"/>
          </a:xfrm>
          <a:custGeom>
            <a:avLst/>
            <a:gdLst/>
            <a:ahLst/>
            <a:rect l="l" t="t" r="r" b="b"/>
            <a:pathLst>
              <a:path w="1" h="1">
                <a:moveTo>
                  <a:pt x="8682" y="10021"/>
                </a:moveTo>
                <a:lnTo>
                  <a:pt x="8682" y="10021"/>
                </a:ln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4" name=""/>
          <p:cNvSpPr/>
          <p:nvPr/>
        </p:nvSpPr>
        <p:spPr>
          <a:xfrm>
            <a:off x="6303960" y="4384800"/>
            <a:ext cx="1492200" cy="438120"/>
          </a:xfrm>
          <a:custGeom>
            <a:avLst/>
            <a:gdLst/>
            <a:ahLst/>
            <a:rect l="l" t="t" r="r" b="b"/>
            <a:pathLst>
              <a:path w="4143" h="1217">
                <a:moveTo>
                  <a:pt x="17934" y="12378"/>
                </a:moveTo>
                <a:cubicBezTo>
                  <a:pt x="17886" y="12366"/>
                  <a:pt x="17878" y="12322"/>
                  <a:pt x="17835" y="12303"/>
                </a:cubicBezTo>
                <a:cubicBezTo>
                  <a:pt x="17783" y="12280"/>
                  <a:pt x="17630" y="12299"/>
                  <a:pt x="17587" y="12328"/>
                </a:cubicBezTo>
                <a:cubicBezTo>
                  <a:pt x="17553" y="12351"/>
                  <a:pt x="17516" y="12415"/>
                  <a:pt x="17512" y="12452"/>
                </a:cubicBezTo>
                <a:cubicBezTo>
                  <a:pt x="17506" y="12503"/>
                  <a:pt x="17491" y="12647"/>
                  <a:pt x="17537" y="12675"/>
                </a:cubicBezTo>
                <a:cubicBezTo>
                  <a:pt x="17587" y="12706"/>
                  <a:pt x="17700" y="12739"/>
                  <a:pt x="17760" y="12750"/>
                </a:cubicBezTo>
                <a:cubicBezTo>
                  <a:pt x="17835" y="12764"/>
                  <a:pt x="17889" y="12788"/>
                  <a:pt x="17959" y="12824"/>
                </a:cubicBezTo>
                <a:cubicBezTo>
                  <a:pt x="17994" y="12842"/>
                  <a:pt x="18026" y="12846"/>
                  <a:pt x="18058" y="12874"/>
                </a:cubicBezTo>
                <a:cubicBezTo>
                  <a:pt x="18102" y="12912"/>
                  <a:pt x="18102" y="12923"/>
                  <a:pt x="18132" y="12973"/>
                </a:cubicBezTo>
                <a:cubicBezTo>
                  <a:pt x="18157" y="13014"/>
                  <a:pt x="18157" y="13021"/>
                  <a:pt x="18157" y="13072"/>
                </a:cubicBezTo>
                <a:cubicBezTo>
                  <a:pt x="18157" y="13160"/>
                  <a:pt x="18169" y="13162"/>
                  <a:pt x="18083" y="13221"/>
                </a:cubicBezTo>
                <a:cubicBezTo>
                  <a:pt x="18024" y="13262"/>
                  <a:pt x="17953" y="13290"/>
                  <a:pt x="17884" y="13295"/>
                </a:cubicBezTo>
                <a:cubicBezTo>
                  <a:pt x="17819" y="13300"/>
                  <a:pt x="17752" y="13295"/>
                  <a:pt x="17686" y="13295"/>
                </a:cubicBezTo>
                <a:cubicBezTo>
                  <a:pt x="17686" y="13201"/>
                  <a:pt x="17659" y="13045"/>
                  <a:pt x="17711" y="12973"/>
                </a:cubicBezTo>
                <a:cubicBezTo>
                  <a:pt x="17752" y="12916"/>
                  <a:pt x="17800" y="12858"/>
                  <a:pt x="17835" y="12799"/>
                </a:cubicBezTo>
                <a:cubicBezTo>
                  <a:pt x="17874" y="12734"/>
                  <a:pt x="17913" y="12658"/>
                  <a:pt x="17959" y="12601"/>
                </a:cubicBezTo>
                <a:cubicBezTo>
                  <a:pt x="17983" y="12571"/>
                  <a:pt x="18016" y="12514"/>
                  <a:pt x="18033" y="12477"/>
                </a:cubicBezTo>
                <a:cubicBezTo>
                  <a:pt x="18050" y="12439"/>
                  <a:pt x="18032" y="12410"/>
                  <a:pt x="18008" y="12402"/>
                </a:cubicBezTo>
              </a:path>
              <a:path w="4143" h="1217">
                <a:moveTo>
                  <a:pt x="18554" y="12601"/>
                </a:moveTo>
                <a:cubicBezTo>
                  <a:pt x="18554" y="12758"/>
                  <a:pt x="18554" y="12915"/>
                  <a:pt x="18554" y="13072"/>
                </a:cubicBezTo>
              </a:path>
              <a:path w="4143" h="1217">
                <a:moveTo>
                  <a:pt x="18405" y="12849"/>
                </a:moveTo>
                <a:cubicBezTo>
                  <a:pt x="18405" y="12824"/>
                  <a:pt x="18405" y="12816"/>
                  <a:pt x="18405" y="12799"/>
                </a:cubicBezTo>
                <a:cubicBezTo>
                  <a:pt x="18471" y="12799"/>
                  <a:pt x="18538" y="12799"/>
                  <a:pt x="18604" y="12799"/>
                </a:cubicBezTo>
                <a:cubicBezTo>
                  <a:pt x="18616" y="12761"/>
                  <a:pt x="18633" y="12774"/>
                  <a:pt x="18678" y="12774"/>
                </a:cubicBezTo>
                <a:cubicBezTo>
                  <a:pt x="18736" y="12774"/>
                  <a:pt x="18794" y="12774"/>
                  <a:pt x="18852" y="12774"/>
                </a:cubicBezTo>
              </a:path>
              <a:path w="4143" h="1217">
                <a:moveTo>
                  <a:pt x="19546" y="12427"/>
                </a:moveTo>
                <a:cubicBezTo>
                  <a:pt x="19533" y="12387"/>
                  <a:pt x="19498" y="12402"/>
                  <a:pt x="19447" y="12402"/>
                </a:cubicBezTo>
                <a:cubicBezTo>
                  <a:pt x="19389" y="12402"/>
                  <a:pt x="19177" y="12371"/>
                  <a:pt x="19149" y="12427"/>
                </a:cubicBezTo>
                <a:cubicBezTo>
                  <a:pt x="19110" y="12506"/>
                  <a:pt x="19149" y="12709"/>
                  <a:pt x="19149" y="12799"/>
                </a:cubicBezTo>
                <a:cubicBezTo>
                  <a:pt x="19229" y="12799"/>
                  <a:pt x="19295" y="12785"/>
                  <a:pt x="19372" y="12774"/>
                </a:cubicBezTo>
                <a:cubicBezTo>
                  <a:pt x="19418" y="12768"/>
                  <a:pt x="19621" y="12750"/>
                  <a:pt x="19645" y="12799"/>
                </a:cubicBezTo>
                <a:cubicBezTo>
                  <a:pt x="19671" y="12853"/>
                  <a:pt x="19658" y="13055"/>
                  <a:pt x="19621" y="13097"/>
                </a:cubicBezTo>
                <a:cubicBezTo>
                  <a:pt x="19600" y="13121"/>
                  <a:pt x="19555" y="13193"/>
                  <a:pt x="19546" y="13196"/>
                </a:cubicBezTo>
                <a:cubicBezTo>
                  <a:pt x="19439" y="13225"/>
                  <a:pt x="19217" y="13205"/>
                  <a:pt x="19149" y="13171"/>
                </a:cubicBezTo>
                <a:cubicBezTo>
                  <a:pt x="19117" y="13155"/>
                  <a:pt x="19124" y="13168"/>
                  <a:pt x="19124" y="13122"/>
                </a:cubicBezTo>
              </a:path>
              <a:path w="4143" h="1217">
                <a:moveTo>
                  <a:pt x="20042" y="12626"/>
                </a:moveTo>
                <a:cubicBezTo>
                  <a:pt x="20150" y="12626"/>
                  <a:pt x="20257" y="12626"/>
                  <a:pt x="20365" y="12626"/>
                </a:cubicBezTo>
              </a:path>
              <a:path w="4143" h="1217">
                <a:moveTo>
                  <a:pt x="20067" y="13022"/>
                </a:moveTo>
                <a:cubicBezTo>
                  <a:pt x="20067" y="13014"/>
                  <a:pt x="20067" y="13006"/>
                  <a:pt x="20067" y="12998"/>
                </a:cubicBezTo>
                <a:cubicBezTo>
                  <a:pt x="20191" y="12998"/>
                  <a:pt x="20315" y="12998"/>
                  <a:pt x="20439" y="12998"/>
                </a:cubicBezTo>
              </a:path>
              <a:path w="4143" h="1217">
                <a:moveTo>
                  <a:pt x="20762" y="12427"/>
                </a:moveTo>
                <a:cubicBezTo>
                  <a:pt x="20762" y="12587"/>
                  <a:pt x="20769" y="12743"/>
                  <a:pt x="20786" y="12898"/>
                </a:cubicBezTo>
                <a:cubicBezTo>
                  <a:pt x="20803" y="13060"/>
                  <a:pt x="20786" y="13232"/>
                  <a:pt x="20786" y="13395"/>
                </a:cubicBezTo>
              </a:path>
              <a:path w="4143" h="1217">
                <a:moveTo>
                  <a:pt x="21134" y="12650"/>
                </a:moveTo>
                <a:cubicBezTo>
                  <a:pt x="21134" y="12596"/>
                  <a:pt x="21131" y="12555"/>
                  <a:pt x="21158" y="12502"/>
                </a:cubicBezTo>
                <a:cubicBezTo>
                  <a:pt x="21203" y="12416"/>
                  <a:pt x="21250" y="12318"/>
                  <a:pt x="21282" y="12229"/>
                </a:cubicBezTo>
                <a:cubicBezTo>
                  <a:pt x="21299" y="12181"/>
                  <a:pt x="21267" y="12179"/>
                  <a:pt x="21332" y="12179"/>
                </a:cubicBezTo>
                <a:cubicBezTo>
                  <a:pt x="21411" y="12179"/>
                  <a:pt x="21485" y="12184"/>
                  <a:pt x="21530" y="12204"/>
                </a:cubicBezTo>
                <a:cubicBezTo>
                  <a:pt x="21574" y="12223"/>
                  <a:pt x="21587" y="12260"/>
                  <a:pt x="21605" y="12303"/>
                </a:cubicBezTo>
                <a:cubicBezTo>
                  <a:pt x="21631" y="12364"/>
                  <a:pt x="21630" y="12386"/>
                  <a:pt x="21630" y="12452"/>
                </a:cubicBezTo>
                <a:cubicBezTo>
                  <a:pt x="21630" y="12511"/>
                  <a:pt x="21545" y="12590"/>
                  <a:pt x="21506" y="12626"/>
                </a:cubicBezTo>
                <a:cubicBezTo>
                  <a:pt x="21482" y="12647"/>
                  <a:pt x="21411" y="12717"/>
                  <a:pt x="21382" y="12725"/>
                </a:cubicBezTo>
                <a:cubicBezTo>
                  <a:pt x="21374" y="12727"/>
                  <a:pt x="21217" y="12725"/>
                  <a:pt x="21282" y="12725"/>
                </a:cubicBezTo>
                <a:cubicBezTo>
                  <a:pt x="21394" y="12725"/>
                  <a:pt x="21507" y="12721"/>
                  <a:pt x="21605" y="12750"/>
                </a:cubicBezTo>
                <a:cubicBezTo>
                  <a:pt x="21653" y="12765"/>
                  <a:pt x="21654" y="12736"/>
                  <a:pt x="21654" y="12799"/>
                </a:cubicBezTo>
                <a:cubicBezTo>
                  <a:pt x="21654" y="12862"/>
                  <a:pt x="21677" y="13085"/>
                  <a:pt x="21630" y="13097"/>
                </a:cubicBezTo>
                <a:cubicBezTo>
                  <a:pt x="21581" y="13109"/>
                  <a:pt x="21533" y="13123"/>
                  <a:pt x="21481" y="13146"/>
                </a:cubicBezTo>
                <a:cubicBezTo>
                  <a:pt x="21426" y="13170"/>
                  <a:pt x="21392" y="13196"/>
                  <a:pt x="21332" y="13196"/>
                </a:cubicBezTo>
                <a:cubicBezTo>
                  <a:pt x="21282" y="13196"/>
                  <a:pt x="21233" y="13196"/>
                  <a:pt x="21183" y="13196"/>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6607080" y="5402160"/>
            <a:ext cx="277920" cy="366840"/>
          </a:xfrm>
          <a:custGeom>
            <a:avLst/>
            <a:gdLst/>
            <a:ahLst/>
            <a:rect l="l" t="t" r="r" b="b"/>
            <a:pathLst>
              <a:path w="770" h="1018">
                <a:moveTo>
                  <a:pt x="18355" y="15652"/>
                </a:moveTo>
                <a:cubicBezTo>
                  <a:pt x="18440" y="15684"/>
                  <a:pt x="18402" y="15597"/>
                  <a:pt x="18455" y="15726"/>
                </a:cubicBezTo>
                <a:cubicBezTo>
                  <a:pt x="18488" y="15805"/>
                  <a:pt x="18499" y="15897"/>
                  <a:pt x="18529" y="15974"/>
                </a:cubicBezTo>
                <a:cubicBezTo>
                  <a:pt x="18529" y="16002"/>
                  <a:pt x="18531" y="16013"/>
                  <a:pt x="18554" y="16024"/>
                </a:cubicBezTo>
                <a:cubicBezTo>
                  <a:pt x="18581" y="15965"/>
                  <a:pt x="18637" y="15805"/>
                  <a:pt x="18678" y="15726"/>
                </a:cubicBezTo>
                <a:cubicBezTo>
                  <a:pt x="18727" y="15632"/>
                  <a:pt x="18770" y="15563"/>
                  <a:pt x="18827" y="15478"/>
                </a:cubicBezTo>
                <a:cubicBezTo>
                  <a:pt x="18881" y="15398"/>
                  <a:pt x="18926" y="15313"/>
                  <a:pt x="18976" y="15230"/>
                </a:cubicBezTo>
                <a:cubicBezTo>
                  <a:pt x="19004" y="15182"/>
                  <a:pt x="19028" y="15125"/>
                  <a:pt x="19050" y="15081"/>
                </a:cubicBezTo>
                <a:cubicBezTo>
                  <a:pt x="19061" y="15059"/>
                  <a:pt x="19096" y="15030"/>
                  <a:pt x="19124" y="15007"/>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3152880" y="5170320"/>
            <a:ext cx="1606320" cy="179640"/>
          </a:xfrm>
          <a:custGeom>
            <a:avLst/>
            <a:gdLst/>
            <a:ahLst/>
            <a:rect l="l" t="t" r="r" b="b"/>
            <a:pathLst>
              <a:path w="4466" h="497">
                <a:moveTo>
                  <a:pt x="8756" y="14387"/>
                </a:moveTo>
                <a:cubicBezTo>
                  <a:pt x="8792" y="14378"/>
                  <a:pt x="8881" y="14362"/>
                  <a:pt x="8954" y="14362"/>
                </a:cubicBezTo>
                <a:cubicBezTo>
                  <a:pt x="9564" y="14362"/>
                  <a:pt x="10183" y="14332"/>
                  <a:pt x="10790" y="14387"/>
                </a:cubicBezTo>
                <a:cubicBezTo>
                  <a:pt x="11112" y="14416"/>
                  <a:pt x="11396" y="14457"/>
                  <a:pt x="11708" y="14536"/>
                </a:cubicBezTo>
                <a:cubicBezTo>
                  <a:pt x="11870" y="14577"/>
                  <a:pt x="11986" y="14665"/>
                  <a:pt x="12129" y="14709"/>
                </a:cubicBezTo>
                <a:cubicBezTo>
                  <a:pt x="12270" y="14752"/>
                  <a:pt x="12454" y="14761"/>
                  <a:pt x="12601" y="14784"/>
                </a:cubicBezTo>
                <a:cubicBezTo>
                  <a:pt x="12736" y="14805"/>
                  <a:pt x="12777" y="14848"/>
                  <a:pt x="12898" y="14858"/>
                </a:cubicBezTo>
                <a:cubicBezTo>
                  <a:pt x="13004" y="14867"/>
                  <a:pt x="13114" y="14858"/>
                  <a:pt x="13221" y="14858"/>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68">
                                            <p:txEl>
                                              <p:pRg st="0" end="0"/>
                                            </p:txEl>
                                          </p:spTgt>
                                        </p:tgtEl>
                                        <p:attrNameLst>
                                          <p:attrName>style.visibility</p:attrName>
                                        </p:attrNameLst>
                                      </p:cBhvr>
                                      <p:to>
                                        <p:strVal val="visible"/>
                                      </p:to>
                                    </p:set>
                                    <p:anim calcmode="lin" valueType="num">
                                      <p:cBhvr additive="base">
                                        <p:cTn id="7" dur="500" fill="hold"/>
                                        <p:tgtEl>
                                          <p:spTgt spid="168">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6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68">
                                            <p:txEl>
                                              <p:pRg st="1" end="1"/>
                                            </p:txEl>
                                          </p:spTgt>
                                        </p:tgtEl>
                                        <p:attrNameLst>
                                          <p:attrName>style.visibility</p:attrName>
                                        </p:attrNameLst>
                                      </p:cBhvr>
                                      <p:to>
                                        <p:strVal val="visible"/>
                                      </p:to>
                                    </p:set>
                                    <p:anim calcmode="lin" valueType="num">
                                      <p:cBhvr additive="base">
                                        <p:cTn id="13" dur="500" fill="hold"/>
                                        <p:tgtEl>
                                          <p:spTgt spid="168">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68">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380520" y="152280"/>
            <a:ext cx="7543800" cy="6400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Examples: Solving Addition Equation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 x + 2 = 12</a:t>
            </a:r>
            <a:r>
              <a:rPr b="0" lang="en-US" sz="36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2.) 4 + x = 16</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3.) 20 = x + 9</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7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8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81" name=""/>
          <p:cNvSpPr/>
          <p:nvPr/>
        </p:nvSpPr>
        <p:spPr>
          <a:xfrm>
            <a:off x="1490760" y="1374840"/>
            <a:ext cx="73080" cy="1440"/>
          </a:xfrm>
          <a:custGeom>
            <a:avLst/>
            <a:gdLst/>
            <a:ahLst/>
            <a:rect l="l" t="t" r="r" b="b"/>
            <a:pathLst>
              <a:path w="200" h="1">
                <a:moveTo>
                  <a:pt x="4142" y="3820"/>
                </a:moveTo>
                <a:cubicBezTo>
                  <a:pt x="4208" y="3820"/>
                  <a:pt x="4275" y="3820"/>
                  <a:pt x="4341" y="3820"/>
                </a:cubicBez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2" name=""/>
          <p:cNvSpPr/>
          <p:nvPr/>
        </p:nvSpPr>
        <p:spPr>
          <a:xfrm>
            <a:off x="1758960" y="1285920"/>
            <a:ext cx="169920" cy="152280"/>
          </a:xfrm>
          <a:custGeom>
            <a:avLst/>
            <a:gdLst/>
            <a:ahLst/>
            <a:rect l="l" t="t" r="r" b="b"/>
            <a:pathLst>
              <a:path w="472" h="423">
                <a:moveTo>
                  <a:pt x="4961" y="3621"/>
                </a:moveTo>
                <a:cubicBezTo>
                  <a:pt x="5004" y="3621"/>
                  <a:pt x="5011" y="3615"/>
                  <a:pt x="5035" y="3597"/>
                </a:cubicBezTo>
                <a:cubicBezTo>
                  <a:pt x="5073" y="3568"/>
                  <a:pt x="5087" y="3572"/>
                  <a:pt x="5135" y="3572"/>
                </a:cubicBezTo>
                <a:cubicBezTo>
                  <a:pt x="5168" y="3572"/>
                  <a:pt x="5201" y="3572"/>
                  <a:pt x="5234" y="3572"/>
                </a:cubicBezTo>
                <a:cubicBezTo>
                  <a:pt x="5234" y="3623"/>
                  <a:pt x="5224" y="3648"/>
                  <a:pt x="5209" y="3671"/>
                </a:cubicBezTo>
                <a:cubicBezTo>
                  <a:pt x="5168" y="3733"/>
                  <a:pt x="5113" y="3767"/>
                  <a:pt x="5060" y="3820"/>
                </a:cubicBezTo>
                <a:cubicBezTo>
                  <a:pt x="5026" y="3854"/>
                  <a:pt x="4994" y="3872"/>
                  <a:pt x="4961" y="3894"/>
                </a:cubicBezTo>
                <a:cubicBezTo>
                  <a:pt x="4942" y="3906"/>
                  <a:pt x="4888" y="3967"/>
                  <a:pt x="4887" y="3969"/>
                </a:cubicBezTo>
                <a:cubicBezTo>
                  <a:pt x="4887" y="3977"/>
                  <a:pt x="4887" y="3986"/>
                  <a:pt x="4887" y="3994"/>
                </a:cubicBezTo>
                <a:cubicBezTo>
                  <a:pt x="5044" y="3994"/>
                  <a:pt x="5201" y="3994"/>
                  <a:pt x="5358" y="3994"/>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2401920" y="1258920"/>
            <a:ext cx="420480" cy="223920"/>
          </a:xfrm>
          <a:custGeom>
            <a:avLst/>
            <a:gdLst/>
            <a:ahLst/>
            <a:rect l="l" t="t" r="r" b="b"/>
            <a:pathLst>
              <a:path w="1167" h="622">
                <a:moveTo>
                  <a:pt x="6672" y="3721"/>
                </a:moveTo>
                <a:cubicBezTo>
                  <a:pt x="6771" y="3721"/>
                  <a:pt x="6871" y="3721"/>
                  <a:pt x="6970" y="3721"/>
                </a:cubicBezTo>
              </a:path>
              <a:path w="1167" h="622">
                <a:moveTo>
                  <a:pt x="7367" y="3721"/>
                </a:moveTo>
                <a:cubicBezTo>
                  <a:pt x="7367" y="3672"/>
                  <a:pt x="7362" y="3642"/>
                  <a:pt x="7392" y="3597"/>
                </a:cubicBezTo>
                <a:cubicBezTo>
                  <a:pt x="7404" y="3579"/>
                  <a:pt x="7464" y="3523"/>
                  <a:pt x="7466" y="3522"/>
                </a:cubicBezTo>
                <a:cubicBezTo>
                  <a:pt x="7499" y="3506"/>
                  <a:pt x="7491" y="3497"/>
                  <a:pt x="7541" y="3497"/>
                </a:cubicBezTo>
                <a:cubicBezTo>
                  <a:pt x="7587" y="3497"/>
                  <a:pt x="7714" y="3472"/>
                  <a:pt x="7739" y="3522"/>
                </a:cubicBezTo>
                <a:cubicBezTo>
                  <a:pt x="7763" y="3571"/>
                  <a:pt x="7748" y="3757"/>
                  <a:pt x="7714" y="3795"/>
                </a:cubicBezTo>
                <a:cubicBezTo>
                  <a:pt x="7680" y="3834"/>
                  <a:pt x="7649" y="3839"/>
                  <a:pt x="7615" y="3870"/>
                </a:cubicBezTo>
                <a:cubicBezTo>
                  <a:pt x="7588" y="3894"/>
                  <a:pt x="7480" y="3949"/>
                  <a:pt x="7466" y="3969"/>
                </a:cubicBezTo>
                <a:cubicBezTo>
                  <a:pt x="7438" y="4011"/>
                  <a:pt x="7415" y="4053"/>
                  <a:pt x="7392" y="4093"/>
                </a:cubicBezTo>
                <a:cubicBezTo>
                  <a:pt x="7364" y="4141"/>
                  <a:pt x="7304" y="4118"/>
                  <a:pt x="7441" y="4118"/>
                </a:cubicBezTo>
                <a:cubicBezTo>
                  <a:pt x="7573" y="4118"/>
                  <a:pt x="7706" y="4118"/>
                  <a:pt x="7838" y="4118"/>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1562040" y="1697040"/>
            <a:ext cx="716040" cy="330120"/>
          </a:xfrm>
          <a:custGeom>
            <a:avLst/>
            <a:gdLst/>
            <a:ahLst/>
            <a:rect l="l" t="t" r="r" b="b"/>
            <a:pathLst>
              <a:path w="1985" h="919">
                <a:moveTo>
                  <a:pt x="5358" y="4713"/>
                </a:moveTo>
                <a:cubicBezTo>
                  <a:pt x="5358" y="4784"/>
                  <a:pt x="5337" y="4884"/>
                  <a:pt x="5383" y="4936"/>
                </a:cubicBezTo>
                <a:cubicBezTo>
                  <a:pt x="5413" y="4970"/>
                  <a:pt x="5439" y="4961"/>
                  <a:pt x="5482" y="4961"/>
                </a:cubicBezTo>
                <a:cubicBezTo>
                  <a:pt x="5515" y="4961"/>
                  <a:pt x="5548" y="4961"/>
                  <a:pt x="5581" y="4961"/>
                </a:cubicBezTo>
                <a:cubicBezTo>
                  <a:pt x="5581" y="4915"/>
                  <a:pt x="5600" y="4839"/>
                  <a:pt x="5556" y="4812"/>
                </a:cubicBezTo>
                <a:cubicBezTo>
                  <a:pt x="5547" y="4807"/>
                  <a:pt x="5489" y="4772"/>
                  <a:pt x="5482" y="4762"/>
                </a:cubicBezTo>
                <a:cubicBezTo>
                  <a:pt x="5461" y="4732"/>
                  <a:pt x="5457" y="4738"/>
                  <a:pt x="5407" y="4738"/>
                </a:cubicBezTo>
              </a:path>
              <a:path w="1985" h="919">
                <a:moveTo>
                  <a:pt x="4341" y="4911"/>
                </a:moveTo>
                <a:cubicBezTo>
                  <a:pt x="4341" y="4980"/>
                  <a:pt x="4395" y="5032"/>
                  <a:pt x="4440" y="5085"/>
                </a:cubicBezTo>
                <a:cubicBezTo>
                  <a:pt x="4517" y="5174"/>
                  <a:pt x="4593" y="5236"/>
                  <a:pt x="4663" y="5333"/>
                </a:cubicBezTo>
                <a:cubicBezTo>
                  <a:pt x="4735" y="5433"/>
                  <a:pt x="4793" y="5508"/>
                  <a:pt x="4887" y="5581"/>
                </a:cubicBezTo>
                <a:cubicBezTo>
                  <a:pt x="4911" y="5606"/>
                  <a:pt x="4919" y="5615"/>
                  <a:pt x="4936" y="5631"/>
                </a:cubicBezTo>
              </a:path>
              <a:path w="1985" h="919">
                <a:moveTo>
                  <a:pt x="4564" y="5308"/>
                </a:moveTo>
                <a:cubicBezTo>
                  <a:pt x="4502" y="5409"/>
                  <a:pt x="4457" y="5487"/>
                  <a:pt x="4440" y="5606"/>
                </a:cubicBezTo>
              </a:path>
              <a:path w="1985" h="919">
                <a:moveTo>
                  <a:pt x="4440" y="5606"/>
                </a:moveTo>
                <a:cubicBezTo>
                  <a:pt x="4440" y="5581"/>
                  <a:pt x="4440" y="5556"/>
                  <a:pt x="4440" y="5531"/>
                </a:cubicBezTo>
                <a:cubicBezTo>
                  <a:pt x="4478" y="5519"/>
                  <a:pt x="4465" y="5502"/>
                  <a:pt x="4465" y="5457"/>
                </a:cubicBezTo>
                <a:cubicBezTo>
                  <a:pt x="4465" y="5417"/>
                  <a:pt x="4490" y="5403"/>
                  <a:pt x="4490" y="5358"/>
                </a:cubicBezTo>
                <a:cubicBezTo>
                  <a:pt x="4490" y="5297"/>
                  <a:pt x="4521" y="5266"/>
                  <a:pt x="4539" y="5209"/>
                </a:cubicBezTo>
                <a:cubicBezTo>
                  <a:pt x="4539" y="5184"/>
                  <a:pt x="4539" y="5176"/>
                  <a:pt x="4539" y="5159"/>
                </a:cubicBezTo>
                <a:cubicBezTo>
                  <a:pt x="4577" y="5147"/>
                  <a:pt x="4564" y="5130"/>
                  <a:pt x="4564" y="5085"/>
                </a:cubicBezTo>
                <a:cubicBezTo>
                  <a:pt x="4564" y="5046"/>
                  <a:pt x="4553" y="5011"/>
                  <a:pt x="4589" y="4986"/>
                </a:cubicBezTo>
                <a:cubicBezTo>
                  <a:pt x="4629" y="4966"/>
                  <a:pt x="4645" y="4967"/>
                  <a:pt x="4638" y="4936"/>
                </a:cubicBezTo>
                <a:cubicBezTo>
                  <a:pt x="4680" y="4925"/>
                  <a:pt x="4730" y="4885"/>
                  <a:pt x="4762" y="4862"/>
                </a:cubicBezTo>
                <a:cubicBezTo>
                  <a:pt x="4794" y="4840"/>
                  <a:pt x="4804" y="4820"/>
                  <a:pt x="4812" y="4787"/>
                </a:cubicBezTo>
              </a:path>
              <a:path w="1985" h="919">
                <a:moveTo>
                  <a:pt x="5904" y="5135"/>
                </a:moveTo>
                <a:cubicBezTo>
                  <a:pt x="5919" y="5088"/>
                  <a:pt x="5998" y="5110"/>
                  <a:pt x="6052" y="5110"/>
                </a:cubicBezTo>
                <a:cubicBezTo>
                  <a:pt x="6118" y="5110"/>
                  <a:pt x="6185" y="5110"/>
                  <a:pt x="6251" y="5110"/>
                </a:cubicBezTo>
              </a:path>
              <a:path w="1985" h="919">
                <a:moveTo>
                  <a:pt x="5879" y="5457"/>
                </a:moveTo>
                <a:cubicBezTo>
                  <a:pt x="6028" y="5457"/>
                  <a:pt x="6176" y="5457"/>
                  <a:pt x="6325" y="5457"/>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2482920" y="1751040"/>
            <a:ext cx="339480" cy="293760"/>
          </a:xfrm>
          <a:custGeom>
            <a:avLst/>
            <a:gdLst/>
            <a:ahLst/>
            <a:rect l="l" t="t" r="r" b="b"/>
            <a:pathLst>
              <a:path w="943" h="819">
                <a:moveTo>
                  <a:pt x="6896" y="4862"/>
                </a:moveTo>
                <a:cubicBezTo>
                  <a:pt x="6896" y="5135"/>
                  <a:pt x="6896" y="5407"/>
                  <a:pt x="6896" y="5680"/>
                </a:cubicBezTo>
              </a:path>
              <a:path w="943" h="819">
                <a:moveTo>
                  <a:pt x="7516" y="5011"/>
                </a:moveTo>
                <a:cubicBezTo>
                  <a:pt x="7516" y="5003"/>
                  <a:pt x="7516" y="4994"/>
                  <a:pt x="7516" y="4986"/>
                </a:cubicBezTo>
                <a:cubicBezTo>
                  <a:pt x="7442" y="5010"/>
                  <a:pt x="7419" y="5119"/>
                  <a:pt x="7367" y="5209"/>
                </a:cubicBezTo>
                <a:cubicBezTo>
                  <a:pt x="7351" y="5236"/>
                  <a:pt x="7293" y="5461"/>
                  <a:pt x="7268" y="5482"/>
                </a:cubicBezTo>
                <a:cubicBezTo>
                  <a:pt x="7240" y="5505"/>
                  <a:pt x="7243" y="5503"/>
                  <a:pt x="7243" y="5556"/>
                </a:cubicBezTo>
                <a:cubicBezTo>
                  <a:pt x="7243" y="5608"/>
                  <a:pt x="7257" y="5609"/>
                  <a:pt x="7268" y="5631"/>
                </a:cubicBezTo>
                <a:cubicBezTo>
                  <a:pt x="7287" y="5668"/>
                  <a:pt x="7313" y="5655"/>
                  <a:pt x="7367" y="5655"/>
                </a:cubicBezTo>
                <a:cubicBezTo>
                  <a:pt x="7510" y="5655"/>
                  <a:pt x="7655" y="5699"/>
                  <a:pt x="7739" y="5581"/>
                </a:cubicBezTo>
                <a:cubicBezTo>
                  <a:pt x="7778" y="5527"/>
                  <a:pt x="7816" y="5448"/>
                  <a:pt x="7838" y="5383"/>
                </a:cubicBezTo>
                <a:cubicBezTo>
                  <a:pt x="7855" y="5332"/>
                  <a:pt x="7822" y="5300"/>
                  <a:pt x="7813" y="5283"/>
                </a:cubicBezTo>
                <a:cubicBezTo>
                  <a:pt x="7795" y="5249"/>
                  <a:pt x="7793" y="5256"/>
                  <a:pt x="7764" y="5234"/>
                </a:cubicBezTo>
                <a:cubicBezTo>
                  <a:pt x="7714" y="5197"/>
                  <a:pt x="7737" y="5170"/>
                  <a:pt x="7665" y="5135"/>
                </a:cubicBezTo>
                <a:cubicBezTo>
                  <a:pt x="7621" y="5113"/>
                  <a:pt x="7592" y="5053"/>
                  <a:pt x="7565" y="5035"/>
                </a:cubicBezTo>
                <a:cubicBezTo>
                  <a:pt x="7540" y="5017"/>
                  <a:pt x="7484" y="5021"/>
                  <a:pt x="7466" y="4986"/>
                </a:cubicBezTo>
                <a:cubicBezTo>
                  <a:pt x="7453" y="4959"/>
                  <a:pt x="7420" y="4945"/>
                  <a:pt x="7392" y="4936"/>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2394000" y="3089160"/>
            <a:ext cx="142920" cy="9720"/>
          </a:xfrm>
          <a:custGeom>
            <a:avLst/>
            <a:gdLst/>
            <a:ahLst/>
            <a:rect l="l" t="t" r="r" b="b"/>
            <a:pathLst>
              <a:path w="398" h="26">
                <a:moveTo>
                  <a:pt x="6648" y="8607"/>
                </a:moveTo>
                <a:cubicBezTo>
                  <a:pt x="6752" y="8607"/>
                  <a:pt x="6856" y="8612"/>
                  <a:pt x="6945" y="8582"/>
                </a:cubicBezTo>
                <a:cubicBezTo>
                  <a:pt x="6973" y="8572"/>
                  <a:pt x="7015" y="8582"/>
                  <a:pt x="7045" y="8582"/>
                </a:cubicBezTo>
              </a:path>
            </a:pathLst>
          </a:custGeom>
          <a:noFill/>
          <a:ln cap="rnd" w="34920">
            <a:solidFill>
              <a:srgbClr val="ff0000"/>
            </a:solidFill>
            <a:round/>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87" name=""/>
          <p:cNvSpPr/>
          <p:nvPr/>
        </p:nvSpPr>
        <p:spPr>
          <a:xfrm>
            <a:off x="2751120" y="3027240"/>
            <a:ext cx="88920" cy="241560"/>
          </a:xfrm>
          <a:custGeom>
            <a:avLst/>
            <a:gdLst/>
            <a:ahLst/>
            <a:rect l="l" t="t" r="r" b="b"/>
            <a:pathLst>
              <a:path w="249" h="671">
                <a:moveTo>
                  <a:pt x="7714" y="8508"/>
                </a:moveTo>
                <a:cubicBezTo>
                  <a:pt x="7714" y="8582"/>
                  <a:pt x="7680" y="8614"/>
                  <a:pt x="7665" y="8682"/>
                </a:cubicBezTo>
                <a:cubicBezTo>
                  <a:pt x="7653" y="8737"/>
                  <a:pt x="7640" y="8797"/>
                  <a:pt x="7640" y="8855"/>
                </a:cubicBezTo>
                <a:cubicBezTo>
                  <a:pt x="7693" y="8855"/>
                  <a:pt x="7720" y="8853"/>
                  <a:pt x="7764" y="8830"/>
                </a:cubicBezTo>
                <a:cubicBezTo>
                  <a:pt x="7803" y="8809"/>
                  <a:pt x="7838" y="8784"/>
                  <a:pt x="7863" y="8781"/>
                </a:cubicBezTo>
                <a:cubicBezTo>
                  <a:pt x="7906" y="8776"/>
                  <a:pt x="7888" y="8724"/>
                  <a:pt x="7888" y="8682"/>
                </a:cubicBezTo>
                <a:cubicBezTo>
                  <a:pt x="7888" y="8599"/>
                  <a:pt x="7888" y="8517"/>
                  <a:pt x="7888" y="8434"/>
                </a:cubicBezTo>
                <a:cubicBezTo>
                  <a:pt x="7888" y="8375"/>
                  <a:pt x="7891" y="8613"/>
                  <a:pt x="7888" y="8632"/>
                </a:cubicBezTo>
                <a:cubicBezTo>
                  <a:pt x="7876" y="8716"/>
                  <a:pt x="7846" y="8799"/>
                  <a:pt x="7838" y="8880"/>
                </a:cubicBezTo>
                <a:cubicBezTo>
                  <a:pt x="7831" y="8945"/>
                  <a:pt x="7838" y="9014"/>
                  <a:pt x="7838" y="9079"/>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1276200" y="3402000"/>
            <a:ext cx="36720" cy="81000"/>
          </a:xfrm>
          <a:custGeom>
            <a:avLst/>
            <a:gdLst/>
            <a:ahLst/>
            <a:rect l="l" t="t" r="r" b="b"/>
            <a:pathLst>
              <a:path w="100" h="224">
                <a:moveTo>
                  <a:pt x="3547" y="9475"/>
                </a:moveTo>
                <a:cubicBezTo>
                  <a:pt x="3547" y="9530"/>
                  <a:pt x="3527" y="9659"/>
                  <a:pt x="3572" y="9674"/>
                </a:cubicBezTo>
                <a:cubicBezTo>
                  <a:pt x="3605" y="9657"/>
                  <a:pt x="3641" y="9620"/>
                  <a:pt x="3646" y="9575"/>
                </a:cubicBezTo>
                <a:cubicBezTo>
                  <a:pt x="3650" y="9539"/>
                  <a:pt x="3659" y="9470"/>
                  <a:pt x="3621" y="9451"/>
                </a:cubicBezTo>
                <a:cubicBezTo>
                  <a:pt x="3585" y="9433"/>
                  <a:pt x="3555" y="9453"/>
                  <a:pt x="3547" y="9475"/>
                </a:cubicBezTo>
              </a:path>
            </a:pathLst>
          </a:custGeom>
          <a:noFill/>
          <a:ln cap="rnd" w="34920">
            <a:solidFill>
              <a:srgbClr val="ff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89" name=""/>
          <p:cNvSpPr/>
          <p:nvPr/>
        </p:nvSpPr>
        <p:spPr>
          <a:xfrm>
            <a:off x="1589040" y="3463920"/>
            <a:ext cx="260280" cy="216000"/>
          </a:xfrm>
          <a:custGeom>
            <a:avLst/>
            <a:gdLst/>
            <a:ahLst/>
            <a:rect l="l" t="t" r="r" b="b"/>
            <a:pathLst>
              <a:path w="721" h="597">
                <a:moveTo>
                  <a:pt x="4415" y="9922"/>
                </a:moveTo>
                <a:lnTo>
                  <a:pt x="4415" y="9922"/>
                </a:lnTo>
              </a:path>
              <a:path w="721" h="597">
                <a:moveTo>
                  <a:pt x="4465" y="9649"/>
                </a:moveTo>
                <a:cubicBezTo>
                  <a:pt x="4501" y="9649"/>
                  <a:pt x="4537" y="9656"/>
                  <a:pt x="4564" y="9674"/>
                </a:cubicBezTo>
                <a:cubicBezTo>
                  <a:pt x="4630" y="9718"/>
                  <a:pt x="4663" y="9762"/>
                  <a:pt x="4738" y="9798"/>
                </a:cubicBezTo>
                <a:cubicBezTo>
                  <a:pt x="4810" y="9833"/>
                  <a:pt x="4895" y="9876"/>
                  <a:pt x="4961" y="9922"/>
                </a:cubicBezTo>
                <a:cubicBezTo>
                  <a:pt x="4984" y="9945"/>
                  <a:pt x="4988" y="9953"/>
                  <a:pt x="5011" y="9947"/>
                </a:cubicBezTo>
                <a:cubicBezTo>
                  <a:pt x="5023" y="9983"/>
                  <a:pt x="5063" y="9987"/>
                  <a:pt x="5110" y="9996"/>
                </a:cubicBezTo>
                <a:cubicBezTo>
                  <a:pt x="5123" y="10036"/>
                  <a:pt x="5122" y="10006"/>
                  <a:pt x="5135" y="10046"/>
                </a:cubicBezTo>
              </a:path>
              <a:path w="721" h="597">
                <a:moveTo>
                  <a:pt x="5135" y="9649"/>
                </a:moveTo>
                <a:cubicBezTo>
                  <a:pt x="5135" y="9641"/>
                  <a:pt x="5135" y="9632"/>
                  <a:pt x="5135" y="9624"/>
                </a:cubicBezTo>
                <a:cubicBezTo>
                  <a:pt x="5084" y="9624"/>
                  <a:pt x="5072" y="9624"/>
                  <a:pt x="5060" y="9674"/>
                </a:cubicBezTo>
                <a:cubicBezTo>
                  <a:pt x="5037" y="9685"/>
                  <a:pt x="4977" y="9738"/>
                  <a:pt x="4961" y="9773"/>
                </a:cubicBezTo>
                <a:cubicBezTo>
                  <a:pt x="4961" y="9798"/>
                  <a:pt x="4961" y="9806"/>
                  <a:pt x="4961" y="9823"/>
                </a:cubicBezTo>
                <a:cubicBezTo>
                  <a:pt x="4929" y="9833"/>
                  <a:pt x="4927" y="9833"/>
                  <a:pt x="4887" y="9847"/>
                </a:cubicBezTo>
                <a:cubicBezTo>
                  <a:pt x="4832" y="9867"/>
                  <a:pt x="4828" y="9902"/>
                  <a:pt x="4787" y="9922"/>
                </a:cubicBezTo>
                <a:cubicBezTo>
                  <a:pt x="4774" y="9996"/>
                  <a:pt x="4755" y="9956"/>
                  <a:pt x="4713" y="10021"/>
                </a:cubicBezTo>
                <a:cubicBezTo>
                  <a:pt x="4686" y="10062"/>
                  <a:pt x="4690" y="10122"/>
                  <a:pt x="4638" y="10145"/>
                </a:cubicBezTo>
                <a:cubicBezTo>
                  <a:pt x="4614" y="10156"/>
                  <a:pt x="4591" y="10163"/>
                  <a:pt x="4564" y="10170"/>
                </a:cubicBezTo>
                <a:cubicBezTo>
                  <a:pt x="4554" y="10211"/>
                  <a:pt x="4555" y="10210"/>
                  <a:pt x="4514" y="10220"/>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2054160" y="3500280"/>
            <a:ext cx="125640" cy="125640"/>
          </a:xfrm>
          <a:custGeom>
            <a:avLst/>
            <a:gdLst/>
            <a:ahLst/>
            <a:rect l="l" t="t" r="r" b="b"/>
            <a:pathLst>
              <a:path w="348" h="349">
                <a:moveTo>
                  <a:pt x="5705" y="9798"/>
                </a:moveTo>
                <a:cubicBezTo>
                  <a:pt x="5716" y="9753"/>
                  <a:pt x="5752" y="9732"/>
                  <a:pt x="5804" y="9723"/>
                </a:cubicBezTo>
                <a:cubicBezTo>
                  <a:pt x="5865" y="9712"/>
                  <a:pt x="5940" y="9723"/>
                  <a:pt x="6003" y="9723"/>
                </a:cubicBezTo>
              </a:path>
              <a:path w="348" h="349">
                <a:moveTo>
                  <a:pt x="5779" y="10071"/>
                </a:moveTo>
                <a:cubicBezTo>
                  <a:pt x="5870" y="10071"/>
                  <a:pt x="5961" y="10071"/>
                  <a:pt x="6052" y="10071"/>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2473200" y="3446640"/>
            <a:ext cx="268560" cy="241200"/>
          </a:xfrm>
          <a:custGeom>
            <a:avLst/>
            <a:gdLst/>
            <a:ahLst/>
            <a:rect l="l" t="t" r="r" b="b"/>
            <a:pathLst>
              <a:path w="745" h="670">
                <a:moveTo>
                  <a:pt x="6871" y="9699"/>
                </a:moveTo>
                <a:cubicBezTo>
                  <a:pt x="6871" y="9856"/>
                  <a:pt x="6871" y="10013"/>
                  <a:pt x="6871" y="10170"/>
                </a:cubicBezTo>
              </a:path>
              <a:path w="745" h="670">
                <a:moveTo>
                  <a:pt x="7169" y="9699"/>
                </a:moveTo>
                <a:cubicBezTo>
                  <a:pt x="7216" y="9687"/>
                  <a:pt x="7250" y="9644"/>
                  <a:pt x="7293" y="9624"/>
                </a:cubicBezTo>
                <a:cubicBezTo>
                  <a:pt x="7347" y="9599"/>
                  <a:pt x="7359" y="9575"/>
                  <a:pt x="7417" y="9575"/>
                </a:cubicBezTo>
                <a:cubicBezTo>
                  <a:pt x="7484" y="9575"/>
                  <a:pt x="7534" y="9581"/>
                  <a:pt x="7590" y="9599"/>
                </a:cubicBezTo>
                <a:cubicBezTo>
                  <a:pt x="7628" y="9611"/>
                  <a:pt x="7615" y="9629"/>
                  <a:pt x="7615" y="9674"/>
                </a:cubicBezTo>
                <a:cubicBezTo>
                  <a:pt x="7615" y="9725"/>
                  <a:pt x="7625" y="9780"/>
                  <a:pt x="7590" y="9823"/>
                </a:cubicBezTo>
                <a:cubicBezTo>
                  <a:pt x="7524" y="9904"/>
                  <a:pt x="7417" y="10006"/>
                  <a:pt x="7342" y="10071"/>
                </a:cubicBezTo>
                <a:cubicBezTo>
                  <a:pt x="7310" y="10099"/>
                  <a:pt x="7243" y="10167"/>
                  <a:pt x="7218" y="10170"/>
                </a:cubicBezTo>
                <a:cubicBezTo>
                  <a:pt x="7175" y="10175"/>
                  <a:pt x="7161" y="10171"/>
                  <a:pt x="7144" y="10220"/>
                </a:cubicBezTo>
                <a:cubicBezTo>
                  <a:pt x="7144" y="10228"/>
                  <a:pt x="7144" y="10236"/>
                  <a:pt x="7144" y="10244"/>
                </a:cubicBezTo>
                <a:cubicBezTo>
                  <a:pt x="7249" y="10244"/>
                  <a:pt x="7350" y="10238"/>
                  <a:pt x="7441" y="10220"/>
                </a:cubicBezTo>
                <a:cubicBezTo>
                  <a:pt x="7494" y="10210"/>
                  <a:pt x="7560" y="10220"/>
                  <a:pt x="7615" y="10220"/>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4214880" y="973080"/>
            <a:ext cx="777960" cy="223920"/>
          </a:xfrm>
          <a:custGeom>
            <a:avLst/>
            <a:gdLst/>
            <a:ahLst/>
            <a:rect l="l" t="t" r="r" b="b"/>
            <a:pathLst>
              <a:path w="2159" h="621">
                <a:moveTo>
                  <a:pt x="11708" y="2778"/>
                </a:moveTo>
                <a:cubicBezTo>
                  <a:pt x="11716" y="2778"/>
                  <a:pt x="11725" y="2778"/>
                  <a:pt x="11733" y="2778"/>
                </a:cubicBezTo>
                <a:cubicBezTo>
                  <a:pt x="11733" y="2943"/>
                  <a:pt x="11733" y="3109"/>
                  <a:pt x="11733" y="3274"/>
                </a:cubicBezTo>
              </a:path>
              <a:path w="2159" h="621">
                <a:moveTo>
                  <a:pt x="12229" y="2853"/>
                </a:moveTo>
                <a:cubicBezTo>
                  <a:pt x="12192" y="2899"/>
                  <a:pt x="12181" y="2956"/>
                  <a:pt x="12154" y="3001"/>
                </a:cubicBezTo>
                <a:cubicBezTo>
                  <a:pt x="12129" y="3042"/>
                  <a:pt x="12129" y="3050"/>
                  <a:pt x="12129" y="3101"/>
                </a:cubicBezTo>
                <a:cubicBezTo>
                  <a:pt x="12129" y="3175"/>
                  <a:pt x="12129" y="3250"/>
                  <a:pt x="12129" y="3324"/>
                </a:cubicBezTo>
                <a:cubicBezTo>
                  <a:pt x="12200" y="3324"/>
                  <a:pt x="12438" y="3362"/>
                  <a:pt x="12477" y="3299"/>
                </a:cubicBezTo>
                <a:cubicBezTo>
                  <a:pt x="12495" y="3271"/>
                  <a:pt x="12502" y="3271"/>
                  <a:pt x="12502" y="3225"/>
                </a:cubicBezTo>
                <a:cubicBezTo>
                  <a:pt x="12502" y="3178"/>
                  <a:pt x="12528" y="3026"/>
                  <a:pt x="12477" y="3001"/>
                </a:cubicBezTo>
                <a:cubicBezTo>
                  <a:pt x="12459" y="2992"/>
                  <a:pt x="12417" y="2982"/>
                  <a:pt x="12402" y="2952"/>
                </a:cubicBezTo>
                <a:cubicBezTo>
                  <a:pt x="12396" y="2939"/>
                  <a:pt x="12334" y="2879"/>
                  <a:pt x="12328" y="2877"/>
                </a:cubicBezTo>
                <a:cubicBezTo>
                  <a:pt x="12292" y="2865"/>
                  <a:pt x="12250" y="2856"/>
                  <a:pt x="12229" y="2853"/>
                </a:cubicBezTo>
                <a:cubicBezTo>
                  <a:pt x="12204" y="2853"/>
                  <a:pt x="12196" y="2853"/>
                  <a:pt x="12179" y="2853"/>
                </a:cubicBezTo>
              </a:path>
              <a:path w="2159" h="621">
                <a:moveTo>
                  <a:pt x="13022" y="2877"/>
                </a:moveTo>
                <a:cubicBezTo>
                  <a:pt x="13022" y="2869"/>
                  <a:pt x="13022" y="2861"/>
                  <a:pt x="13022" y="2853"/>
                </a:cubicBezTo>
                <a:cubicBezTo>
                  <a:pt x="12946" y="2853"/>
                  <a:pt x="12992" y="2863"/>
                  <a:pt x="12973" y="2927"/>
                </a:cubicBezTo>
                <a:cubicBezTo>
                  <a:pt x="12955" y="2987"/>
                  <a:pt x="12948" y="3010"/>
                  <a:pt x="12948" y="3076"/>
                </a:cubicBezTo>
                <a:cubicBezTo>
                  <a:pt x="12948" y="3117"/>
                  <a:pt x="12948" y="3159"/>
                  <a:pt x="12948" y="3200"/>
                </a:cubicBezTo>
              </a:path>
              <a:path w="2159" h="621">
                <a:moveTo>
                  <a:pt x="12774" y="3051"/>
                </a:moveTo>
                <a:cubicBezTo>
                  <a:pt x="12808" y="3000"/>
                  <a:pt x="12901" y="3039"/>
                  <a:pt x="12973" y="3026"/>
                </a:cubicBezTo>
                <a:cubicBezTo>
                  <a:pt x="13043" y="3013"/>
                  <a:pt x="13075" y="3001"/>
                  <a:pt x="13146" y="3001"/>
                </a:cubicBezTo>
                <a:cubicBezTo>
                  <a:pt x="13171" y="3001"/>
                  <a:pt x="13196" y="3001"/>
                  <a:pt x="13221" y="3001"/>
                </a:cubicBezTo>
              </a:path>
              <a:path w="2159" h="621">
                <a:moveTo>
                  <a:pt x="13543" y="2729"/>
                </a:moveTo>
                <a:cubicBezTo>
                  <a:pt x="13556" y="2691"/>
                  <a:pt x="13573" y="2704"/>
                  <a:pt x="13618" y="2704"/>
                </a:cubicBezTo>
                <a:cubicBezTo>
                  <a:pt x="13664" y="2704"/>
                  <a:pt x="13681" y="2698"/>
                  <a:pt x="13717" y="2729"/>
                </a:cubicBezTo>
                <a:cubicBezTo>
                  <a:pt x="13752" y="2759"/>
                  <a:pt x="13742" y="2785"/>
                  <a:pt x="13742" y="2828"/>
                </a:cubicBezTo>
                <a:cubicBezTo>
                  <a:pt x="13742" y="2887"/>
                  <a:pt x="13758" y="2958"/>
                  <a:pt x="13717" y="3001"/>
                </a:cubicBezTo>
                <a:cubicBezTo>
                  <a:pt x="13655" y="3067"/>
                  <a:pt x="13573" y="3120"/>
                  <a:pt x="13519" y="3175"/>
                </a:cubicBezTo>
                <a:cubicBezTo>
                  <a:pt x="13497" y="3197"/>
                  <a:pt x="13496" y="3205"/>
                  <a:pt x="13469" y="3225"/>
                </a:cubicBezTo>
                <a:cubicBezTo>
                  <a:pt x="13440" y="3246"/>
                  <a:pt x="13426" y="3277"/>
                  <a:pt x="13419" y="3299"/>
                </a:cubicBezTo>
                <a:cubicBezTo>
                  <a:pt x="13514" y="3299"/>
                  <a:pt x="13604" y="3285"/>
                  <a:pt x="13692" y="3274"/>
                </a:cubicBezTo>
                <a:cubicBezTo>
                  <a:pt x="13747" y="3267"/>
                  <a:pt x="13811" y="3274"/>
                  <a:pt x="13866" y="3274"/>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5170320" y="1044720"/>
            <a:ext cx="142920" cy="63360"/>
          </a:xfrm>
          <a:custGeom>
            <a:avLst/>
            <a:gdLst/>
            <a:ahLst/>
            <a:rect l="l" t="t" r="r" b="b"/>
            <a:pathLst>
              <a:path w="398" h="175">
                <a:moveTo>
                  <a:pt x="14362" y="2902"/>
                </a:moveTo>
                <a:cubicBezTo>
                  <a:pt x="14486" y="2902"/>
                  <a:pt x="14610" y="2902"/>
                  <a:pt x="14734" y="2902"/>
                </a:cubicBezTo>
              </a:path>
              <a:path w="398" h="175">
                <a:moveTo>
                  <a:pt x="14511" y="3076"/>
                </a:moveTo>
                <a:cubicBezTo>
                  <a:pt x="14594" y="3076"/>
                  <a:pt x="14676" y="3076"/>
                  <a:pt x="14759" y="3076"/>
                </a:cubicBezTo>
              </a:path>
            </a:pathLst>
          </a:custGeom>
          <a:noFill/>
          <a:ln cap="rnd" w="34920">
            <a:solidFill>
              <a:srgbClr val="ff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94" name=""/>
          <p:cNvSpPr/>
          <p:nvPr/>
        </p:nvSpPr>
        <p:spPr>
          <a:xfrm>
            <a:off x="5527800" y="973080"/>
            <a:ext cx="339480" cy="304920"/>
          </a:xfrm>
          <a:custGeom>
            <a:avLst/>
            <a:gdLst/>
            <a:ahLst/>
            <a:rect l="l" t="t" r="r" b="b"/>
            <a:pathLst>
              <a:path w="944" h="844">
                <a:moveTo>
                  <a:pt x="15354" y="2704"/>
                </a:moveTo>
                <a:cubicBezTo>
                  <a:pt x="15354" y="2985"/>
                  <a:pt x="15354" y="3266"/>
                  <a:pt x="15354" y="3547"/>
                </a:cubicBezTo>
              </a:path>
              <a:path w="944" h="844">
                <a:moveTo>
                  <a:pt x="15726" y="3001"/>
                </a:moveTo>
                <a:cubicBezTo>
                  <a:pt x="15741" y="2928"/>
                  <a:pt x="15773" y="2923"/>
                  <a:pt x="15825" y="2877"/>
                </a:cubicBezTo>
                <a:cubicBezTo>
                  <a:pt x="15842" y="2861"/>
                  <a:pt x="15896" y="2830"/>
                  <a:pt x="15900" y="2828"/>
                </a:cubicBezTo>
                <a:cubicBezTo>
                  <a:pt x="15908" y="2828"/>
                  <a:pt x="15917" y="2828"/>
                  <a:pt x="15925" y="2828"/>
                </a:cubicBezTo>
                <a:cubicBezTo>
                  <a:pt x="15967" y="2849"/>
                  <a:pt x="16024" y="2951"/>
                  <a:pt x="16049" y="3001"/>
                </a:cubicBezTo>
                <a:cubicBezTo>
                  <a:pt x="16070" y="3042"/>
                  <a:pt x="16073" y="3074"/>
                  <a:pt x="16073" y="3125"/>
                </a:cubicBezTo>
                <a:cubicBezTo>
                  <a:pt x="16073" y="3210"/>
                  <a:pt x="15993" y="3238"/>
                  <a:pt x="15949" y="3299"/>
                </a:cubicBezTo>
                <a:cubicBezTo>
                  <a:pt x="15917" y="3343"/>
                  <a:pt x="15847" y="3399"/>
                  <a:pt x="15825" y="3448"/>
                </a:cubicBezTo>
                <a:cubicBezTo>
                  <a:pt x="15819" y="3461"/>
                  <a:pt x="15771" y="3532"/>
                  <a:pt x="15751" y="3547"/>
                </a:cubicBezTo>
                <a:cubicBezTo>
                  <a:pt x="15743" y="3547"/>
                  <a:pt x="15734" y="3547"/>
                  <a:pt x="15726" y="3547"/>
                </a:cubicBezTo>
                <a:cubicBezTo>
                  <a:pt x="15839" y="3547"/>
                  <a:pt x="15940" y="3537"/>
                  <a:pt x="16049" y="3522"/>
                </a:cubicBezTo>
                <a:cubicBezTo>
                  <a:pt x="16124" y="3512"/>
                  <a:pt x="16183" y="3518"/>
                  <a:pt x="16247" y="3497"/>
                </a:cubicBezTo>
                <a:cubicBezTo>
                  <a:pt x="16272" y="3497"/>
                  <a:pt x="16280" y="3497"/>
                  <a:pt x="16297" y="3497"/>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5268960" y="1438200"/>
            <a:ext cx="231840" cy="463680"/>
          </a:xfrm>
          <a:custGeom>
            <a:avLst/>
            <a:gdLst/>
            <a:ahLst/>
            <a:rect l="l" t="t" r="r" b="b"/>
            <a:pathLst>
              <a:path w="646" h="1290">
                <a:moveTo>
                  <a:pt x="14635" y="4986"/>
                </a:moveTo>
                <a:cubicBezTo>
                  <a:pt x="14675" y="5065"/>
                  <a:pt x="14754" y="5158"/>
                  <a:pt x="14784" y="5234"/>
                </a:cubicBezTo>
                <a:cubicBezTo>
                  <a:pt x="14784" y="5259"/>
                  <a:pt x="14784" y="5267"/>
                  <a:pt x="14784" y="5283"/>
                </a:cubicBezTo>
                <a:cubicBezTo>
                  <a:pt x="14863" y="5163"/>
                  <a:pt x="14934" y="5000"/>
                  <a:pt x="14982" y="4862"/>
                </a:cubicBezTo>
                <a:cubicBezTo>
                  <a:pt x="15071" y="4607"/>
                  <a:pt x="15170" y="4345"/>
                  <a:pt x="15230" y="4093"/>
                </a:cubicBezTo>
                <a:cubicBezTo>
                  <a:pt x="15250" y="4032"/>
                  <a:pt x="15248" y="4017"/>
                  <a:pt x="15280" y="3994"/>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3867120" y="2598840"/>
            <a:ext cx="133560" cy="295200"/>
          </a:xfrm>
          <a:custGeom>
            <a:avLst/>
            <a:gdLst/>
            <a:ahLst/>
            <a:rect l="l" t="t" r="r" b="b"/>
            <a:pathLst>
              <a:path w="373" h="820">
                <a:moveTo>
                  <a:pt x="10815" y="7441"/>
                </a:moveTo>
                <a:cubicBezTo>
                  <a:pt x="10815" y="7516"/>
                  <a:pt x="10833" y="7607"/>
                  <a:pt x="10790" y="7665"/>
                </a:cubicBezTo>
                <a:cubicBezTo>
                  <a:pt x="10760" y="7694"/>
                  <a:pt x="10748" y="7708"/>
                  <a:pt x="10740" y="7739"/>
                </a:cubicBezTo>
                <a:cubicBezTo>
                  <a:pt x="10848" y="7739"/>
                  <a:pt x="10955" y="7739"/>
                  <a:pt x="11063" y="7739"/>
                </a:cubicBezTo>
              </a:path>
              <a:path w="373" h="820">
                <a:moveTo>
                  <a:pt x="11112" y="7218"/>
                </a:moveTo>
                <a:cubicBezTo>
                  <a:pt x="11112" y="7491"/>
                  <a:pt x="11112" y="7764"/>
                  <a:pt x="11112" y="8037"/>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4152960" y="2687760"/>
            <a:ext cx="125280" cy="142920"/>
          </a:xfrm>
          <a:custGeom>
            <a:avLst/>
            <a:gdLst/>
            <a:ahLst/>
            <a:rect l="l" t="t" r="r" b="b"/>
            <a:pathLst>
              <a:path w="348" h="398">
                <a:moveTo>
                  <a:pt x="11633" y="7466"/>
                </a:moveTo>
                <a:cubicBezTo>
                  <a:pt x="11633" y="7598"/>
                  <a:pt x="11633" y="7731"/>
                  <a:pt x="11633" y="7863"/>
                </a:cubicBezTo>
              </a:path>
              <a:path w="348" h="398">
                <a:moveTo>
                  <a:pt x="11534" y="7590"/>
                </a:moveTo>
                <a:cubicBezTo>
                  <a:pt x="11650" y="7590"/>
                  <a:pt x="11765" y="7590"/>
                  <a:pt x="11881" y="7590"/>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4473720" y="2660760"/>
            <a:ext cx="1440" cy="196920"/>
          </a:xfrm>
          <a:custGeom>
            <a:avLst/>
            <a:gdLst/>
            <a:ahLst/>
            <a:rect l="l" t="t" r="r" b="b"/>
            <a:pathLst>
              <a:path w="1" h="547">
                <a:moveTo>
                  <a:pt x="12427" y="7392"/>
                </a:moveTo>
                <a:cubicBezTo>
                  <a:pt x="12427" y="7574"/>
                  <a:pt x="12427" y="7756"/>
                  <a:pt x="12427" y="7938"/>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4670280" y="2652840"/>
            <a:ext cx="108000" cy="222120"/>
          </a:xfrm>
          <a:custGeom>
            <a:avLst/>
            <a:gdLst/>
            <a:ahLst/>
            <a:rect l="l" t="t" r="r" b="b"/>
            <a:pathLst>
              <a:path w="299" h="621">
                <a:moveTo>
                  <a:pt x="12998" y="7441"/>
                </a:moveTo>
                <a:cubicBezTo>
                  <a:pt x="13032" y="7416"/>
                  <a:pt x="13060" y="7408"/>
                  <a:pt x="13097" y="7392"/>
                </a:cubicBezTo>
                <a:cubicBezTo>
                  <a:pt x="13149" y="7369"/>
                  <a:pt x="13167" y="7367"/>
                  <a:pt x="13221" y="7367"/>
                </a:cubicBezTo>
                <a:cubicBezTo>
                  <a:pt x="13246" y="7367"/>
                  <a:pt x="13254" y="7367"/>
                  <a:pt x="13271" y="7367"/>
                </a:cubicBezTo>
                <a:cubicBezTo>
                  <a:pt x="13271" y="7430"/>
                  <a:pt x="13291" y="7539"/>
                  <a:pt x="13246" y="7590"/>
                </a:cubicBezTo>
                <a:cubicBezTo>
                  <a:pt x="13213" y="7628"/>
                  <a:pt x="13178" y="7674"/>
                  <a:pt x="13146" y="7714"/>
                </a:cubicBezTo>
                <a:cubicBezTo>
                  <a:pt x="13105" y="7766"/>
                  <a:pt x="13042" y="7780"/>
                  <a:pt x="13022" y="7838"/>
                </a:cubicBezTo>
                <a:cubicBezTo>
                  <a:pt x="13010" y="7873"/>
                  <a:pt x="12979" y="7863"/>
                  <a:pt x="12973" y="7913"/>
                </a:cubicBezTo>
                <a:cubicBezTo>
                  <a:pt x="12970" y="7937"/>
                  <a:pt x="12973" y="7963"/>
                  <a:pt x="12973" y="7987"/>
                </a:cubicBezTo>
                <a:cubicBezTo>
                  <a:pt x="13015" y="7945"/>
                  <a:pt x="13032" y="7960"/>
                  <a:pt x="13072" y="7938"/>
                </a:cubicBezTo>
                <a:cubicBezTo>
                  <a:pt x="13113" y="7915"/>
                  <a:pt x="13120" y="7913"/>
                  <a:pt x="13171" y="7913"/>
                </a:cubicBezTo>
                <a:cubicBezTo>
                  <a:pt x="13196" y="7913"/>
                  <a:pt x="13221" y="7913"/>
                  <a:pt x="13246" y="7913"/>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4938840" y="2741760"/>
            <a:ext cx="98280" cy="98280"/>
          </a:xfrm>
          <a:custGeom>
            <a:avLst/>
            <a:gdLst/>
            <a:ahLst/>
            <a:rect l="l" t="t" r="r" b="b"/>
            <a:pathLst>
              <a:path w="274" h="274">
                <a:moveTo>
                  <a:pt x="13742" y="7640"/>
                </a:moveTo>
                <a:cubicBezTo>
                  <a:pt x="13757" y="7596"/>
                  <a:pt x="13813" y="7615"/>
                  <a:pt x="13866" y="7615"/>
                </a:cubicBezTo>
                <a:cubicBezTo>
                  <a:pt x="13907" y="7615"/>
                  <a:pt x="13949" y="7615"/>
                  <a:pt x="13990" y="7615"/>
                </a:cubicBezTo>
              </a:path>
              <a:path w="274" h="274">
                <a:moveTo>
                  <a:pt x="13717" y="7813"/>
                </a:moveTo>
                <a:cubicBezTo>
                  <a:pt x="13755" y="7822"/>
                  <a:pt x="13786" y="7836"/>
                  <a:pt x="13816" y="7863"/>
                </a:cubicBezTo>
                <a:cubicBezTo>
                  <a:pt x="13839" y="7886"/>
                  <a:pt x="13843" y="7894"/>
                  <a:pt x="13866" y="7888"/>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5205240" y="2714760"/>
            <a:ext cx="1800" cy="295200"/>
          </a:xfrm>
          <a:custGeom>
            <a:avLst/>
            <a:gdLst/>
            <a:ahLst/>
            <a:rect l="l" t="t" r="r" b="b"/>
            <a:pathLst>
              <a:path w="1" h="819">
                <a:moveTo>
                  <a:pt x="14461" y="7541"/>
                </a:moveTo>
                <a:cubicBezTo>
                  <a:pt x="14461" y="7814"/>
                  <a:pt x="14461" y="8086"/>
                  <a:pt x="14461" y="8359"/>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5384880" y="2678040"/>
            <a:ext cx="115920" cy="223920"/>
          </a:xfrm>
          <a:custGeom>
            <a:avLst/>
            <a:gdLst/>
            <a:ahLst/>
            <a:rect l="l" t="t" r="r" b="b"/>
            <a:pathLst>
              <a:path w="324" h="622">
                <a:moveTo>
                  <a:pt x="15081" y="7441"/>
                </a:moveTo>
                <a:cubicBezTo>
                  <a:pt x="15081" y="7518"/>
                  <a:pt x="15031" y="7527"/>
                  <a:pt x="15007" y="7590"/>
                </a:cubicBezTo>
                <a:cubicBezTo>
                  <a:pt x="14991" y="7631"/>
                  <a:pt x="14969" y="7692"/>
                  <a:pt x="14957" y="7739"/>
                </a:cubicBezTo>
                <a:cubicBezTo>
                  <a:pt x="14939" y="7811"/>
                  <a:pt x="14957" y="7912"/>
                  <a:pt x="14957" y="7987"/>
                </a:cubicBezTo>
                <a:cubicBezTo>
                  <a:pt x="15020" y="7987"/>
                  <a:pt x="15225" y="8021"/>
                  <a:pt x="15255" y="7962"/>
                </a:cubicBezTo>
                <a:cubicBezTo>
                  <a:pt x="15271" y="7930"/>
                  <a:pt x="15280" y="7938"/>
                  <a:pt x="15280" y="7888"/>
                </a:cubicBezTo>
                <a:cubicBezTo>
                  <a:pt x="15280" y="7863"/>
                  <a:pt x="15280" y="7855"/>
                  <a:pt x="15280" y="7838"/>
                </a:cubicBezTo>
                <a:cubicBezTo>
                  <a:pt x="15225" y="7838"/>
                  <a:pt x="15204" y="7831"/>
                  <a:pt x="15180" y="7863"/>
                </a:cubicBezTo>
                <a:cubicBezTo>
                  <a:pt x="15148" y="7907"/>
                  <a:pt x="15131" y="7906"/>
                  <a:pt x="15131" y="7962"/>
                </a:cubicBezTo>
                <a:cubicBezTo>
                  <a:pt x="15131" y="7995"/>
                  <a:pt x="15131" y="8029"/>
                  <a:pt x="15131" y="8062"/>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1054080" y="3081240"/>
            <a:ext cx="268200" cy="204840"/>
          </a:xfrm>
          <a:custGeom>
            <a:avLst/>
            <a:gdLst/>
            <a:ahLst/>
            <a:rect l="l" t="t" r="r" b="b"/>
            <a:pathLst>
              <a:path w="745" h="571">
                <a:moveTo>
                  <a:pt x="2927" y="8706"/>
                </a:moveTo>
                <a:cubicBezTo>
                  <a:pt x="3026" y="8706"/>
                  <a:pt x="3126" y="8706"/>
                  <a:pt x="3225" y="8706"/>
                </a:cubicBezTo>
              </a:path>
              <a:path w="745" h="571">
                <a:moveTo>
                  <a:pt x="3324" y="8582"/>
                </a:moveTo>
                <a:cubicBezTo>
                  <a:pt x="3324" y="8655"/>
                  <a:pt x="3316" y="8690"/>
                  <a:pt x="3299" y="8756"/>
                </a:cubicBezTo>
                <a:cubicBezTo>
                  <a:pt x="3294" y="8777"/>
                  <a:pt x="3299" y="8808"/>
                  <a:pt x="3299" y="8830"/>
                </a:cubicBezTo>
                <a:cubicBezTo>
                  <a:pt x="3396" y="8830"/>
                  <a:pt x="3549" y="8868"/>
                  <a:pt x="3597" y="8781"/>
                </a:cubicBezTo>
                <a:cubicBezTo>
                  <a:pt x="3627" y="8726"/>
                  <a:pt x="3655" y="8659"/>
                  <a:pt x="3671" y="8607"/>
                </a:cubicBezTo>
                <a:cubicBezTo>
                  <a:pt x="3684" y="8563"/>
                  <a:pt x="3671" y="8546"/>
                  <a:pt x="3671" y="8607"/>
                </a:cubicBezTo>
                <a:cubicBezTo>
                  <a:pt x="3671" y="8781"/>
                  <a:pt x="3671" y="8954"/>
                  <a:pt x="3671" y="9128"/>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5367240" y="3268800"/>
            <a:ext cx="223920" cy="196560"/>
          </a:xfrm>
          <a:custGeom>
            <a:avLst/>
            <a:gdLst/>
            <a:ahLst/>
            <a:rect l="l" t="t" r="r" b="b"/>
            <a:pathLst>
              <a:path w="621" h="546">
                <a:moveTo>
                  <a:pt x="14908" y="9451"/>
                </a:moveTo>
                <a:cubicBezTo>
                  <a:pt x="14908" y="9509"/>
                  <a:pt x="14908" y="9566"/>
                  <a:pt x="14908" y="9624"/>
                </a:cubicBezTo>
                <a:cubicBezTo>
                  <a:pt x="14977" y="9624"/>
                  <a:pt x="15072" y="9640"/>
                  <a:pt x="15131" y="9599"/>
                </a:cubicBezTo>
                <a:cubicBezTo>
                  <a:pt x="15203" y="9549"/>
                  <a:pt x="15276" y="9464"/>
                  <a:pt x="15329" y="9401"/>
                </a:cubicBezTo>
                <a:cubicBezTo>
                  <a:pt x="15368" y="9354"/>
                  <a:pt x="15369" y="9359"/>
                  <a:pt x="15379" y="9302"/>
                </a:cubicBezTo>
                <a:cubicBezTo>
                  <a:pt x="15431" y="9302"/>
                  <a:pt x="15429" y="9304"/>
                  <a:pt x="15429" y="9252"/>
                </a:cubicBezTo>
                <a:cubicBezTo>
                  <a:pt x="15429" y="9213"/>
                  <a:pt x="15498" y="9123"/>
                  <a:pt x="15528" y="9079"/>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5072040" y="4633920"/>
            <a:ext cx="241200" cy="509760"/>
          </a:xfrm>
          <a:custGeom>
            <a:avLst/>
            <a:gdLst/>
            <a:ahLst/>
            <a:rect l="l" t="t" r="r" b="b"/>
            <a:pathLst>
              <a:path w="671" h="1415">
                <a:moveTo>
                  <a:pt x="14089" y="13915"/>
                </a:moveTo>
                <a:cubicBezTo>
                  <a:pt x="14101" y="13989"/>
                  <a:pt x="14112" y="14072"/>
                  <a:pt x="14139" y="14139"/>
                </a:cubicBezTo>
                <a:cubicBezTo>
                  <a:pt x="14161" y="14194"/>
                  <a:pt x="14183" y="14192"/>
                  <a:pt x="14188" y="14263"/>
                </a:cubicBezTo>
                <a:cubicBezTo>
                  <a:pt x="14188" y="14271"/>
                  <a:pt x="14188" y="14280"/>
                  <a:pt x="14188" y="14288"/>
                </a:cubicBezTo>
                <a:cubicBezTo>
                  <a:pt x="14280" y="14262"/>
                  <a:pt x="14247" y="14246"/>
                  <a:pt x="14288" y="14139"/>
                </a:cubicBezTo>
                <a:cubicBezTo>
                  <a:pt x="14402" y="13844"/>
                  <a:pt x="14456" y="13538"/>
                  <a:pt x="14585" y="13246"/>
                </a:cubicBezTo>
                <a:cubicBezTo>
                  <a:pt x="14612" y="13186"/>
                  <a:pt x="14678" y="12929"/>
                  <a:pt x="14734" y="12874"/>
                </a:cubicBezTo>
                <a:cubicBezTo>
                  <a:pt x="14742" y="12874"/>
                  <a:pt x="14751" y="12874"/>
                  <a:pt x="14759" y="12874"/>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2455920" y="4795920"/>
            <a:ext cx="500040" cy="330120"/>
          </a:xfrm>
          <a:custGeom>
            <a:avLst/>
            <a:gdLst/>
            <a:ahLst/>
            <a:rect l="l" t="t" r="r" b="b"/>
            <a:pathLst>
              <a:path w="1390" h="919">
                <a:moveTo>
                  <a:pt x="6821" y="13444"/>
                </a:moveTo>
                <a:cubicBezTo>
                  <a:pt x="6917" y="13444"/>
                  <a:pt x="7000" y="13465"/>
                  <a:pt x="7094" y="13469"/>
                </a:cubicBezTo>
                <a:cubicBezTo>
                  <a:pt x="7168" y="13472"/>
                  <a:pt x="7243" y="13469"/>
                  <a:pt x="7317" y="13469"/>
                </a:cubicBezTo>
              </a:path>
              <a:path w="1390" h="919">
                <a:moveTo>
                  <a:pt x="8062" y="13345"/>
                </a:moveTo>
                <a:cubicBezTo>
                  <a:pt x="7987" y="13345"/>
                  <a:pt x="7948" y="13340"/>
                  <a:pt x="7888" y="13320"/>
                </a:cubicBezTo>
                <a:cubicBezTo>
                  <a:pt x="7840" y="13304"/>
                  <a:pt x="7781" y="13326"/>
                  <a:pt x="7764" y="13345"/>
                </a:cubicBezTo>
                <a:cubicBezTo>
                  <a:pt x="7728" y="13387"/>
                  <a:pt x="7735" y="13406"/>
                  <a:pt x="7714" y="13444"/>
                </a:cubicBezTo>
                <a:cubicBezTo>
                  <a:pt x="7691" y="13485"/>
                  <a:pt x="7689" y="13492"/>
                  <a:pt x="7689" y="13543"/>
                </a:cubicBezTo>
                <a:cubicBezTo>
                  <a:pt x="7689" y="13551"/>
                  <a:pt x="7689" y="13560"/>
                  <a:pt x="7689" y="13568"/>
                </a:cubicBezTo>
                <a:cubicBezTo>
                  <a:pt x="7782" y="13568"/>
                  <a:pt x="8089" y="13609"/>
                  <a:pt x="8111" y="13543"/>
                </a:cubicBezTo>
                <a:cubicBezTo>
                  <a:pt x="8111" y="13684"/>
                  <a:pt x="8111" y="13824"/>
                  <a:pt x="8111" y="13965"/>
                </a:cubicBezTo>
              </a:path>
              <a:path w="1390" h="919">
                <a:moveTo>
                  <a:pt x="8062" y="13395"/>
                </a:moveTo>
                <a:cubicBezTo>
                  <a:pt x="8062" y="13444"/>
                  <a:pt x="8062" y="13494"/>
                  <a:pt x="8062" y="13543"/>
                </a:cubicBezTo>
              </a:path>
              <a:path w="1390" h="919">
                <a:moveTo>
                  <a:pt x="7987" y="14188"/>
                </a:moveTo>
                <a:cubicBezTo>
                  <a:pt x="7987" y="14213"/>
                  <a:pt x="7987" y="14221"/>
                  <a:pt x="7987" y="14238"/>
                </a:cubicBezTo>
                <a:cubicBezTo>
                  <a:pt x="8061" y="14238"/>
                  <a:pt x="8136" y="14238"/>
                  <a:pt x="8210" y="14238"/>
                </a:cubicBezTo>
                <a:cubicBezTo>
                  <a:pt x="8210" y="14188"/>
                  <a:pt x="8196" y="14183"/>
                  <a:pt x="8186" y="14163"/>
                </a:cubicBezTo>
                <a:cubicBezTo>
                  <a:pt x="8173" y="14137"/>
                  <a:pt x="8153" y="14119"/>
                  <a:pt x="8111" y="14114"/>
                </a:cubicBezTo>
                <a:cubicBezTo>
                  <a:pt x="8065" y="14109"/>
                  <a:pt x="8024" y="14103"/>
                  <a:pt x="8012" y="14139"/>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1133640" y="4803840"/>
            <a:ext cx="403200" cy="223920"/>
          </a:xfrm>
          <a:custGeom>
            <a:avLst/>
            <a:gdLst/>
            <a:ahLst/>
            <a:rect l="l" t="t" r="r" b="b"/>
            <a:pathLst>
              <a:path w="1117" h="621">
                <a:moveTo>
                  <a:pt x="3150" y="13568"/>
                </a:moveTo>
                <a:cubicBezTo>
                  <a:pt x="3291" y="13568"/>
                  <a:pt x="3431" y="13568"/>
                  <a:pt x="3572" y="13568"/>
                </a:cubicBezTo>
              </a:path>
              <a:path w="1117" h="621">
                <a:moveTo>
                  <a:pt x="4167" y="13419"/>
                </a:moveTo>
                <a:cubicBezTo>
                  <a:pt x="4167" y="13365"/>
                  <a:pt x="4155" y="13361"/>
                  <a:pt x="4093" y="13345"/>
                </a:cubicBezTo>
                <a:cubicBezTo>
                  <a:pt x="4065" y="13338"/>
                  <a:pt x="3932" y="13330"/>
                  <a:pt x="3919" y="13370"/>
                </a:cubicBezTo>
                <a:cubicBezTo>
                  <a:pt x="3906" y="13411"/>
                  <a:pt x="3894" y="13449"/>
                  <a:pt x="3894" y="13494"/>
                </a:cubicBezTo>
                <a:cubicBezTo>
                  <a:pt x="3894" y="13528"/>
                  <a:pt x="3881" y="13574"/>
                  <a:pt x="3919" y="13593"/>
                </a:cubicBezTo>
                <a:cubicBezTo>
                  <a:pt x="3960" y="13614"/>
                  <a:pt x="4237" y="13608"/>
                  <a:pt x="4242" y="13568"/>
                </a:cubicBezTo>
                <a:cubicBezTo>
                  <a:pt x="4242" y="13560"/>
                  <a:pt x="4242" y="13551"/>
                  <a:pt x="4242" y="13543"/>
                </a:cubicBezTo>
                <a:cubicBezTo>
                  <a:pt x="4242" y="13648"/>
                  <a:pt x="4253" y="13740"/>
                  <a:pt x="4266" y="13841"/>
                </a:cubicBezTo>
                <a:cubicBezTo>
                  <a:pt x="4271" y="13881"/>
                  <a:pt x="4266" y="13925"/>
                  <a:pt x="4266" y="13965"/>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2187720" y="5180040"/>
            <a:ext cx="169560" cy="241200"/>
          </a:xfrm>
          <a:custGeom>
            <a:avLst/>
            <a:gdLst/>
            <a:ahLst/>
            <a:rect l="l" t="t" r="r" b="b"/>
            <a:pathLst>
              <a:path w="472" h="670">
                <a:moveTo>
                  <a:pt x="6226" y="14387"/>
                </a:moveTo>
                <a:cubicBezTo>
                  <a:pt x="6263" y="14515"/>
                  <a:pt x="6349" y="14632"/>
                  <a:pt x="6400" y="14759"/>
                </a:cubicBezTo>
                <a:cubicBezTo>
                  <a:pt x="6433" y="14841"/>
                  <a:pt x="6515" y="14944"/>
                  <a:pt x="6524" y="15032"/>
                </a:cubicBezTo>
                <a:cubicBezTo>
                  <a:pt x="6524" y="15040"/>
                  <a:pt x="6524" y="15048"/>
                  <a:pt x="6524" y="15056"/>
                </a:cubicBezTo>
              </a:path>
              <a:path w="472" h="670">
                <a:moveTo>
                  <a:pt x="6548" y="14486"/>
                </a:moveTo>
                <a:cubicBezTo>
                  <a:pt x="6512" y="14530"/>
                  <a:pt x="6466" y="14585"/>
                  <a:pt x="6449" y="14635"/>
                </a:cubicBezTo>
                <a:cubicBezTo>
                  <a:pt x="6449" y="14643"/>
                  <a:pt x="6449" y="14652"/>
                  <a:pt x="6449" y="14660"/>
                </a:cubicBezTo>
                <a:cubicBezTo>
                  <a:pt x="6430" y="14666"/>
                  <a:pt x="6389" y="14703"/>
                  <a:pt x="6375" y="14734"/>
                </a:cubicBezTo>
                <a:cubicBezTo>
                  <a:pt x="6364" y="14758"/>
                  <a:pt x="6357" y="14782"/>
                  <a:pt x="6350" y="14808"/>
                </a:cubicBezTo>
                <a:cubicBezTo>
                  <a:pt x="6342" y="14811"/>
                  <a:pt x="6262" y="14841"/>
                  <a:pt x="6251" y="14858"/>
                </a:cubicBezTo>
                <a:cubicBezTo>
                  <a:pt x="6218" y="14908"/>
                  <a:pt x="6179" y="14992"/>
                  <a:pt x="6127" y="15032"/>
                </a:cubicBezTo>
                <a:cubicBezTo>
                  <a:pt x="6102" y="15032"/>
                  <a:pt x="6094" y="15032"/>
                  <a:pt x="6077" y="15032"/>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1830240" y="5214960"/>
            <a:ext cx="179640" cy="152280"/>
          </a:xfrm>
          <a:custGeom>
            <a:avLst/>
            <a:gdLst/>
            <a:ahLst/>
            <a:rect l="l" t="t" r="r" b="b"/>
            <a:pathLst>
              <a:path w="497" h="423">
                <a:moveTo>
                  <a:pt x="5085" y="14511"/>
                </a:moveTo>
                <a:cubicBezTo>
                  <a:pt x="5098" y="14471"/>
                  <a:pt x="5133" y="14486"/>
                  <a:pt x="5184" y="14486"/>
                </a:cubicBezTo>
                <a:cubicBezTo>
                  <a:pt x="5300" y="14486"/>
                  <a:pt x="5415" y="14486"/>
                  <a:pt x="5531" y="14486"/>
                </a:cubicBezTo>
              </a:path>
              <a:path w="497" h="423">
                <a:moveTo>
                  <a:pt x="5184" y="14833"/>
                </a:moveTo>
                <a:cubicBezTo>
                  <a:pt x="5283" y="14833"/>
                  <a:pt x="5366" y="14844"/>
                  <a:pt x="5457" y="14883"/>
                </a:cubicBezTo>
                <a:cubicBezTo>
                  <a:pt x="5507" y="14905"/>
                  <a:pt x="5527" y="14908"/>
                  <a:pt x="5581" y="14908"/>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1660680" y="5241960"/>
            <a:ext cx="1440" cy="276120"/>
          </a:xfrm>
          <a:custGeom>
            <a:avLst/>
            <a:gdLst/>
            <a:ahLst/>
            <a:rect l="l" t="t" r="r" b="b"/>
            <a:pathLst>
              <a:path w="1" h="770">
                <a:moveTo>
                  <a:pt x="4614" y="14560"/>
                </a:moveTo>
                <a:cubicBezTo>
                  <a:pt x="4614" y="14816"/>
                  <a:pt x="4614" y="15073"/>
                  <a:pt x="4614" y="15329"/>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1455840" y="5241960"/>
            <a:ext cx="1440" cy="268200"/>
          </a:xfrm>
          <a:custGeom>
            <a:avLst/>
            <a:gdLst/>
            <a:ahLst/>
            <a:rect l="l" t="t" r="r" b="b"/>
            <a:pathLst>
              <a:path w="1" h="745">
                <a:moveTo>
                  <a:pt x="4043" y="14560"/>
                </a:moveTo>
                <a:cubicBezTo>
                  <a:pt x="4043" y="14808"/>
                  <a:pt x="4043" y="15056"/>
                  <a:pt x="4043" y="15304"/>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4054320" y="4384800"/>
            <a:ext cx="446400" cy="874440"/>
          </a:xfrm>
          <a:custGeom>
            <a:avLst/>
            <a:gdLst/>
            <a:ahLst/>
            <a:rect l="l" t="t" r="r" b="b"/>
            <a:pathLst>
              <a:path w="1242" h="2432">
                <a:moveTo>
                  <a:pt x="11832" y="12229"/>
                </a:moveTo>
                <a:cubicBezTo>
                  <a:pt x="11818" y="12311"/>
                  <a:pt x="11793" y="12394"/>
                  <a:pt x="11782" y="12477"/>
                </a:cubicBezTo>
                <a:cubicBezTo>
                  <a:pt x="11774" y="12532"/>
                  <a:pt x="11782" y="12594"/>
                  <a:pt x="11782" y="12650"/>
                </a:cubicBezTo>
              </a:path>
              <a:path w="1242" h="2432">
                <a:moveTo>
                  <a:pt x="12154" y="12179"/>
                </a:moveTo>
                <a:cubicBezTo>
                  <a:pt x="12154" y="12353"/>
                  <a:pt x="12154" y="12526"/>
                  <a:pt x="12154" y="12700"/>
                </a:cubicBezTo>
              </a:path>
              <a:path w="1242" h="2432">
                <a:moveTo>
                  <a:pt x="11410" y="13146"/>
                </a:moveTo>
                <a:cubicBezTo>
                  <a:pt x="11410" y="13262"/>
                  <a:pt x="11410" y="13378"/>
                  <a:pt x="11410" y="13494"/>
                </a:cubicBezTo>
              </a:path>
              <a:path w="1242" h="2432">
                <a:moveTo>
                  <a:pt x="11261" y="13295"/>
                </a:moveTo>
                <a:cubicBezTo>
                  <a:pt x="11360" y="13295"/>
                  <a:pt x="11460" y="13295"/>
                  <a:pt x="11559" y="13295"/>
                </a:cubicBezTo>
              </a:path>
              <a:path w="1242" h="2432">
                <a:moveTo>
                  <a:pt x="12254" y="13047"/>
                </a:moveTo>
                <a:cubicBezTo>
                  <a:pt x="12240" y="13005"/>
                  <a:pt x="12205" y="13022"/>
                  <a:pt x="12154" y="13022"/>
                </a:cubicBezTo>
                <a:cubicBezTo>
                  <a:pt x="12097" y="13022"/>
                  <a:pt x="12074" y="13016"/>
                  <a:pt x="12055" y="13072"/>
                </a:cubicBezTo>
                <a:cubicBezTo>
                  <a:pt x="12044" y="13105"/>
                  <a:pt x="12055" y="13161"/>
                  <a:pt x="12055" y="13196"/>
                </a:cubicBezTo>
                <a:cubicBezTo>
                  <a:pt x="12117" y="13196"/>
                  <a:pt x="12177" y="13207"/>
                  <a:pt x="12204" y="13171"/>
                </a:cubicBezTo>
                <a:cubicBezTo>
                  <a:pt x="12226" y="13142"/>
                  <a:pt x="12229" y="13036"/>
                  <a:pt x="12229" y="13072"/>
                </a:cubicBezTo>
                <a:cubicBezTo>
                  <a:pt x="12229" y="13221"/>
                  <a:pt x="12229" y="13370"/>
                  <a:pt x="12229" y="13519"/>
                </a:cubicBezTo>
              </a:path>
              <a:path w="1242" h="2432">
                <a:moveTo>
                  <a:pt x="11609" y="13816"/>
                </a:moveTo>
                <a:cubicBezTo>
                  <a:pt x="11865" y="13816"/>
                  <a:pt x="12122" y="13816"/>
                  <a:pt x="12378" y="13816"/>
                </a:cubicBezTo>
              </a:path>
              <a:path w="1242" h="2432">
                <a:moveTo>
                  <a:pt x="11832" y="14114"/>
                </a:moveTo>
                <a:cubicBezTo>
                  <a:pt x="11915" y="14114"/>
                  <a:pt x="11997" y="14114"/>
                  <a:pt x="12080" y="14114"/>
                </a:cubicBezTo>
                <a:cubicBezTo>
                  <a:pt x="12080" y="14170"/>
                  <a:pt x="12095" y="14267"/>
                  <a:pt x="12055" y="14312"/>
                </a:cubicBezTo>
                <a:cubicBezTo>
                  <a:pt x="11988" y="14387"/>
                  <a:pt x="11833" y="14467"/>
                  <a:pt x="11782" y="14536"/>
                </a:cubicBezTo>
                <a:cubicBezTo>
                  <a:pt x="11753" y="14576"/>
                  <a:pt x="11783" y="14602"/>
                  <a:pt x="11708" y="14610"/>
                </a:cubicBezTo>
                <a:cubicBezTo>
                  <a:pt x="11700" y="14610"/>
                  <a:pt x="11691" y="14610"/>
                  <a:pt x="11683" y="14610"/>
                </a:cubicBezTo>
                <a:cubicBezTo>
                  <a:pt x="11784" y="14610"/>
                  <a:pt x="11815" y="14589"/>
                  <a:pt x="11906" y="14560"/>
                </a:cubicBezTo>
                <a:cubicBezTo>
                  <a:pt x="11988" y="14534"/>
                  <a:pt x="12025" y="14511"/>
                  <a:pt x="12105" y="14511"/>
                </a:cubicBezTo>
                <a:cubicBezTo>
                  <a:pt x="12113" y="14511"/>
                  <a:pt x="12121" y="14511"/>
                  <a:pt x="12129" y="14511"/>
                </a:cubicBezTo>
              </a:path>
              <a:path w="1242" h="2432">
                <a:moveTo>
                  <a:pt x="12402" y="14039"/>
                </a:moveTo>
                <a:cubicBezTo>
                  <a:pt x="12341" y="14039"/>
                  <a:pt x="12335" y="14067"/>
                  <a:pt x="12303" y="14139"/>
                </a:cubicBezTo>
                <a:cubicBezTo>
                  <a:pt x="12282" y="14187"/>
                  <a:pt x="12259" y="14265"/>
                  <a:pt x="12254" y="14312"/>
                </a:cubicBezTo>
                <a:cubicBezTo>
                  <a:pt x="12250" y="14344"/>
                  <a:pt x="12254" y="14379"/>
                  <a:pt x="12254" y="14412"/>
                </a:cubicBezTo>
                <a:cubicBezTo>
                  <a:pt x="12337" y="14412"/>
                  <a:pt x="12419" y="14412"/>
                  <a:pt x="12502" y="14412"/>
                </a:cubicBezTo>
                <a:cubicBezTo>
                  <a:pt x="12502" y="14367"/>
                  <a:pt x="12526" y="14213"/>
                  <a:pt x="12477" y="14188"/>
                </a:cubicBezTo>
                <a:cubicBezTo>
                  <a:pt x="12445" y="14172"/>
                  <a:pt x="12452" y="14127"/>
                  <a:pt x="12427" y="14114"/>
                </a:cubicBezTo>
                <a:cubicBezTo>
                  <a:pt x="12419" y="14114"/>
                  <a:pt x="12410" y="14114"/>
                  <a:pt x="12402" y="14114"/>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928800" y="1625760"/>
            <a:ext cx="2135160" cy="61920"/>
          </a:xfrm>
          <a:custGeom>
            <a:avLst/>
            <a:gdLst/>
            <a:ahLst/>
            <a:rect l="l" t="t" r="r" b="b"/>
            <a:pathLst>
              <a:path w="5929" h="175">
                <a:moveTo>
                  <a:pt x="2604" y="4663"/>
                </a:moveTo>
                <a:cubicBezTo>
                  <a:pt x="2709" y="4619"/>
                  <a:pt x="2765" y="4584"/>
                  <a:pt x="2877" y="4564"/>
                </a:cubicBezTo>
                <a:cubicBezTo>
                  <a:pt x="3087" y="4526"/>
                  <a:pt x="3309" y="4517"/>
                  <a:pt x="3522" y="4514"/>
                </a:cubicBezTo>
                <a:cubicBezTo>
                  <a:pt x="3854" y="4509"/>
                  <a:pt x="4184" y="4510"/>
                  <a:pt x="4514" y="4539"/>
                </a:cubicBezTo>
                <a:cubicBezTo>
                  <a:pt x="4827" y="4566"/>
                  <a:pt x="5120" y="4661"/>
                  <a:pt x="5432" y="4688"/>
                </a:cubicBezTo>
                <a:cubicBezTo>
                  <a:pt x="5664" y="4708"/>
                  <a:pt x="5900" y="4682"/>
                  <a:pt x="6127" y="4663"/>
                </a:cubicBezTo>
                <a:cubicBezTo>
                  <a:pt x="6193" y="4657"/>
                  <a:pt x="6222" y="4661"/>
                  <a:pt x="6276" y="4638"/>
                </a:cubicBezTo>
                <a:cubicBezTo>
                  <a:pt x="6359" y="4603"/>
                  <a:pt x="6374" y="4594"/>
                  <a:pt x="6474" y="4589"/>
                </a:cubicBezTo>
                <a:cubicBezTo>
                  <a:pt x="7149" y="4558"/>
                  <a:pt x="7832" y="4589"/>
                  <a:pt x="8508" y="4589"/>
                </a:cubicBezTo>
              </a:path>
            </a:pathLst>
          </a:custGeom>
          <a:noFill/>
          <a:ln cap="rnd" w="34920">
            <a:solidFill>
              <a:srgbClr val="ff000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214" name=""/>
          <p:cNvSpPr/>
          <p:nvPr/>
        </p:nvSpPr>
        <p:spPr>
          <a:xfrm>
            <a:off x="1062000" y="3340080"/>
            <a:ext cx="1787400" cy="34920"/>
          </a:xfrm>
          <a:custGeom>
            <a:avLst/>
            <a:gdLst/>
            <a:ahLst/>
            <a:rect l="l" t="t" r="r" b="b"/>
            <a:pathLst>
              <a:path w="4962" h="100">
                <a:moveTo>
                  <a:pt x="2952" y="9277"/>
                </a:moveTo>
                <a:cubicBezTo>
                  <a:pt x="3838" y="9277"/>
                  <a:pt x="4723" y="9255"/>
                  <a:pt x="5606" y="9327"/>
                </a:cubicBezTo>
                <a:cubicBezTo>
                  <a:pt x="5906" y="9351"/>
                  <a:pt x="6198" y="9376"/>
                  <a:pt x="6499" y="9376"/>
                </a:cubicBezTo>
                <a:cubicBezTo>
                  <a:pt x="6917" y="9376"/>
                  <a:pt x="7363" y="9385"/>
                  <a:pt x="7764" y="9351"/>
                </a:cubicBezTo>
                <a:cubicBezTo>
                  <a:pt x="7813" y="9347"/>
                  <a:pt x="7864" y="9354"/>
                  <a:pt x="7913" y="9351"/>
                </a:cubicBezTo>
              </a:path>
            </a:pathLst>
          </a:custGeom>
          <a:noFill/>
          <a:ln cap="rnd" w="34920">
            <a:solidFill>
              <a:srgbClr val="ff000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15" name=""/>
          <p:cNvSpPr/>
          <p:nvPr/>
        </p:nvSpPr>
        <p:spPr>
          <a:xfrm>
            <a:off x="919080" y="5018040"/>
            <a:ext cx="2502000" cy="63720"/>
          </a:xfrm>
          <a:custGeom>
            <a:avLst/>
            <a:gdLst/>
            <a:ahLst/>
            <a:rect l="l" t="t" r="r" b="b"/>
            <a:pathLst>
              <a:path w="6946" h="175">
                <a:moveTo>
                  <a:pt x="2555" y="14089"/>
                </a:moveTo>
                <a:cubicBezTo>
                  <a:pt x="2771" y="14083"/>
                  <a:pt x="2984" y="14067"/>
                  <a:pt x="3200" y="14064"/>
                </a:cubicBezTo>
                <a:cubicBezTo>
                  <a:pt x="3604" y="14059"/>
                  <a:pt x="4043" y="14034"/>
                  <a:pt x="4440" y="14089"/>
                </a:cubicBezTo>
                <a:cubicBezTo>
                  <a:pt x="4557" y="14105"/>
                  <a:pt x="4666" y="14114"/>
                  <a:pt x="4787" y="14114"/>
                </a:cubicBezTo>
                <a:cubicBezTo>
                  <a:pt x="5030" y="14114"/>
                  <a:pt x="5219" y="14087"/>
                  <a:pt x="5457" y="14039"/>
                </a:cubicBezTo>
                <a:cubicBezTo>
                  <a:pt x="5745" y="13981"/>
                  <a:pt x="6032" y="13945"/>
                  <a:pt x="6325" y="13940"/>
                </a:cubicBezTo>
                <a:cubicBezTo>
                  <a:pt x="6899" y="13931"/>
                  <a:pt x="7505" y="13926"/>
                  <a:pt x="8062" y="13965"/>
                </a:cubicBezTo>
                <a:cubicBezTo>
                  <a:pt x="8537" y="13998"/>
                  <a:pt x="9023" y="13965"/>
                  <a:pt x="9500" y="13965"/>
                </a:cubicBezTo>
              </a:path>
            </a:pathLst>
          </a:custGeom>
          <a:noFill/>
          <a:ln cap="rnd" w="34920">
            <a:solidFill>
              <a:srgbClr val="ff0000"/>
            </a:solidFill>
            <a:round/>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177">
                                            <p:txEl>
                                              <p:pRg st="1" end="1"/>
                                            </p:txEl>
                                          </p:spTgt>
                                        </p:tgtEl>
                                        <p:attrNameLst>
                                          <p:attrName>style.visibility</p:attrName>
                                        </p:attrNameLst>
                                      </p:cBhvr>
                                      <p:to>
                                        <p:strVal val="visible"/>
                                      </p:to>
                                    </p:set>
                                    <p:anim calcmode="lin" valueType="num">
                                      <p:cBhvr additive="base">
                                        <p:cTn id="21" dur="500" fill="hold"/>
                                        <p:tgtEl>
                                          <p:spTgt spid="177">
                                            <p:txEl>
                                              <p:pRg st="1" end="1"/>
                                            </p:txEl>
                                          </p:spTgt>
                                        </p:tgtEl>
                                        <p:attrNameLst>
                                          <p:attrName>ppt_x</p:attrName>
                                        </p:attrNameLst>
                                      </p:cBhvr>
                                      <p:tavLst>
                                        <p:tav tm="0">
                                          <p:val>
                                            <p:strVal val="#ppt_x"/>
                                          </p:val>
                                        </p:tav>
                                        <p:tav tm="100000">
                                          <p:val>
                                            <p:strVal val="#ppt_x"/>
                                          </p:val>
                                        </p:tav>
                                      </p:tavLst>
                                    </p:anim>
                                    <p:anim calcmode="lin" valueType="num">
                                      <p:cBhvr additive="base">
                                        <p:cTn id="22" dur="500" fill="hold"/>
                                        <p:tgtEl>
                                          <p:spTgt spid="17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177">
                                            <p:txEl>
                                              <p:pRg st="4" end="4"/>
                                            </p:txEl>
                                          </p:spTgt>
                                        </p:tgtEl>
                                        <p:attrNameLst>
                                          <p:attrName>style.visibility</p:attrName>
                                        </p:attrNameLst>
                                      </p:cBhvr>
                                      <p:to>
                                        <p:strVal val="visible"/>
                                      </p:to>
                                    </p:set>
                                    <p:anim calcmode="lin" valueType="num">
                                      <p:cBhvr additive="base">
                                        <p:cTn id="27" dur="500" fill="hold"/>
                                        <p:tgtEl>
                                          <p:spTgt spid="177">
                                            <p:txEl>
                                              <p:pRg st="4" end="4"/>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17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177">
                                            <p:txEl>
                                              <p:pRg st="7" end="7"/>
                                            </p:txEl>
                                          </p:spTgt>
                                        </p:tgtEl>
                                        <p:attrNameLst>
                                          <p:attrName>style.visibility</p:attrName>
                                        </p:attrNameLst>
                                      </p:cBhvr>
                                      <p:to>
                                        <p:strVal val="visible"/>
                                      </p:to>
                                    </p:set>
                                    <p:anim calcmode="lin" valueType="num">
                                      <p:cBhvr additive="base">
                                        <p:cTn id="33" dur="500" fill="hold"/>
                                        <p:tgtEl>
                                          <p:spTgt spid="177">
                                            <p:txEl>
                                              <p:pRg st="7" end="7"/>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177">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p:nvPr>
        </p:nvSpPr>
        <p:spPr>
          <a:xfrm>
            <a:off x="380520" y="152280"/>
            <a:ext cx="7543800" cy="6400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Examples: Solving Addition Equation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4.) y + 25 = 140</a:t>
            </a:r>
            <a:r>
              <a:rPr b="0" lang="en-US" sz="36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5.) 15 + r = 125</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6.) 61 = z + 36</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1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1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20" name=""/>
          <p:cNvSpPr/>
          <p:nvPr/>
        </p:nvSpPr>
        <p:spPr>
          <a:xfrm>
            <a:off x="1581120" y="1339920"/>
            <a:ext cx="598680" cy="214200"/>
          </a:xfrm>
          <a:custGeom>
            <a:avLst/>
            <a:gdLst/>
            <a:ahLst/>
            <a:rect l="l" t="t" r="r" b="b"/>
            <a:pathLst>
              <a:path w="1663" h="596">
                <a:moveTo>
                  <a:pt x="4390" y="4217"/>
                </a:moveTo>
                <a:cubicBezTo>
                  <a:pt x="4390" y="4192"/>
                  <a:pt x="4390" y="4184"/>
                  <a:pt x="4390" y="4167"/>
                </a:cubicBezTo>
                <a:cubicBezTo>
                  <a:pt x="4487" y="4167"/>
                  <a:pt x="4569" y="4176"/>
                  <a:pt x="4663" y="4192"/>
                </a:cubicBezTo>
                <a:cubicBezTo>
                  <a:pt x="4696" y="4192"/>
                  <a:pt x="4713" y="4192"/>
                  <a:pt x="4738" y="4192"/>
                </a:cubicBezTo>
              </a:path>
              <a:path w="1663" h="596">
                <a:moveTo>
                  <a:pt x="5209" y="3944"/>
                </a:moveTo>
                <a:cubicBezTo>
                  <a:pt x="5209" y="3836"/>
                  <a:pt x="5256" y="3879"/>
                  <a:pt x="5358" y="3820"/>
                </a:cubicBezTo>
                <a:cubicBezTo>
                  <a:pt x="5404" y="3793"/>
                  <a:pt x="5423" y="3795"/>
                  <a:pt x="5482" y="3795"/>
                </a:cubicBezTo>
                <a:cubicBezTo>
                  <a:pt x="5490" y="3795"/>
                  <a:pt x="5499" y="3795"/>
                  <a:pt x="5507" y="3795"/>
                </a:cubicBezTo>
                <a:cubicBezTo>
                  <a:pt x="5507" y="3901"/>
                  <a:pt x="5504" y="3867"/>
                  <a:pt x="5432" y="3969"/>
                </a:cubicBezTo>
                <a:cubicBezTo>
                  <a:pt x="5376" y="4048"/>
                  <a:pt x="5289" y="4098"/>
                  <a:pt x="5234" y="4167"/>
                </a:cubicBezTo>
                <a:cubicBezTo>
                  <a:pt x="5213" y="4193"/>
                  <a:pt x="5146" y="4225"/>
                  <a:pt x="5135" y="4242"/>
                </a:cubicBezTo>
                <a:cubicBezTo>
                  <a:pt x="5123" y="4260"/>
                  <a:pt x="5116" y="4294"/>
                  <a:pt x="5110" y="4316"/>
                </a:cubicBezTo>
                <a:cubicBezTo>
                  <a:pt x="5254" y="4316"/>
                  <a:pt x="5480" y="4341"/>
                  <a:pt x="5581" y="4291"/>
                </a:cubicBezTo>
                <a:cubicBezTo>
                  <a:pt x="5589" y="4291"/>
                  <a:pt x="5598" y="4291"/>
                  <a:pt x="5606" y="4291"/>
                </a:cubicBezTo>
              </a:path>
              <a:path w="1663" h="596">
                <a:moveTo>
                  <a:pt x="5978" y="3770"/>
                </a:moveTo>
                <a:cubicBezTo>
                  <a:pt x="5951" y="3731"/>
                  <a:pt x="5868" y="3725"/>
                  <a:pt x="5804" y="3721"/>
                </a:cubicBezTo>
                <a:cubicBezTo>
                  <a:pt x="5780" y="3719"/>
                  <a:pt x="5754" y="3721"/>
                  <a:pt x="5730" y="3721"/>
                </a:cubicBezTo>
                <a:cubicBezTo>
                  <a:pt x="5730" y="3762"/>
                  <a:pt x="5713" y="3815"/>
                  <a:pt x="5755" y="3820"/>
                </a:cubicBezTo>
                <a:cubicBezTo>
                  <a:pt x="5831" y="3830"/>
                  <a:pt x="5917" y="3796"/>
                  <a:pt x="5978" y="3845"/>
                </a:cubicBezTo>
                <a:cubicBezTo>
                  <a:pt x="6012" y="3872"/>
                  <a:pt x="6049" y="3869"/>
                  <a:pt x="6052" y="3919"/>
                </a:cubicBezTo>
                <a:cubicBezTo>
                  <a:pt x="6057" y="3985"/>
                  <a:pt x="6052" y="4052"/>
                  <a:pt x="6052" y="4118"/>
                </a:cubicBezTo>
                <a:cubicBezTo>
                  <a:pt x="5961" y="4118"/>
                  <a:pt x="5870" y="4118"/>
                  <a:pt x="5779" y="4118"/>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2598840" y="1419120"/>
            <a:ext cx="115920" cy="9720"/>
          </a:xfrm>
          <a:custGeom>
            <a:avLst/>
            <a:gdLst/>
            <a:ahLst/>
            <a:rect l="l" t="t" r="r" b="b"/>
            <a:pathLst>
              <a:path w="324" h="26">
                <a:moveTo>
                  <a:pt x="7218" y="3969"/>
                </a:moveTo>
                <a:cubicBezTo>
                  <a:pt x="7255" y="3932"/>
                  <a:pt x="7344" y="3944"/>
                  <a:pt x="7417" y="3944"/>
                </a:cubicBezTo>
                <a:cubicBezTo>
                  <a:pt x="7458" y="3944"/>
                  <a:pt x="7500" y="3944"/>
                  <a:pt x="7541" y="3944"/>
                </a:cubicBezTo>
              </a:path>
            </a:pathLst>
          </a:custGeom>
          <a:noFill/>
          <a:ln cap="rnd" w="34920">
            <a:solidFill>
              <a:srgbClr val="ff0000"/>
            </a:solidFill>
            <a:round/>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22" name=""/>
          <p:cNvSpPr/>
          <p:nvPr/>
        </p:nvSpPr>
        <p:spPr>
          <a:xfrm>
            <a:off x="2990880" y="1339920"/>
            <a:ext cx="349200" cy="196920"/>
          </a:xfrm>
          <a:custGeom>
            <a:avLst/>
            <a:gdLst/>
            <a:ahLst/>
            <a:rect l="l" t="t" r="r" b="b"/>
            <a:pathLst>
              <a:path w="968" h="546">
                <a:moveTo>
                  <a:pt x="8334" y="3770"/>
                </a:moveTo>
                <a:cubicBezTo>
                  <a:pt x="8372" y="3743"/>
                  <a:pt x="8386" y="3746"/>
                  <a:pt x="8434" y="3746"/>
                </a:cubicBezTo>
                <a:cubicBezTo>
                  <a:pt x="8488" y="3746"/>
                  <a:pt x="8509" y="3759"/>
                  <a:pt x="8533" y="3770"/>
                </a:cubicBezTo>
                <a:cubicBezTo>
                  <a:pt x="8572" y="3789"/>
                  <a:pt x="8558" y="3815"/>
                  <a:pt x="8558" y="3870"/>
                </a:cubicBezTo>
                <a:cubicBezTo>
                  <a:pt x="8558" y="3964"/>
                  <a:pt x="8552" y="3979"/>
                  <a:pt x="8508" y="4043"/>
                </a:cubicBezTo>
                <a:cubicBezTo>
                  <a:pt x="8475" y="4091"/>
                  <a:pt x="8427" y="4163"/>
                  <a:pt x="8384" y="4192"/>
                </a:cubicBezTo>
                <a:cubicBezTo>
                  <a:pt x="8364" y="4205"/>
                  <a:pt x="8317" y="4228"/>
                  <a:pt x="8310" y="4242"/>
                </a:cubicBezTo>
                <a:cubicBezTo>
                  <a:pt x="8310" y="4250"/>
                  <a:pt x="8310" y="4258"/>
                  <a:pt x="8310" y="4266"/>
                </a:cubicBezTo>
                <a:cubicBezTo>
                  <a:pt x="8459" y="4266"/>
                  <a:pt x="8607" y="4266"/>
                  <a:pt x="8756" y="4266"/>
                </a:cubicBezTo>
              </a:path>
              <a:path w="968" h="546">
                <a:moveTo>
                  <a:pt x="9277" y="3721"/>
                </a:moveTo>
                <a:cubicBezTo>
                  <a:pt x="9200" y="3721"/>
                  <a:pt x="9143" y="3724"/>
                  <a:pt x="9079" y="3746"/>
                </a:cubicBezTo>
                <a:cubicBezTo>
                  <a:pt x="9032" y="3762"/>
                  <a:pt x="9029" y="3823"/>
                  <a:pt x="8979" y="3845"/>
                </a:cubicBezTo>
                <a:cubicBezTo>
                  <a:pt x="8943" y="3861"/>
                  <a:pt x="8954" y="3872"/>
                  <a:pt x="8954" y="3919"/>
                </a:cubicBezTo>
                <a:cubicBezTo>
                  <a:pt x="8954" y="3952"/>
                  <a:pt x="8954" y="3985"/>
                  <a:pt x="8954" y="4018"/>
                </a:cubicBezTo>
                <a:cubicBezTo>
                  <a:pt x="9019" y="4018"/>
                  <a:pt x="9241" y="3986"/>
                  <a:pt x="9277" y="4043"/>
                </a:cubicBezTo>
                <a:cubicBezTo>
                  <a:pt x="9322" y="4116"/>
                  <a:pt x="9246" y="4170"/>
                  <a:pt x="9203" y="4192"/>
                </a:cubicBezTo>
                <a:cubicBezTo>
                  <a:pt x="9081" y="4255"/>
                  <a:pt x="8989" y="4266"/>
                  <a:pt x="8855" y="4266"/>
                </a:cubicBezTo>
                <a:cubicBezTo>
                  <a:pt x="8814" y="4266"/>
                  <a:pt x="8806" y="4266"/>
                  <a:pt x="8781" y="4266"/>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1697040" y="1704960"/>
            <a:ext cx="142920" cy="260280"/>
          </a:xfrm>
          <a:custGeom>
            <a:avLst/>
            <a:gdLst/>
            <a:ahLst/>
            <a:rect l="l" t="t" r="r" b="b"/>
            <a:pathLst>
              <a:path w="398" h="720">
                <a:moveTo>
                  <a:pt x="4713" y="4862"/>
                </a:moveTo>
                <a:cubicBezTo>
                  <a:pt x="4769" y="4862"/>
                  <a:pt x="4824" y="4859"/>
                  <a:pt x="4862" y="4911"/>
                </a:cubicBezTo>
                <a:cubicBezTo>
                  <a:pt x="4895" y="4957"/>
                  <a:pt x="4914" y="4987"/>
                  <a:pt x="4961" y="5011"/>
                </a:cubicBezTo>
                <a:cubicBezTo>
                  <a:pt x="4974" y="5048"/>
                  <a:pt x="4986" y="5032"/>
                  <a:pt x="4986" y="5085"/>
                </a:cubicBezTo>
                <a:cubicBezTo>
                  <a:pt x="5021" y="5097"/>
                  <a:pt x="5011" y="5092"/>
                  <a:pt x="5011" y="5135"/>
                </a:cubicBezTo>
                <a:cubicBezTo>
                  <a:pt x="5035" y="5135"/>
                  <a:pt x="5043" y="5135"/>
                  <a:pt x="5035" y="5159"/>
                </a:cubicBezTo>
              </a:path>
              <a:path w="398" h="720">
                <a:moveTo>
                  <a:pt x="5110" y="4762"/>
                </a:moveTo>
                <a:cubicBezTo>
                  <a:pt x="5110" y="4716"/>
                  <a:pt x="5116" y="4920"/>
                  <a:pt x="5110" y="4961"/>
                </a:cubicBezTo>
                <a:cubicBezTo>
                  <a:pt x="5100" y="5029"/>
                  <a:pt x="5085" y="5170"/>
                  <a:pt x="5060" y="5234"/>
                </a:cubicBezTo>
                <a:cubicBezTo>
                  <a:pt x="5052" y="5255"/>
                  <a:pt x="5045" y="5313"/>
                  <a:pt x="5035" y="5333"/>
                </a:cubicBezTo>
                <a:cubicBezTo>
                  <a:pt x="5013" y="5374"/>
                  <a:pt x="4997" y="5413"/>
                  <a:pt x="4986" y="5457"/>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2313000" y="1795320"/>
            <a:ext cx="187200" cy="79560"/>
          </a:xfrm>
          <a:custGeom>
            <a:avLst/>
            <a:gdLst/>
            <a:ahLst/>
            <a:rect l="l" t="t" r="r" b="b"/>
            <a:pathLst>
              <a:path w="522" h="224">
                <a:moveTo>
                  <a:pt x="6424" y="5035"/>
                </a:moveTo>
                <a:cubicBezTo>
                  <a:pt x="6424" y="5011"/>
                  <a:pt x="6424" y="5002"/>
                  <a:pt x="6424" y="4986"/>
                </a:cubicBezTo>
                <a:cubicBezTo>
                  <a:pt x="6532" y="4986"/>
                  <a:pt x="6639" y="4986"/>
                  <a:pt x="6747" y="4986"/>
                </a:cubicBezTo>
              </a:path>
              <a:path w="522" h="224">
                <a:moveTo>
                  <a:pt x="6524" y="5184"/>
                </a:moveTo>
                <a:cubicBezTo>
                  <a:pt x="6590" y="5184"/>
                  <a:pt x="6926" y="5150"/>
                  <a:pt x="6945" y="5209"/>
                </a:cubicBezTo>
              </a:path>
            </a:pathLst>
          </a:custGeom>
          <a:noFill/>
          <a:ln cap="rnd" w="34920">
            <a:solidFill>
              <a:srgbClr val="ff00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25" name=""/>
          <p:cNvSpPr/>
          <p:nvPr/>
        </p:nvSpPr>
        <p:spPr>
          <a:xfrm>
            <a:off x="2803680" y="1795320"/>
            <a:ext cx="18720" cy="196920"/>
          </a:xfrm>
          <a:custGeom>
            <a:avLst/>
            <a:gdLst/>
            <a:ahLst/>
            <a:rect l="l" t="t" r="r" b="b"/>
            <a:pathLst>
              <a:path w="50" h="546">
                <a:moveTo>
                  <a:pt x="7789" y="4986"/>
                </a:moveTo>
                <a:cubicBezTo>
                  <a:pt x="7789" y="5113"/>
                  <a:pt x="7784" y="5233"/>
                  <a:pt x="7813" y="5358"/>
                </a:cubicBezTo>
                <a:cubicBezTo>
                  <a:pt x="7828" y="5423"/>
                  <a:pt x="7838" y="5465"/>
                  <a:pt x="7838" y="5531"/>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2973240" y="1830240"/>
            <a:ext cx="27000" cy="189000"/>
          </a:xfrm>
          <a:custGeom>
            <a:avLst/>
            <a:gdLst/>
            <a:ahLst/>
            <a:rect l="l" t="t" r="r" b="b"/>
            <a:pathLst>
              <a:path w="75" h="522">
                <a:moveTo>
                  <a:pt x="8260" y="5085"/>
                </a:moveTo>
                <a:cubicBezTo>
                  <a:pt x="8268" y="5085"/>
                  <a:pt x="8277" y="5085"/>
                  <a:pt x="8285" y="5085"/>
                </a:cubicBezTo>
                <a:cubicBezTo>
                  <a:pt x="8295" y="5145"/>
                  <a:pt x="8328" y="5200"/>
                  <a:pt x="8334" y="5259"/>
                </a:cubicBezTo>
                <a:cubicBezTo>
                  <a:pt x="8345" y="5372"/>
                  <a:pt x="8334" y="5492"/>
                  <a:pt x="8334" y="5606"/>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3143160" y="1830240"/>
            <a:ext cx="162000" cy="196920"/>
          </a:xfrm>
          <a:custGeom>
            <a:avLst/>
            <a:gdLst/>
            <a:ahLst/>
            <a:rect l="l" t="t" r="r" b="b"/>
            <a:pathLst>
              <a:path w="448" h="547">
                <a:moveTo>
                  <a:pt x="9178" y="5085"/>
                </a:moveTo>
                <a:cubicBezTo>
                  <a:pt x="9110" y="5085"/>
                  <a:pt x="8860" y="5049"/>
                  <a:pt x="8830" y="5110"/>
                </a:cubicBezTo>
                <a:cubicBezTo>
                  <a:pt x="8814" y="5141"/>
                  <a:pt x="8801" y="5190"/>
                  <a:pt x="8781" y="5234"/>
                </a:cubicBezTo>
                <a:cubicBezTo>
                  <a:pt x="8769" y="5261"/>
                  <a:pt x="8735" y="5300"/>
                  <a:pt x="8731" y="5308"/>
                </a:cubicBezTo>
                <a:cubicBezTo>
                  <a:pt x="8724" y="5323"/>
                  <a:pt x="8731" y="5366"/>
                  <a:pt x="8731" y="5383"/>
                </a:cubicBezTo>
                <a:cubicBezTo>
                  <a:pt x="8793" y="5383"/>
                  <a:pt x="8851" y="5394"/>
                  <a:pt x="8905" y="5358"/>
                </a:cubicBezTo>
                <a:cubicBezTo>
                  <a:pt x="8939" y="5335"/>
                  <a:pt x="8988" y="5313"/>
                  <a:pt x="9029" y="5308"/>
                </a:cubicBezTo>
                <a:cubicBezTo>
                  <a:pt x="9060" y="5305"/>
                  <a:pt x="9096" y="5318"/>
                  <a:pt x="9103" y="5333"/>
                </a:cubicBezTo>
                <a:cubicBezTo>
                  <a:pt x="9132" y="5394"/>
                  <a:pt x="9103" y="5539"/>
                  <a:pt x="9103" y="5606"/>
                </a:cubicBezTo>
                <a:cubicBezTo>
                  <a:pt x="9040" y="5617"/>
                  <a:pt x="9066" y="5631"/>
                  <a:pt x="9004" y="5631"/>
                </a:cubicBezTo>
                <a:cubicBezTo>
                  <a:pt x="8954" y="5631"/>
                  <a:pt x="8905" y="5631"/>
                  <a:pt x="8855" y="5631"/>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1035000" y="3098880"/>
            <a:ext cx="411120" cy="152280"/>
          </a:xfrm>
          <a:custGeom>
            <a:avLst/>
            <a:gdLst/>
            <a:ahLst/>
            <a:rect l="l" t="t" r="r" b="b"/>
            <a:pathLst>
              <a:path w="1142" h="423">
                <a:moveTo>
                  <a:pt x="2877" y="8756"/>
                </a:moveTo>
                <a:cubicBezTo>
                  <a:pt x="2918" y="8756"/>
                  <a:pt x="2960" y="8756"/>
                  <a:pt x="3001" y="8756"/>
                </a:cubicBezTo>
              </a:path>
              <a:path w="1142" h="423">
                <a:moveTo>
                  <a:pt x="3349" y="8607"/>
                </a:moveTo>
                <a:cubicBezTo>
                  <a:pt x="3349" y="8707"/>
                  <a:pt x="3359" y="8786"/>
                  <a:pt x="3398" y="8880"/>
                </a:cubicBezTo>
                <a:cubicBezTo>
                  <a:pt x="3421" y="8935"/>
                  <a:pt x="3423" y="8968"/>
                  <a:pt x="3423" y="9029"/>
                </a:cubicBezTo>
              </a:path>
              <a:path w="1142" h="423">
                <a:moveTo>
                  <a:pt x="3944" y="8607"/>
                </a:moveTo>
                <a:cubicBezTo>
                  <a:pt x="3895" y="8607"/>
                  <a:pt x="3746" y="8582"/>
                  <a:pt x="3721" y="8632"/>
                </a:cubicBezTo>
                <a:cubicBezTo>
                  <a:pt x="3708" y="8658"/>
                  <a:pt x="3721" y="8726"/>
                  <a:pt x="3721" y="8756"/>
                </a:cubicBezTo>
                <a:cubicBezTo>
                  <a:pt x="3776" y="8756"/>
                  <a:pt x="3967" y="8727"/>
                  <a:pt x="3994" y="8781"/>
                </a:cubicBezTo>
                <a:cubicBezTo>
                  <a:pt x="4010" y="8813"/>
                  <a:pt x="4018" y="8807"/>
                  <a:pt x="4018" y="8855"/>
                </a:cubicBezTo>
                <a:cubicBezTo>
                  <a:pt x="4018" y="8929"/>
                  <a:pt x="4036" y="8932"/>
                  <a:pt x="3969" y="8954"/>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1438200" y="3411360"/>
            <a:ext cx="88920" cy="81000"/>
          </a:xfrm>
          <a:custGeom>
            <a:avLst/>
            <a:gdLst/>
            <a:ahLst/>
            <a:rect l="l" t="t" r="r" b="b"/>
            <a:pathLst>
              <a:path w="249" h="225">
                <a:moveTo>
                  <a:pt x="3994" y="9475"/>
                </a:moveTo>
                <a:cubicBezTo>
                  <a:pt x="3994" y="9550"/>
                  <a:pt x="3994" y="9624"/>
                  <a:pt x="3994" y="9699"/>
                </a:cubicBezTo>
                <a:cubicBezTo>
                  <a:pt x="4068" y="9699"/>
                  <a:pt x="4143" y="9699"/>
                  <a:pt x="4217" y="9699"/>
                </a:cubicBezTo>
                <a:cubicBezTo>
                  <a:pt x="4217" y="9653"/>
                  <a:pt x="4237" y="9640"/>
                  <a:pt x="4242" y="9599"/>
                </a:cubicBezTo>
                <a:cubicBezTo>
                  <a:pt x="4243" y="9594"/>
                  <a:pt x="4197" y="9528"/>
                  <a:pt x="4192" y="9525"/>
                </a:cubicBezTo>
                <a:cubicBezTo>
                  <a:pt x="4176" y="9514"/>
                  <a:pt x="4113" y="9525"/>
                  <a:pt x="4093" y="9525"/>
                </a:cubicBezTo>
              </a:path>
            </a:pathLst>
          </a:custGeom>
          <a:noFill/>
          <a:ln cap="rnd" w="34920">
            <a:solidFill>
              <a:srgbClr val="ff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30" name=""/>
          <p:cNvSpPr/>
          <p:nvPr/>
        </p:nvSpPr>
        <p:spPr>
          <a:xfrm>
            <a:off x="2608200" y="3178080"/>
            <a:ext cx="106560" cy="1800"/>
          </a:xfrm>
          <a:custGeom>
            <a:avLst/>
            <a:gdLst/>
            <a:ahLst/>
            <a:rect l="l" t="t" r="r" b="b"/>
            <a:pathLst>
              <a:path w="299" h="1">
                <a:moveTo>
                  <a:pt x="7243" y="8830"/>
                </a:moveTo>
                <a:cubicBezTo>
                  <a:pt x="7342" y="8830"/>
                  <a:pt x="7442" y="8830"/>
                  <a:pt x="7541" y="8830"/>
                </a:cubicBezTo>
              </a:path>
            </a:pathLst>
          </a:custGeom>
          <a:noFill/>
          <a:ln cap="rnd" w="34920">
            <a:solidFill>
              <a:srgbClr val="ff0000"/>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31" name=""/>
          <p:cNvSpPr/>
          <p:nvPr/>
        </p:nvSpPr>
        <p:spPr>
          <a:xfrm>
            <a:off x="2911320" y="3116160"/>
            <a:ext cx="1800" cy="142920"/>
          </a:xfrm>
          <a:custGeom>
            <a:avLst/>
            <a:gdLst/>
            <a:ahLst/>
            <a:rect l="l" t="t" r="r" b="b"/>
            <a:pathLst>
              <a:path w="1" h="398">
                <a:moveTo>
                  <a:pt x="8086" y="8657"/>
                </a:moveTo>
                <a:cubicBezTo>
                  <a:pt x="8086" y="8789"/>
                  <a:pt x="8086" y="8922"/>
                  <a:pt x="8086" y="9054"/>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3044880" y="3125880"/>
            <a:ext cx="108000" cy="142920"/>
          </a:xfrm>
          <a:custGeom>
            <a:avLst/>
            <a:gdLst/>
            <a:ahLst/>
            <a:rect l="l" t="t" r="r" b="b"/>
            <a:pathLst>
              <a:path w="299" h="398">
                <a:moveTo>
                  <a:pt x="8682" y="8682"/>
                </a:moveTo>
                <a:cubicBezTo>
                  <a:pt x="8609" y="8682"/>
                  <a:pt x="8567" y="8687"/>
                  <a:pt x="8508" y="8706"/>
                </a:cubicBezTo>
                <a:cubicBezTo>
                  <a:pt x="8483" y="8706"/>
                  <a:pt x="8475" y="8706"/>
                  <a:pt x="8458" y="8706"/>
                </a:cubicBezTo>
                <a:cubicBezTo>
                  <a:pt x="8458" y="8747"/>
                  <a:pt x="8458" y="8789"/>
                  <a:pt x="8458" y="8830"/>
                </a:cubicBezTo>
                <a:cubicBezTo>
                  <a:pt x="8510" y="8830"/>
                  <a:pt x="8728" y="8799"/>
                  <a:pt x="8756" y="8855"/>
                </a:cubicBezTo>
                <a:cubicBezTo>
                  <a:pt x="8778" y="8899"/>
                  <a:pt x="8749" y="8972"/>
                  <a:pt x="8731" y="9004"/>
                </a:cubicBezTo>
                <a:cubicBezTo>
                  <a:pt x="8705" y="9049"/>
                  <a:pt x="8685" y="9073"/>
                  <a:pt x="8632" y="9079"/>
                </a:cubicBezTo>
                <a:cubicBezTo>
                  <a:pt x="8608" y="9082"/>
                  <a:pt x="8582" y="9079"/>
                  <a:pt x="8558" y="9079"/>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1990800" y="3527280"/>
            <a:ext cx="196920" cy="152640"/>
          </a:xfrm>
          <a:custGeom>
            <a:avLst/>
            <a:gdLst/>
            <a:ahLst/>
            <a:rect l="l" t="t" r="r" b="b"/>
            <a:pathLst>
              <a:path w="547" h="423">
                <a:moveTo>
                  <a:pt x="5531" y="9872"/>
                </a:moveTo>
                <a:cubicBezTo>
                  <a:pt x="5531" y="9988"/>
                  <a:pt x="5531" y="10104"/>
                  <a:pt x="5531" y="10220"/>
                </a:cubicBezTo>
                <a:cubicBezTo>
                  <a:pt x="5570" y="10207"/>
                  <a:pt x="5557" y="10180"/>
                  <a:pt x="5581" y="10145"/>
                </a:cubicBezTo>
                <a:cubicBezTo>
                  <a:pt x="5598" y="10119"/>
                  <a:pt x="5611" y="10035"/>
                  <a:pt x="5631" y="10021"/>
                </a:cubicBezTo>
                <a:cubicBezTo>
                  <a:pt x="5658" y="10002"/>
                  <a:pt x="5693" y="9969"/>
                  <a:pt x="5730" y="9947"/>
                </a:cubicBezTo>
                <a:cubicBezTo>
                  <a:pt x="5756" y="9931"/>
                  <a:pt x="5771" y="9905"/>
                  <a:pt x="5804" y="9872"/>
                </a:cubicBezTo>
                <a:cubicBezTo>
                  <a:pt x="5837" y="9839"/>
                  <a:pt x="5854" y="9842"/>
                  <a:pt x="5879" y="9823"/>
                </a:cubicBezTo>
                <a:cubicBezTo>
                  <a:pt x="5917" y="9795"/>
                  <a:pt x="5929" y="9798"/>
                  <a:pt x="5978" y="9798"/>
                </a:cubicBezTo>
                <a:cubicBezTo>
                  <a:pt x="6011" y="9798"/>
                  <a:pt x="6044" y="9798"/>
                  <a:pt x="6077" y="9798"/>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2411280" y="3500280"/>
            <a:ext cx="133560" cy="88920"/>
          </a:xfrm>
          <a:custGeom>
            <a:avLst/>
            <a:gdLst/>
            <a:ahLst/>
            <a:rect l="l" t="t" r="r" b="b"/>
            <a:pathLst>
              <a:path w="373" h="249">
                <a:moveTo>
                  <a:pt x="6697" y="9723"/>
                </a:moveTo>
                <a:cubicBezTo>
                  <a:pt x="6780" y="9723"/>
                  <a:pt x="6862" y="9723"/>
                  <a:pt x="6945" y="9723"/>
                </a:cubicBezTo>
                <a:cubicBezTo>
                  <a:pt x="6957" y="9758"/>
                  <a:pt x="6952" y="9748"/>
                  <a:pt x="6995" y="9748"/>
                </a:cubicBezTo>
              </a:path>
              <a:path w="373" h="249">
                <a:moveTo>
                  <a:pt x="6772" y="9947"/>
                </a:moveTo>
                <a:cubicBezTo>
                  <a:pt x="6825" y="9947"/>
                  <a:pt x="6852" y="9966"/>
                  <a:pt x="6896" y="9971"/>
                </a:cubicBezTo>
                <a:cubicBezTo>
                  <a:pt x="6952" y="9977"/>
                  <a:pt x="7012" y="9971"/>
                  <a:pt x="7069" y="9971"/>
                </a:cubicBezTo>
              </a:path>
            </a:pathLst>
          </a:custGeom>
          <a:noFill/>
          <a:ln cap="rnd" w="34920">
            <a:solidFill>
              <a:srgbClr val="ff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235" name=""/>
          <p:cNvSpPr/>
          <p:nvPr/>
        </p:nvSpPr>
        <p:spPr>
          <a:xfrm>
            <a:off x="2768760" y="3463920"/>
            <a:ext cx="1440" cy="206280"/>
          </a:xfrm>
          <a:custGeom>
            <a:avLst/>
            <a:gdLst/>
            <a:ahLst/>
            <a:rect l="l" t="t" r="r" b="b"/>
            <a:pathLst>
              <a:path w="1" h="572">
                <a:moveTo>
                  <a:pt x="7689" y="9624"/>
                </a:moveTo>
                <a:cubicBezTo>
                  <a:pt x="7689" y="9814"/>
                  <a:pt x="7689" y="10005"/>
                  <a:pt x="7689" y="10195"/>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2911320" y="3446640"/>
            <a:ext cx="312840" cy="214200"/>
          </a:xfrm>
          <a:custGeom>
            <a:avLst/>
            <a:gdLst/>
            <a:ahLst/>
            <a:rect l="l" t="t" r="r" b="b"/>
            <a:pathLst>
              <a:path w="869" h="596">
                <a:moveTo>
                  <a:pt x="8086" y="9674"/>
                </a:moveTo>
                <a:cubicBezTo>
                  <a:pt x="8086" y="9839"/>
                  <a:pt x="8086" y="10005"/>
                  <a:pt x="8086" y="10170"/>
                </a:cubicBezTo>
              </a:path>
              <a:path w="869" h="596">
                <a:moveTo>
                  <a:pt x="8558" y="9798"/>
                </a:moveTo>
                <a:cubicBezTo>
                  <a:pt x="8529" y="9808"/>
                  <a:pt x="8498" y="9853"/>
                  <a:pt x="8483" y="9897"/>
                </a:cubicBezTo>
                <a:cubicBezTo>
                  <a:pt x="8474" y="9923"/>
                  <a:pt x="8471" y="9972"/>
                  <a:pt x="8458" y="9996"/>
                </a:cubicBezTo>
                <a:cubicBezTo>
                  <a:pt x="8436" y="10037"/>
                  <a:pt x="8434" y="10046"/>
                  <a:pt x="8434" y="10096"/>
                </a:cubicBezTo>
                <a:cubicBezTo>
                  <a:pt x="8434" y="10121"/>
                  <a:pt x="8434" y="10145"/>
                  <a:pt x="8434" y="10170"/>
                </a:cubicBezTo>
                <a:cubicBezTo>
                  <a:pt x="8567" y="10170"/>
                  <a:pt x="8768" y="10209"/>
                  <a:pt x="8880" y="10145"/>
                </a:cubicBezTo>
                <a:cubicBezTo>
                  <a:pt x="8924" y="10120"/>
                  <a:pt x="8950" y="10099"/>
                  <a:pt x="8954" y="10046"/>
                </a:cubicBezTo>
                <a:cubicBezTo>
                  <a:pt x="8960" y="9954"/>
                  <a:pt x="8963" y="9858"/>
                  <a:pt x="8930" y="9773"/>
                </a:cubicBezTo>
                <a:cubicBezTo>
                  <a:pt x="8906" y="9712"/>
                  <a:pt x="8874" y="9669"/>
                  <a:pt x="8830" y="9624"/>
                </a:cubicBezTo>
                <a:cubicBezTo>
                  <a:pt x="8793" y="9586"/>
                  <a:pt x="8784" y="9575"/>
                  <a:pt x="8731" y="9575"/>
                </a:cubicBezTo>
                <a:cubicBezTo>
                  <a:pt x="8673" y="9575"/>
                  <a:pt x="8616" y="9575"/>
                  <a:pt x="8558" y="9575"/>
                </a:cubicBezTo>
                <a:cubicBezTo>
                  <a:pt x="8558" y="9699"/>
                  <a:pt x="8558" y="9823"/>
                  <a:pt x="8558" y="9947"/>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1125360" y="5072040"/>
            <a:ext cx="2143440" cy="500040"/>
          </a:xfrm>
          <a:custGeom>
            <a:avLst/>
            <a:gdLst/>
            <a:ahLst/>
            <a:rect l="l" t="t" r="r" b="b"/>
            <a:pathLst>
              <a:path w="5955" h="1390">
                <a:moveTo>
                  <a:pt x="3125" y="14337"/>
                </a:moveTo>
                <a:cubicBezTo>
                  <a:pt x="4320" y="14337"/>
                  <a:pt x="5568" y="14438"/>
                  <a:pt x="6747" y="14288"/>
                </a:cubicBezTo>
                <a:cubicBezTo>
                  <a:pt x="7279" y="14220"/>
                  <a:pt x="7835" y="14328"/>
                  <a:pt x="8359" y="14238"/>
                </a:cubicBezTo>
                <a:cubicBezTo>
                  <a:pt x="8443" y="14224"/>
                  <a:pt x="8523" y="14205"/>
                  <a:pt x="8607" y="14188"/>
                </a:cubicBezTo>
                <a:cubicBezTo>
                  <a:pt x="8674" y="14175"/>
                  <a:pt x="8737" y="14154"/>
                  <a:pt x="8806" y="14139"/>
                </a:cubicBezTo>
                <a:cubicBezTo>
                  <a:pt x="8856" y="14128"/>
                  <a:pt x="8936" y="14095"/>
                  <a:pt x="8979" y="14089"/>
                </a:cubicBezTo>
                <a:cubicBezTo>
                  <a:pt x="9012" y="14085"/>
                  <a:pt x="9046" y="14091"/>
                  <a:pt x="9079" y="14089"/>
                </a:cubicBezTo>
              </a:path>
              <a:path w="5955" h="1390">
                <a:moveTo>
                  <a:pt x="8310" y="14337"/>
                </a:moveTo>
                <a:cubicBezTo>
                  <a:pt x="8310" y="14402"/>
                  <a:pt x="8288" y="14452"/>
                  <a:pt x="8260" y="14511"/>
                </a:cubicBezTo>
                <a:cubicBezTo>
                  <a:pt x="8241" y="14550"/>
                  <a:pt x="8214" y="14596"/>
                  <a:pt x="8210" y="14635"/>
                </a:cubicBezTo>
                <a:cubicBezTo>
                  <a:pt x="8210" y="14643"/>
                  <a:pt x="8210" y="14652"/>
                  <a:pt x="8210" y="14660"/>
                </a:cubicBezTo>
                <a:cubicBezTo>
                  <a:pt x="8250" y="14660"/>
                  <a:pt x="8337" y="14679"/>
                  <a:pt x="8359" y="14635"/>
                </a:cubicBezTo>
                <a:cubicBezTo>
                  <a:pt x="8381" y="14591"/>
                  <a:pt x="8361" y="14415"/>
                  <a:pt x="8334" y="14412"/>
                </a:cubicBezTo>
                <a:cubicBezTo>
                  <a:pt x="8326" y="14412"/>
                  <a:pt x="8318" y="14412"/>
                  <a:pt x="8310" y="14412"/>
                </a:cubicBezTo>
              </a:path>
              <a:path w="5955" h="1390">
                <a:moveTo>
                  <a:pt x="5755" y="14808"/>
                </a:moveTo>
                <a:cubicBezTo>
                  <a:pt x="5862" y="14808"/>
                  <a:pt x="5970" y="14808"/>
                  <a:pt x="6077" y="14808"/>
                </a:cubicBezTo>
                <a:cubicBezTo>
                  <a:pt x="6077" y="14907"/>
                  <a:pt x="6038" y="14930"/>
                  <a:pt x="5978" y="15007"/>
                </a:cubicBezTo>
                <a:cubicBezTo>
                  <a:pt x="5878" y="15135"/>
                  <a:pt x="5738" y="15212"/>
                  <a:pt x="5631" y="15329"/>
                </a:cubicBezTo>
                <a:cubicBezTo>
                  <a:pt x="5595" y="15368"/>
                  <a:pt x="5568" y="15431"/>
                  <a:pt x="5556" y="15478"/>
                </a:cubicBezTo>
                <a:cubicBezTo>
                  <a:pt x="5670" y="15478"/>
                  <a:pt x="5773" y="15471"/>
                  <a:pt x="5879" y="15453"/>
                </a:cubicBezTo>
                <a:cubicBezTo>
                  <a:pt x="5988" y="15435"/>
                  <a:pt x="6114" y="15453"/>
                  <a:pt x="6226" y="15453"/>
                </a:cubicBezTo>
              </a:path>
              <a:path w="5955" h="1390">
                <a:moveTo>
                  <a:pt x="4911" y="15007"/>
                </a:moveTo>
                <a:cubicBezTo>
                  <a:pt x="4911" y="14999"/>
                  <a:pt x="4911" y="14990"/>
                  <a:pt x="4911" y="14982"/>
                </a:cubicBezTo>
                <a:cubicBezTo>
                  <a:pt x="5002" y="14982"/>
                  <a:pt x="5093" y="14982"/>
                  <a:pt x="5184" y="14982"/>
                </a:cubicBezTo>
              </a:path>
              <a:path w="5955" h="1390">
                <a:moveTo>
                  <a:pt x="4887" y="15205"/>
                </a:moveTo>
                <a:cubicBezTo>
                  <a:pt x="4986" y="15205"/>
                  <a:pt x="5085" y="15205"/>
                  <a:pt x="5184" y="15205"/>
                </a:cubicBezTo>
              </a:path>
              <a:path w="5955" h="1390">
                <a:moveTo>
                  <a:pt x="3349" y="14759"/>
                </a:moveTo>
                <a:cubicBezTo>
                  <a:pt x="3349" y="14704"/>
                  <a:pt x="3366" y="14657"/>
                  <a:pt x="3398" y="14610"/>
                </a:cubicBezTo>
                <a:cubicBezTo>
                  <a:pt x="3415" y="14585"/>
                  <a:pt x="3492" y="14524"/>
                  <a:pt x="3522" y="14511"/>
                </a:cubicBezTo>
                <a:cubicBezTo>
                  <a:pt x="3560" y="14494"/>
                  <a:pt x="3620" y="14513"/>
                  <a:pt x="3646" y="14536"/>
                </a:cubicBezTo>
                <a:cubicBezTo>
                  <a:pt x="3696" y="14580"/>
                  <a:pt x="3696" y="14622"/>
                  <a:pt x="3696" y="14684"/>
                </a:cubicBezTo>
                <a:cubicBezTo>
                  <a:pt x="3696" y="14738"/>
                  <a:pt x="3705" y="14786"/>
                  <a:pt x="3671" y="14833"/>
                </a:cubicBezTo>
                <a:cubicBezTo>
                  <a:pt x="3636" y="14881"/>
                  <a:pt x="3601" y="14938"/>
                  <a:pt x="3572" y="14982"/>
                </a:cubicBezTo>
                <a:cubicBezTo>
                  <a:pt x="3538" y="15033"/>
                  <a:pt x="3485" y="15082"/>
                  <a:pt x="3448" y="15131"/>
                </a:cubicBezTo>
                <a:cubicBezTo>
                  <a:pt x="3410" y="15182"/>
                  <a:pt x="3333" y="15206"/>
                  <a:pt x="3299" y="15255"/>
                </a:cubicBezTo>
                <a:cubicBezTo>
                  <a:pt x="3268" y="15300"/>
                  <a:pt x="3291" y="15280"/>
                  <a:pt x="3373" y="15280"/>
                </a:cubicBezTo>
                <a:cubicBezTo>
                  <a:pt x="3471" y="15280"/>
                  <a:pt x="3555" y="15269"/>
                  <a:pt x="3646" y="15255"/>
                </a:cubicBezTo>
                <a:cubicBezTo>
                  <a:pt x="3676" y="15250"/>
                  <a:pt x="3715" y="15255"/>
                  <a:pt x="3746" y="15255"/>
                </a:cubicBezTo>
              </a:path>
              <a:path w="5955" h="1390">
                <a:moveTo>
                  <a:pt x="4366" y="14610"/>
                </a:moveTo>
                <a:cubicBezTo>
                  <a:pt x="4328" y="14597"/>
                  <a:pt x="4345" y="14585"/>
                  <a:pt x="4291" y="14585"/>
                </a:cubicBezTo>
                <a:cubicBezTo>
                  <a:pt x="4175" y="14585"/>
                  <a:pt x="4060" y="14585"/>
                  <a:pt x="3944" y="14585"/>
                </a:cubicBezTo>
                <a:cubicBezTo>
                  <a:pt x="3944" y="14659"/>
                  <a:pt x="3944" y="14734"/>
                  <a:pt x="3944" y="14808"/>
                </a:cubicBezTo>
                <a:cubicBezTo>
                  <a:pt x="4118" y="14808"/>
                  <a:pt x="4291" y="14808"/>
                  <a:pt x="4465" y="14808"/>
                </a:cubicBezTo>
                <a:cubicBezTo>
                  <a:pt x="4465" y="14878"/>
                  <a:pt x="4483" y="14979"/>
                  <a:pt x="4440" y="15032"/>
                </a:cubicBezTo>
                <a:cubicBezTo>
                  <a:pt x="4419" y="15057"/>
                  <a:pt x="4371" y="15078"/>
                  <a:pt x="4341" y="15081"/>
                </a:cubicBezTo>
                <a:cubicBezTo>
                  <a:pt x="4239" y="15092"/>
                  <a:pt x="4081" y="15089"/>
                  <a:pt x="4018" y="15056"/>
                </a:cubicBezTo>
                <a:cubicBezTo>
                  <a:pt x="3994" y="15056"/>
                  <a:pt x="3986" y="15056"/>
                  <a:pt x="3994" y="15032"/>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2438280" y="4803840"/>
            <a:ext cx="642960" cy="206280"/>
          </a:xfrm>
          <a:custGeom>
            <a:avLst/>
            <a:gdLst/>
            <a:ahLst/>
            <a:rect l="l" t="t" r="r" b="b"/>
            <a:pathLst>
              <a:path w="1787" h="571">
                <a:moveTo>
                  <a:pt x="6772" y="13469"/>
                </a:moveTo>
                <a:cubicBezTo>
                  <a:pt x="6879" y="13469"/>
                  <a:pt x="6987" y="13469"/>
                  <a:pt x="7094" y="13469"/>
                </a:cubicBezTo>
              </a:path>
              <a:path w="1787" h="571">
                <a:moveTo>
                  <a:pt x="7516" y="13395"/>
                </a:moveTo>
                <a:cubicBezTo>
                  <a:pt x="7534" y="13340"/>
                  <a:pt x="7561" y="13393"/>
                  <a:pt x="7615" y="13370"/>
                </a:cubicBezTo>
                <a:cubicBezTo>
                  <a:pt x="7678" y="13344"/>
                  <a:pt x="7738" y="13345"/>
                  <a:pt x="7813" y="13345"/>
                </a:cubicBezTo>
                <a:cubicBezTo>
                  <a:pt x="7838" y="13345"/>
                  <a:pt x="7863" y="13345"/>
                  <a:pt x="7888" y="13345"/>
                </a:cubicBezTo>
                <a:cubicBezTo>
                  <a:pt x="7888" y="13441"/>
                  <a:pt x="7864" y="13430"/>
                  <a:pt x="7813" y="13494"/>
                </a:cubicBezTo>
                <a:cubicBezTo>
                  <a:pt x="7775" y="13542"/>
                  <a:pt x="7774" y="13553"/>
                  <a:pt x="7714" y="13568"/>
                </a:cubicBezTo>
                <a:cubicBezTo>
                  <a:pt x="7777" y="13568"/>
                  <a:pt x="8054" y="13527"/>
                  <a:pt x="8086" y="13593"/>
                </a:cubicBezTo>
                <a:cubicBezTo>
                  <a:pt x="8102" y="13627"/>
                  <a:pt x="8092" y="13719"/>
                  <a:pt x="8062" y="13742"/>
                </a:cubicBezTo>
                <a:cubicBezTo>
                  <a:pt x="7979" y="13806"/>
                  <a:pt x="7867" y="13860"/>
                  <a:pt x="7764" y="13866"/>
                </a:cubicBezTo>
                <a:cubicBezTo>
                  <a:pt x="7710" y="13869"/>
                  <a:pt x="7682" y="13878"/>
                  <a:pt x="7665" y="13841"/>
                </a:cubicBezTo>
                <a:cubicBezTo>
                  <a:pt x="7640" y="13786"/>
                  <a:pt x="7615" y="13776"/>
                  <a:pt x="7615" y="13717"/>
                </a:cubicBezTo>
              </a:path>
              <a:path w="1787" h="571">
                <a:moveTo>
                  <a:pt x="8161" y="13618"/>
                </a:moveTo>
                <a:cubicBezTo>
                  <a:pt x="8142" y="13669"/>
                  <a:pt x="8115" y="13710"/>
                  <a:pt x="8111" y="13742"/>
                </a:cubicBezTo>
                <a:cubicBezTo>
                  <a:pt x="8103" y="13802"/>
                  <a:pt x="8123" y="13840"/>
                  <a:pt x="8136" y="13866"/>
                </a:cubicBezTo>
                <a:cubicBezTo>
                  <a:pt x="8145" y="13884"/>
                  <a:pt x="8220" y="13910"/>
                  <a:pt x="8260" y="13915"/>
                </a:cubicBezTo>
                <a:cubicBezTo>
                  <a:pt x="8362" y="13928"/>
                  <a:pt x="8475" y="13936"/>
                  <a:pt x="8533" y="13866"/>
                </a:cubicBezTo>
                <a:cubicBezTo>
                  <a:pt x="8561" y="13832"/>
                  <a:pt x="8558" y="13834"/>
                  <a:pt x="8558" y="13791"/>
                </a:cubicBezTo>
                <a:cubicBezTo>
                  <a:pt x="8503" y="13791"/>
                  <a:pt x="8459" y="13805"/>
                  <a:pt x="8434" y="13816"/>
                </a:cubicBezTo>
                <a:cubicBezTo>
                  <a:pt x="8403" y="13830"/>
                  <a:pt x="8381" y="13841"/>
                  <a:pt x="8359" y="13866"/>
                </a:cubicBezTo>
                <a:cubicBezTo>
                  <a:pt x="8332" y="13897"/>
                  <a:pt x="8323" y="13891"/>
                  <a:pt x="8285" y="13891"/>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928800" y="4938840"/>
            <a:ext cx="81000" cy="27000"/>
          </a:xfrm>
          <a:custGeom>
            <a:avLst/>
            <a:gdLst/>
            <a:ahLst/>
            <a:rect l="l" t="t" r="r" b="b"/>
            <a:pathLst>
              <a:path w="224" h="75">
                <a:moveTo>
                  <a:pt x="2580" y="13791"/>
                </a:moveTo>
                <a:cubicBezTo>
                  <a:pt x="2596" y="13725"/>
                  <a:pt x="2611" y="13766"/>
                  <a:pt x="2654" y="13742"/>
                </a:cubicBezTo>
                <a:cubicBezTo>
                  <a:pt x="2698" y="13718"/>
                  <a:pt x="2725" y="13717"/>
                  <a:pt x="2778" y="13717"/>
                </a:cubicBezTo>
                <a:cubicBezTo>
                  <a:pt x="2786" y="13717"/>
                  <a:pt x="2795" y="13717"/>
                  <a:pt x="2803" y="13717"/>
                </a:cubicBezTo>
              </a:path>
            </a:pathLst>
          </a:custGeom>
          <a:noFill/>
          <a:ln cap="rnd" w="34920">
            <a:solidFill>
              <a:srgbClr val="ff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40" name=""/>
          <p:cNvSpPr/>
          <p:nvPr/>
        </p:nvSpPr>
        <p:spPr>
          <a:xfrm>
            <a:off x="1187280" y="4848120"/>
            <a:ext cx="420840" cy="206640"/>
          </a:xfrm>
          <a:custGeom>
            <a:avLst/>
            <a:gdLst/>
            <a:ahLst/>
            <a:rect l="l" t="t" r="r" b="b"/>
            <a:pathLst>
              <a:path w="1167" h="571">
                <a:moveTo>
                  <a:pt x="3299" y="13568"/>
                </a:moveTo>
                <a:cubicBezTo>
                  <a:pt x="3415" y="13568"/>
                  <a:pt x="3509" y="13547"/>
                  <a:pt x="3621" y="13519"/>
                </a:cubicBezTo>
                <a:cubicBezTo>
                  <a:pt x="3692" y="13501"/>
                  <a:pt x="3728" y="13494"/>
                  <a:pt x="3795" y="13494"/>
                </a:cubicBezTo>
                <a:cubicBezTo>
                  <a:pt x="3795" y="13539"/>
                  <a:pt x="3809" y="13607"/>
                  <a:pt x="3770" y="13643"/>
                </a:cubicBezTo>
                <a:cubicBezTo>
                  <a:pt x="3755" y="13657"/>
                  <a:pt x="3704" y="13736"/>
                  <a:pt x="3696" y="13742"/>
                </a:cubicBezTo>
                <a:cubicBezTo>
                  <a:pt x="3664" y="13764"/>
                  <a:pt x="3667" y="13775"/>
                  <a:pt x="3646" y="13791"/>
                </a:cubicBezTo>
                <a:cubicBezTo>
                  <a:pt x="3621" y="13791"/>
                  <a:pt x="3613" y="13791"/>
                  <a:pt x="3621" y="13816"/>
                </a:cubicBezTo>
                <a:cubicBezTo>
                  <a:pt x="3654" y="13816"/>
                  <a:pt x="3688" y="13816"/>
                  <a:pt x="3721" y="13816"/>
                </a:cubicBezTo>
                <a:cubicBezTo>
                  <a:pt x="3721" y="13890"/>
                  <a:pt x="3721" y="13965"/>
                  <a:pt x="3721" y="14039"/>
                </a:cubicBezTo>
                <a:cubicBezTo>
                  <a:pt x="3589" y="14039"/>
                  <a:pt x="3456" y="14039"/>
                  <a:pt x="3324" y="14039"/>
                </a:cubicBezTo>
              </a:path>
              <a:path w="1167" h="571">
                <a:moveTo>
                  <a:pt x="4142" y="13469"/>
                </a:moveTo>
                <a:cubicBezTo>
                  <a:pt x="4118" y="13469"/>
                  <a:pt x="4109" y="13469"/>
                  <a:pt x="4093" y="13469"/>
                </a:cubicBezTo>
                <a:cubicBezTo>
                  <a:pt x="4093" y="13525"/>
                  <a:pt x="4097" y="13596"/>
                  <a:pt x="4068" y="13643"/>
                </a:cubicBezTo>
                <a:cubicBezTo>
                  <a:pt x="4043" y="13683"/>
                  <a:pt x="4043" y="13692"/>
                  <a:pt x="4043" y="13742"/>
                </a:cubicBezTo>
                <a:cubicBezTo>
                  <a:pt x="4043" y="13808"/>
                  <a:pt x="4043" y="13874"/>
                  <a:pt x="4043" y="13940"/>
                </a:cubicBezTo>
                <a:cubicBezTo>
                  <a:pt x="4146" y="13940"/>
                  <a:pt x="4339" y="13981"/>
                  <a:pt x="4415" y="13915"/>
                </a:cubicBezTo>
                <a:cubicBezTo>
                  <a:pt x="4455" y="13880"/>
                  <a:pt x="4465" y="13867"/>
                  <a:pt x="4465" y="13816"/>
                </a:cubicBezTo>
                <a:cubicBezTo>
                  <a:pt x="4465" y="13782"/>
                  <a:pt x="4478" y="13736"/>
                  <a:pt x="4440" y="13717"/>
                </a:cubicBezTo>
                <a:cubicBezTo>
                  <a:pt x="4408" y="13701"/>
                  <a:pt x="4415" y="13692"/>
                  <a:pt x="4366" y="13692"/>
                </a:cubicBezTo>
                <a:cubicBezTo>
                  <a:pt x="4313" y="13692"/>
                  <a:pt x="4304" y="13704"/>
                  <a:pt x="4266" y="13742"/>
                </a:cubicBezTo>
                <a:cubicBezTo>
                  <a:pt x="4234" y="13775"/>
                  <a:pt x="4242" y="13797"/>
                  <a:pt x="4242" y="13841"/>
                </a:cubicBezTo>
                <a:cubicBezTo>
                  <a:pt x="4242" y="13866"/>
                  <a:pt x="4242" y="13890"/>
                  <a:pt x="4242" y="13915"/>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820800" y="1544760"/>
            <a:ext cx="2662200" cy="187200"/>
          </a:xfrm>
          <a:custGeom>
            <a:avLst/>
            <a:gdLst/>
            <a:ahLst/>
            <a:rect l="l" t="t" r="r" b="b"/>
            <a:pathLst>
              <a:path w="7393" h="522">
                <a:moveTo>
                  <a:pt x="2282" y="4738"/>
                </a:moveTo>
                <a:cubicBezTo>
                  <a:pt x="2454" y="4683"/>
                  <a:pt x="2650" y="4642"/>
                  <a:pt x="2828" y="4589"/>
                </a:cubicBezTo>
                <a:cubicBezTo>
                  <a:pt x="3295" y="4449"/>
                  <a:pt x="3775" y="4327"/>
                  <a:pt x="4266" y="4291"/>
                </a:cubicBezTo>
                <a:cubicBezTo>
                  <a:pt x="4602" y="4266"/>
                  <a:pt x="4998" y="4257"/>
                  <a:pt x="5333" y="4316"/>
                </a:cubicBezTo>
                <a:cubicBezTo>
                  <a:pt x="5519" y="4349"/>
                  <a:pt x="5678" y="4407"/>
                  <a:pt x="5854" y="4465"/>
                </a:cubicBezTo>
                <a:cubicBezTo>
                  <a:pt x="5928" y="4489"/>
                  <a:pt x="5982" y="4528"/>
                  <a:pt x="6052" y="4539"/>
                </a:cubicBezTo>
                <a:cubicBezTo>
                  <a:pt x="6555" y="4617"/>
                  <a:pt x="7067" y="4498"/>
                  <a:pt x="7565" y="4589"/>
                </a:cubicBezTo>
                <a:cubicBezTo>
                  <a:pt x="7801" y="4632"/>
                  <a:pt x="8030" y="4673"/>
                  <a:pt x="8260" y="4738"/>
                </a:cubicBezTo>
                <a:cubicBezTo>
                  <a:pt x="8362" y="4767"/>
                  <a:pt x="8478" y="4803"/>
                  <a:pt x="8582" y="4812"/>
                </a:cubicBezTo>
                <a:cubicBezTo>
                  <a:pt x="8940" y="4842"/>
                  <a:pt x="9314" y="4812"/>
                  <a:pt x="9674" y="4812"/>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1214280" y="3357720"/>
            <a:ext cx="2108520" cy="27000"/>
          </a:xfrm>
          <a:custGeom>
            <a:avLst/>
            <a:gdLst/>
            <a:ahLst/>
            <a:rect l="l" t="t" r="r" b="b"/>
            <a:pathLst>
              <a:path w="5855" h="75">
                <a:moveTo>
                  <a:pt x="3373" y="9376"/>
                </a:moveTo>
                <a:cubicBezTo>
                  <a:pt x="3397" y="9372"/>
                  <a:pt x="3509" y="9352"/>
                  <a:pt x="3572" y="9351"/>
                </a:cubicBezTo>
                <a:cubicBezTo>
                  <a:pt x="3912" y="9343"/>
                  <a:pt x="4255" y="9353"/>
                  <a:pt x="4589" y="9376"/>
                </a:cubicBezTo>
                <a:cubicBezTo>
                  <a:pt x="4661" y="9381"/>
                  <a:pt x="4720" y="9394"/>
                  <a:pt x="4787" y="9401"/>
                </a:cubicBezTo>
                <a:cubicBezTo>
                  <a:pt x="5545" y="9475"/>
                  <a:pt x="6364" y="9421"/>
                  <a:pt x="7119" y="9376"/>
                </a:cubicBezTo>
                <a:cubicBezTo>
                  <a:pt x="7300" y="9365"/>
                  <a:pt x="7485" y="9368"/>
                  <a:pt x="7665" y="9351"/>
                </a:cubicBezTo>
                <a:cubicBezTo>
                  <a:pt x="7766" y="9341"/>
                  <a:pt x="7857" y="9327"/>
                  <a:pt x="7962" y="9327"/>
                </a:cubicBezTo>
                <a:cubicBezTo>
                  <a:pt x="8384" y="9327"/>
                  <a:pt x="8805" y="9327"/>
                  <a:pt x="9227" y="9327"/>
                </a:cubicBezTo>
              </a:path>
            </a:pathLst>
          </a:custGeom>
          <a:noFill/>
          <a:ln cap="rnd" w="34920">
            <a:solidFill>
              <a:srgbClr val="ff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216">
                                            <p:txEl>
                                              <p:pRg st="0" end="0"/>
                                            </p:txEl>
                                          </p:spTgt>
                                        </p:tgtEl>
                                        <p:attrNameLst>
                                          <p:attrName>style.visibility</p:attrName>
                                        </p:attrNameLst>
                                      </p:cBhvr>
                                      <p:to>
                                        <p:strVal val="visible"/>
                                      </p:to>
                                    </p:set>
                                    <p:anim calcmode="lin" valueType="num">
                                      <p:cBhvr additive="base">
                                        <p:cTn id="41" dur="500" fill="hold"/>
                                        <p:tgtEl>
                                          <p:spTgt spid="216">
                                            <p:txEl>
                                              <p:pRg st="0" end="0"/>
                                            </p:txEl>
                                          </p:spTgt>
                                        </p:tgtEl>
                                        <p:attrNameLst>
                                          <p:attrName>ppt_x</p:attrName>
                                        </p:attrNameLst>
                                      </p:cBhvr>
                                      <p:tavLst>
                                        <p:tav tm="0">
                                          <p:val>
                                            <p:strVal val="#ppt_x"/>
                                          </p:val>
                                        </p:tav>
                                        <p:tav tm="100000">
                                          <p:val>
                                            <p:strVal val="#ppt_x"/>
                                          </p:val>
                                        </p:tav>
                                      </p:tavLst>
                                    </p:anim>
                                    <p:anim calcmode="lin" valueType="num">
                                      <p:cBhvr additive="base">
                                        <p:cTn id="42" dur="500" fill="hold"/>
                                        <p:tgtEl>
                                          <p:spTgt spid="21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216">
                                            <p:txEl>
                                              <p:pRg st="1" end="1"/>
                                            </p:txEl>
                                          </p:spTgt>
                                        </p:tgtEl>
                                        <p:attrNameLst>
                                          <p:attrName>style.visibility</p:attrName>
                                        </p:attrNameLst>
                                      </p:cBhvr>
                                      <p:to>
                                        <p:strVal val="visible"/>
                                      </p:to>
                                    </p:set>
                                    <p:anim calcmode="lin" valueType="num">
                                      <p:cBhvr additive="base">
                                        <p:cTn id="47" dur="500" fill="hold"/>
                                        <p:tgtEl>
                                          <p:spTgt spid="216">
                                            <p:txEl>
                                              <p:pRg st="1" end="1"/>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21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216">
                                            <p:txEl>
                                              <p:pRg st="4" end="4"/>
                                            </p:txEl>
                                          </p:spTgt>
                                        </p:tgtEl>
                                        <p:attrNameLst>
                                          <p:attrName>style.visibility</p:attrName>
                                        </p:attrNameLst>
                                      </p:cBhvr>
                                      <p:to>
                                        <p:strVal val="visible"/>
                                      </p:to>
                                    </p:set>
                                    <p:anim calcmode="lin" valueType="num">
                                      <p:cBhvr additive="base">
                                        <p:cTn id="53" dur="500" fill="hold"/>
                                        <p:tgtEl>
                                          <p:spTgt spid="216">
                                            <p:txEl>
                                              <p:pRg st="4" end="4"/>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21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216">
                                            <p:txEl>
                                              <p:pRg st="7" end="7"/>
                                            </p:txEl>
                                          </p:spTgt>
                                        </p:tgtEl>
                                        <p:attrNameLst>
                                          <p:attrName>style.visibility</p:attrName>
                                        </p:attrNameLst>
                                      </p:cBhvr>
                                      <p:to>
                                        <p:strVal val="visible"/>
                                      </p:to>
                                    </p:set>
                                    <p:anim calcmode="lin" valueType="num">
                                      <p:cBhvr additive="base">
                                        <p:cTn id="59" dur="500" fill="hold"/>
                                        <p:tgtEl>
                                          <p:spTgt spid="216">
                                            <p:txEl>
                                              <p:pRg st="7" end="7"/>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216">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380520" y="152280"/>
            <a:ext cx="7543800" cy="6400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Examples: Solving Addition Equations</a:t>
            </a:r>
            <a:endParaRPr b="0" lang="en-US" sz="28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7.)  8.45 + x = 12.55</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8.) z + 5.6 = 11.8</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9.) 43 = 14 + n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4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4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47" name=""/>
          <p:cNvSpPr/>
          <p:nvPr/>
        </p:nvSpPr>
        <p:spPr>
          <a:xfrm>
            <a:off x="1071720" y="1197000"/>
            <a:ext cx="322200" cy="241200"/>
          </a:xfrm>
          <a:custGeom>
            <a:avLst/>
            <a:gdLst/>
            <a:ahLst/>
            <a:rect l="l" t="t" r="r" b="b"/>
            <a:pathLst>
              <a:path w="894" h="671">
                <a:moveTo>
                  <a:pt x="2977" y="3473"/>
                </a:moveTo>
                <a:cubicBezTo>
                  <a:pt x="3043" y="3473"/>
                  <a:pt x="3109" y="3473"/>
                  <a:pt x="3175" y="3473"/>
                </a:cubicBezTo>
              </a:path>
              <a:path w="894" h="671">
                <a:moveTo>
                  <a:pt x="3820" y="3324"/>
                </a:moveTo>
                <a:cubicBezTo>
                  <a:pt x="3729" y="3324"/>
                  <a:pt x="3650" y="3328"/>
                  <a:pt x="3572" y="3349"/>
                </a:cubicBezTo>
                <a:cubicBezTo>
                  <a:pt x="3515" y="3365"/>
                  <a:pt x="3486" y="3390"/>
                  <a:pt x="3473" y="3423"/>
                </a:cubicBezTo>
                <a:cubicBezTo>
                  <a:pt x="3452" y="3475"/>
                  <a:pt x="3473" y="3587"/>
                  <a:pt x="3473" y="3646"/>
                </a:cubicBezTo>
                <a:cubicBezTo>
                  <a:pt x="3549" y="3646"/>
                  <a:pt x="3600" y="3646"/>
                  <a:pt x="3671" y="3671"/>
                </a:cubicBezTo>
                <a:cubicBezTo>
                  <a:pt x="3708" y="3684"/>
                  <a:pt x="3849" y="3728"/>
                  <a:pt x="3870" y="3770"/>
                </a:cubicBezTo>
                <a:cubicBezTo>
                  <a:pt x="3904" y="3837"/>
                  <a:pt x="3857" y="3889"/>
                  <a:pt x="3820" y="3919"/>
                </a:cubicBezTo>
                <a:cubicBezTo>
                  <a:pt x="3781" y="3951"/>
                  <a:pt x="3742" y="3983"/>
                  <a:pt x="3696" y="3994"/>
                </a:cubicBezTo>
                <a:cubicBezTo>
                  <a:pt x="3696" y="3905"/>
                  <a:pt x="3679" y="3804"/>
                  <a:pt x="3721" y="3721"/>
                </a:cubicBezTo>
                <a:cubicBezTo>
                  <a:pt x="3731" y="3701"/>
                  <a:pt x="3756" y="3606"/>
                  <a:pt x="3770" y="3597"/>
                </a:cubicBezTo>
                <a:cubicBezTo>
                  <a:pt x="3795" y="3581"/>
                  <a:pt x="3815" y="3584"/>
                  <a:pt x="3820" y="3547"/>
                </a:cubicBezTo>
                <a:cubicBezTo>
                  <a:pt x="3825" y="3506"/>
                  <a:pt x="3845" y="3529"/>
                  <a:pt x="3845" y="3473"/>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1509840" y="1419120"/>
            <a:ext cx="1440" cy="1800"/>
          </a:xfrm>
          <a:custGeom>
            <a:avLst/>
            <a:gdLst/>
            <a:ahLst/>
            <a:rect l="l" t="t" r="r" b="b"/>
            <a:pathLst>
              <a:path w="1" h="1">
                <a:moveTo>
                  <a:pt x="4192" y="3944"/>
                </a:moveTo>
                <a:lnTo>
                  <a:pt x="4192" y="3944"/>
                </a:lnTo>
              </a:path>
            </a:pathLst>
          </a:custGeom>
          <a:noFill/>
          <a:ln cap="rnd" w="34920">
            <a:solidFill>
              <a:srgbClr val="ff0000"/>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49" name=""/>
          <p:cNvSpPr/>
          <p:nvPr/>
        </p:nvSpPr>
        <p:spPr>
          <a:xfrm>
            <a:off x="1714680" y="1214280"/>
            <a:ext cx="285480" cy="196920"/>
          </a:xfrm>
          <a:custGeom>
            <a:avLst/>
            <a:gdLst/>
            <a:ahLst/>
            <a:rect l="l" t="t" r="r" b="b"/>
            <a:pathLst>
              <a:path w="795" h="547">
                <a:moveTo>
                  <a:pt x="4762" y="3373"/>
                </a:moveTo>
                <a:cubicBezTo>
                  <a:pt x="4762" y="3448"/>
                  <a:pt x="4762" y="3522"/>
                  <a:pt x="4762" y="3597"/>
                </a:cubicBezTo>
                <a:cubicBezTo>
                  <a:pt x="4820" y="3597"/>
                  <a:pt x="4878" y="3597"/>
                  <a:pt x="4936" y="3597"/>
                </a:cubicBezTo>
                <a:cubicBezTo>
                  <a:pt x="4936" y="3556"/>
                  <a:pt x="4936" y="3514"/>
                  <a:pt x="4936" y="3473"/>
                </a:cubicBezTo>
              </a:path>
              <a:path w="795" h="547">
                <a:moveTo>
                  <a:pt x="4936" y="3423"/>
                </a:moveTo>
                <a:cubicBezTo>
                  <a:pt x="4936" y="3580"/>
                  <a:pt x="4936" y="3737"/>
                  <a:pt x="4936" y="3894"/>
                </a:cubicBezTo>
              </a:path>
              <a:path w="795" h="547">
                <a:moveTo>
                  <a:pt x="5457" y="3423"/>
                </a:moveTo>
                <a:cubicBezTo>
                  <a:pt x="5435" y="3389"/>
                  <a:pt x="5409" y="3398"/>
                  <a:pt x="5358" y="3398"/>
                </a:cubicBezTo>
                <a:cubicBezTo>
                  <a:pt x="5317" y="3398"/>
                  <a:pt x="5275" y="3398"/>
                  <a:pt x="5234" y="3398"/>
                </a:cubicBezTo>
                <a:cubicBezTo>
                  <a:pt x="5234" y="3456"/>
                  <a:pt x="5234" y="3514"/>
                  <a:pt x="5234" y="3572"/>
                </a:cubicBezTo>
                <a:cubicBezTo>
                  <a:pt x="5338" y="3572"/>
                  <a:pt x="5467" y="3565"/>
                  <a:pt x="5531" y="3597"/>
                </a:cubicBezTo>
                <a:cubicBezTo>
                  <a:pt x="5566" y="3614"/>
                  <a:pt x="5556" y="3622"/>
                  <a:pt x="5556" y="3671"/>
                </a:cubicBezTo>
                <a:cubicBezTo>
                  <a:pt x="5556" y="3734"/>
                  <a:pt x="5572" y="3798"/>
                  <a:pt x="5531" y="3845"/>
                </a:cubicBezTo>
                <a:cubicBezTo>
                  <a:pt x="5506" y="3874"/>
                  <a:pt x="5466" y="3908"/>
                  <a:pt x="5432" y="3919"/>
                </a:cubicBezTo>
                <a:cubicBezTo>
                  <a:pt x="5359" y="3943"/>
                  <a:pt x="5236" y="3919"/>
                  <a:pt x="5159" y="3919"/>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3197160" y="1285920"/>
            <a:ext cx="17640" cy="1440"/>
          </a:xfrm>
          <a:custGeom>
            <a:avLst/>
            <a:gdLst/>
            <a:ahLst/>
            <a:rect l="l" t="t" r="r" b="b"/>
            <a:pathLst>
              <a:path w="51" h="1">
                <a:moveTo>
                  <a:pt x="8880" y="3572"/>
                </a:moveTo>
                <a:cubicBezTo>
                  <a:pt x="8897" y="3572"/>
                  <a:pt x="8913" y="3572"/>
                  <a:pt x="8930" y="3572"/>
                </a:cubicBez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1" name=""/>
          <p:cNvSpPr/>
          <p:nvPr/>
        </p:nvSpPr>
        <p:spPr>
          <a:xfrm>
            <a:off x="3384720" y="1197000"/>
            <a:ext cx="250560" cy="295200"/>
          </a:xfrm>
          <a:custGeom>
            <a:avLst/>
            <a:gdLst/>
            <a:ahLst/>
            <a:rect l="l" t="t" r="r" b="b"/>
            <a:pathLst>
              <a:path w="696" h="819">
                <a:moveTo>
                  <a:pt x="9823" y="3448"/>
                </a:moveTo>
                <a:cubicBezTo>
                  <a:pt x="9750" y="3448"/>
                  <a:pt x="9694" y="3444"/>
                  <a:pt x="9624" y="3473"/>
                </a:cubicBezTo>
                <a:cubicBezTo>
                  <a:pt x="9549" y="3504"/>
                  <a:pt x="9458" y="3541"/>
                  <a:pt x="9426" y="3621"/>
                </a:cubicBezTo>
                <a:cubicBezTo>
                  <a:pt x="9406" y="3671"/>
                  <a:pt x="9401" y="3709"/>
                  <a:pt x="9401" y="3770"/>
                </a:cubicBezTo>
                <a:cubicBezTo>
                  <a:pt x="9401" y="3854"/>
                  <a:pt x="9423" y="3874"/>
                  <a:pt x="9451" y="3944"/>
                </a:cubicBezTo>
                <a:cubicBezTo>
                  <a:pt x="9464" y="3976"/>
                  <a:pt x="9495" y="4014"/>
                  <a:pt x="9525" y="4018"/>
                </a:cubicBezTo>
                <a:cubicBezTo>
                  <a:pt x="9573" y="4024"/>
                  <a:pt x="9626" y="4018"/>
                  <a:pt x="9674" y="4018"/>
                </a:cubicBezTo>
                <a:cubicBezTo>
                  <a:pt x="9674" y="4061"/>
                  <a:pt x="9692" y="4137"/>
                  <a:pt x="9649" y="4142"/>
                </a:cubicBezTo>
                <a:cubicBezTo>
                  <a:pt x="9581" y="4150"/>
                  <a:pt x="9501" y="4163"/>
                  <a:pt x="9475" y="4093"/>
                </a:cubicBezTo>
                <a:cubicBezTo>
                  <a:pt x="9449" y="4021"/>
                  <a:pt x="9479" y="3871"/>
                  <a:pt x="9525" y="3820"/>
                </a:cubicBezTo>
                <a:cubicBezTo>
                  <a:pt x="9573" y="3766"/>
                  <a:pt x="9678" y="3637"/>
                  <a:pt x="9748" y="3597"/>
                </a:cubicBezTo>
                <a:cubicBezTo>
                  <a:pt x="9776" y="3581"/>
                  <a:pt x="9775" y="3561"/>
                  <a:pt x="9798" y="3522"/>
                </a:cubicBezTo>
                <a:cubicBezTo>
                  <a:pt x="9827" y="3471"/>
                  <a:pt x="9866" y="3407"/>
                  <a:pt x="9872" y="3349"/>
                </a:cubicBezTo>
                <a:cubicBezTo>
                  <a:pt x="9872" y="3341"/>
                  <a:pt x="9872" y="3332"/>
                  <a:pt x="9872" y="3324"/>
                </a:cubicBezTo>
              </a:path>
              <a:path w="696" h="819">
                <a:moveTo>
                  <a:pt x="10096" y="3994"/>
                </a:moveTo>
                <a:lnTo>
                  <a:pt x="10096" y="3994"/>
                </a:ln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3786120" y="1258920"/>
            <a:ext cx="304920" cy="268200"/>
          </a:xfrm>
          <a:custGeom>
            <a:avLst/>
            <a:gdLst/>
            <a:ahLst/>
            <a:rect l="l" t="t" r="r" b="b"/>
            <a:pathLst>
              <a:path w="845" h="746">
                <a:moveTo>
                  <a:pt x="10542" y="3497"/>
                </a:moveTo>
                <a:cubicBezTo>
                  <a:pt x="10534" y="3554"/>
                  <a:pt x="10517" y="3584"/>
                  <a:pt x="10517" y="3646"/>
                </a:cubicBezTo>
                <a:cubicBezTo>
                  <a:pt x="10517" y="3712"/>
                  <a:pt x="10517" y="3779"/>
                  <a:pt x="10517" y="3845"/>
                </a:cubicBezTo>
                <a:cubicBezTo>
                  <a:pt x="10583" y="3845"/>
                  <a:pt x="10650" y="3845"/>
                  <a:pt x="10716" y="3845"/>
                </a:cubicBezTo>
                <a:cubicBezTo>
                  <a:pt x="10716" y="3746"/>
                  <a:pt x="10716" y="3646"/>
                  <a:pt x="10716" y="3547"/>
                </a:cubicBezTo>
                <a:cubicBezTo>
                  <a:pt x="10716" y="3721"/>
                  <a:pt x="10716" y="3894"/>
                  <a:pt x="10716" y="4068"/>
                </a:cubicBezTo>
              </a:path>
              <a:path w="845" h="746">
                <a:moveTo>
                  <a:pt x="11361" y="3597"/>
                </a:moveTo>
                <a:cubicBezTo>
                  <a:pt x="11283" y="3597"/>
                  <a:pt x="11202" y="3586"/>
                  <a:pt x="11137" y="3621"/>
                </a:cubicBezTo>
                <a:cubicBezTo>
                  <a:pt x="11097" y="3643"/>
                  <a:pt x="11067" y="3663"/>
                  <a:pt x="11063" y="3696"/>
                </a:cubicBezTo>
                <a:cubicBezTo>
                  <a:pt x="11057" y="3744"/>
                  <a:pt x="11063" y="3796"/>
                  <a:pt x="11063" y="3845"/>
                </a:cubicBezTo>
                <a:cubicBezTo>
                  <a:pt x="11121" y="3845"/>
                  <a:pt x="11179" y="3845"/>
                  <a:pt x="11237" y="3845"/>
                </a:cubicBezTo>
              </a:path>
              <a:path w="845" h="746">
                <a:moveTo>
                  <a:pt x="11137" y="4242"/>
                </a:moveTo>
                <a:cubicBezTo>
                  <a:pt x="11096" y="4242"/>
                  <a:pt x="11054" y="4242"/>
                  <a:pt x="11013" y="4242"/>
                </a:cubicBezTo>
              </a:path>
              <a:path w="845" h="746">
                <a:moveTo>
                  <a:pt x="11013" y="4217"/>
                </a:moveTo>
                <a:cubicBezTo>
                  <a:pt x="11104" y="4217"/>
                  <a:pt x="11195" y="4217"/>
                  <a:pt x="11286" y="4217"/>
                </a:cubicBezTo>
                <a:cubicBezTo>
                  <a:pt x="11299" y="4179"/>
                  <a:pt x="11311" y="4196"/>
                  <a:pt x="11311" y="4142"/>
                </a:cubicBezTo>
                <a:cubicBezTo>
                  <a:pt x="11311" y="4134"/>
                  <a:pt x="11311" y="4126"/>
                  <a:pt x="11311" y="4118"/>
                </a:cubicBezTo>
                <a:cubicBezTo>
                  <a:pt x="11349" y="4105"/>
                  <a:pt x="11336" y="4088"/>
                  <a:pt x="11336" y="4043"/>
                </a:cubicBezTo>
                <a:cubicBezTo>
                  <a:pt x="11336" y="4002"/>
                  <a:pt x="11336" y="3960"/>
                  <a:pt x="11336" y="3919"/>
                </a:cubicBezTo>
                <a:cubicBezTo>
                  <a:pt x="11289" y="3903"/>
                  <a:pt x="11333" y="3885"/>
                  <a:pt x="11286" y="3870"/>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2536920" y="1731960"/>
            <a:ext cx="507960" cy="233280"/>
          </a:xfrm>
          <a:custGeom>
            <a:avLst/>
            <a:gdLst/>
            <a:ahLst/>
            <a:rect l="l" t="t" r="r" b="b"/>
            <a:pathLst>
              <a:path w="1414" h="646">
                <a:moveTo>
                  <a:pt x="7045" y="4961"/>
                </a:moveTo>
                <a:cubicBezTo>
                  <a:pt x="7115" y="4961"/>
                  <a:pt x="7112" y="4990"/>
                  <a:pt x="7169" y="5035"/>
                </a:cubicBezTo>
                <a:cubicBezTo>
                  <a:pt x="7278" y="5119"/>
                  <a:pt x="7390" y="5191"/>
                  <a:pt x="7491" y="5283"/>
                </a:cubicBezTo>
                <a:cubicBezTo>
                  <a:pt x="7549" y="5336"/>
                  <a:pt x="7585" y="5402"/>
                  <a:pt x="7640" y="5457"/>
                </a:cubicBezTo>
              </a:path>
              <a:path w="1414" h="646">
                <a:moveTo>
                  <a:pt x="7640" y="4812"/>
                </a:moveTo>
                <a:cubicBezTo>
                  <a:pt x="7623" y="4895"/>
                  <a:pt x="7575" y="4958"/>
                  <a:pt x="7541" y="5035"/>
                </a:cubicBezTo>
                <a:cubicBezTo>
                  <a:pt x="7497" y="5134"/>
                  <a:pt x="7419" y="5255"/>
                  <a:pt x="7392" y="5358"/>
                </a:cubicBezTo>
                <a:cubicBezTo>
                  <a:pt x="7372" y="5433"/>
                  <a:pt x="7384" y="5380"/>
                  <a:pt x="7367" y="5432"/>
                </a:cubicBezTo>
              </a:path>
              <a:path w="1414" h="646">
                <a:moveTo>
                  <a:pt x="7938" y="5085"/>
                </a:moveTo>
                <a:cubicBezTo>
                  <a:pt x="8037" y="5085"/>
                  <a:pt x="8136" y="5085"/>
                  <a:pt x="8235" y="5085"/>
                </a:cubicBezTo>
              </a:path>
              <a:path w="1414" h="646">
                <a:moveTo>
                  <a:pt x="7987" y="5333"/>
                </a:moveTo>
                <a:cubicBezTo>
                  <a:pt x="7987" y="5308"/>
                  <a:pt x="7987" y="5284"/>
                  <a:pt x="7987" y="5259"/>
                </a:cubicBezTo>
                <a:cubicBezTo>
                  <a:pt x="8064" y="5246"/>
                  <a:pt x="8130" y="5234"/>
                  <a:pt x="8210" y="5234"/>
                </a:cubicBezTo>
                <a:cubicBezTo>
                  <a:pt x="8293" y="5234"/>
                  <a:pt x="8375" y="5234"/>
                  <a:pt x="8458" y="5234"/>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3214800" y="1687680"/>
            <a:ext cx="590400" cy="268200"/>
          </a:xfrm>
          <a:custGeom>
            <a:avLst/>
            <a:gdLst/>
            <a:ahLst/>
            <a:rect l="l" t="t" r="r" b="b"/>
            <a:pathLst>
              <a:path w="1638" h="745">
                <a:moveTo>
                  <a:pt x="8930" y="4812"/>
                </a:moveTo>
                <a:cubicBezTo>
                  <a:pt x="8966" y="4825"/>
                  <a:pt x="8954" y="4843"/>
                  <a:pt x="8954" y="4887"/>
                </a:cubicBezTo>
                <a:cubicBezTo>
                  <a:pt x="8954" y="4970"/>
                  <a:pt x="8954" y="5052"/>
                  <a:pt x="8954" y="5135"/>
                </a:cubicBezTo>
                <a:cubicBezTo>
                  <a:pt x="9103" y="5135"/>
                  <a:pt x="9252" y="5135"/>
                  <a:pt x="9401" y="5135"/>
                </a:cubicBezTo>
                <a:cubicBezTo>
                  <a:pt x="9385" y="5072"/>
                  <a:pt x="9337" y="5008"/>
                  <a:pt x="9327" y="4936"/>
                </a:cubicBezTo>
                <a:cubicBezTo>
                  <a:pt x="9316" y="4858"/>
                  <a:pt x="9327" y="4768"/>
                  <a:pt x="9327" y="4688"/>
                </a:cubicBezTo>
                <a:cubicBezTo>
                  <a:pt x="9327" y="4767"/>
                  <a:pt x="9286" y="5424"/>
                  <a:pt x="9351" y="5432"/>
                </a:cubicBezTo>
                <a:cubicBezTo>
                  <a:pt x="9359" y="5432"/>
                  <a:pt x="9368" y="5432"/>
                  <a:pt x="9376" y="5432"/>
                </a:cubicBezTo>
              </a:path>
              <a:path w="1638" h="745">
                <a:moveTo>
                  <a:pt x="9575" y="5358"/>
                </a:moveTo>
                <a:cubicBezTo>
                  <a:pt x="9583" y="5358"/>
                  <a:pt x="9591" y="5358"/>
                  <a:pt x="9599" y="5358"/>
                </a:cubicBezTo>
              </a:path>
              <a:path w="1638" h="745">
                <a:moveTo>
                  <a:pt x="9872" y="4986"/>
                </a:moveTo>
                <a:cubicBezTo>
                  <a:pt x="9872" y="5118"/>
                  <a:pt x="9872" y="5251"/>
                  <a:pt x="9872" y="5383"/>
                </a:cubicBezTo>
              </a:path>
              <a:path w="1638" h="745">
                <a:moveTo>
                  <a:pt x="10244" y="4986"/>
                </a:moveTo>
                <a:cubicBezTo>
                  <a:pt x="10244" y="4978"/>
                  <a:pt x="10244" y="4969"/>
                  <a:pt x="10244" y="4961"/>
                </a:cubicBezTo>
                <a:cubicBezTo>
                  <a:pt x="10174" y="5014"/>
                  <a:pt x="10161" y="5146"/>
                  <a:pt x="10120" y="5234"/>
                </a:cubicBezTo>
                <a:cubicBezTo>
                  <a:pt x="10107" y="5261"/>
                  <a:pt x="10075" y="5300"/>
                  <a:pt x="10071" y="5308"/>
                </a:cubicBezTo>
                <a:cubicBezTo>
                  <a:pt x="10071" y="5316"/>
                  <a:pt x="10071" y="5325"/>
                  <a:pt x="10071" y="5333"/>
                </a:cubicBezTo>
                <a:cubicBezTo>
                  <a:pt x="10101" y="5409"/>
                  <a:pt x="10165" y="5419"/>
                  <a:pt x="10244" y="5432"/>
                </a:cubicBezTo>
                <a:cubicBezTo>
                  <a:pt x="10311" y="5443"/>
                  <a:pt x="10498" y="5447"/>
                  <a:pt x="10517" y="5407"/>
                </a:cubicBezTo>
                <a:cubicBezTo>
                  <a:pt x="10536" y="5367"/>
                  <a:pt x="10563" y="5323"/>
                  <a:pt x="10567" y="5283"/>
                </a:cubicBezTo>
                <a:cubicBezTo>
                  <a:pt x="10573" y="5233"/>
                  <a:pt x="10568" y="5229"/>
                  <a:pt x="10542" y="5209"/>
                </a:cubicBezTo>
                <a:cubicBezTo>
                  <a:pt x="10513" y="5187"/>
                  <a:pt x="10509" y="5144"/>
                  <a:pt x="10492" y="5135"/>
                </a:cubicBezTo>
                <a:cubicBezTo>
                  <a:pt x="10486" y="5132"/>
                  <a:pt x="10422" y="5115"/>
                  <a:pt x="10418" y="5110"/>
                </a:cubicBezTo>
                <a:cubicBezTo>
                  <a:pt x="10401" y="5089"/>
                  <a:pt x="10357" y="5101"/>
                  <a:pt x="10344" y="5085"/>
                </a:cubicBezTo>
                <a:cubicBezTo>
                  <a:pt x="10330" y="5066"/>
                  <a:pt x="10296" y="5028"/>
                  <a:pt x="10294" y="5011"/>
                </a:cubicBezTo>
                <a:cubicBezTo>
                  <a:pt x="10289" y="4971"/>
                  <a:pt x="10255" y="4984"/>
                  <a:pt x="10244" y="4961"/>
                </a:cubicBezTo>
                <a:cubicBezTo>
                  <a:pt x="10244" y="4953"/>
                  <a:pt x="10244" y="4944"/>
                  <a:pt x="10244" y="4936"/>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2803680" y="3098880"/>
            <a:ext cx="161640" cy="9360"/>
          </a:xfrm>
          <a:custGeom>
            <a:avLst/>
            <a:gdLst/>
            <a:ahLst/>
            <a:rect l="l" t="t" r="r" b="b"/>
            <a:pathLst>
              <a:path w="447" h="26">
                <a:moveTo>
                  <a:pt x="7789" y="8632"/>
                </a:moveTo>
                <a:cubicBezTo>
                  <a:pt x="7872" y="8600"/>
                  <a:pt x="7946" y="8607"/>
                  <a:pt x="8037" y="8607"/>
                </a:cubicBezTo>
                <a:cubicBezTo>
                  <a:pt x="8103" y="8607"/>
                  <a:pt x="8169" y="8607"/>
                  <a:pt x="8235" y="8607"/>
                </a:cubicBezTo>
              </a:path>
            </a:pathLst>
          </a:custGeom>
          <a:noFill/>
          <a:ln cap="rnd" w="34920">
            <a:solidFill>
              <a:srgbClr val="ff0000"/>
            </a:solidFill>
            <a:round/>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56" name=""/>
          <p:cNvSpPr/>
          <p:nvPr/>
        </p:nvSpPr>
        <p:spPr>
          <a:xfrm>
            <a:off x="3106800" y="2919240"/>
            <a:ext cx="403200" cy="250920"/>
          </a:xfrm>
          <a:custGeom>
            <a:avLst/>
            <a:gdLst/>
            <a:ahLst/>
            <a:rect l="l" t="t" r="r" b="b"/>
            <a:pathLst>
              <a:path w="1117" h="696">
                <a:moveTo>
                  <a:pt x="8954" y="8161"/>
                </a:moveTo>
                <a:cubicBezTo>
                  <a:pt x="8942" y="8123"/>
                  <a:pt x="8925" y="8136"/>
                  <a:pt x="8880" y="8136"/>
                </a:cubicBezTo>
                <a:cubicBezTo>
                  <a:pt x="8840" y="8136"/>
                  <a:pt x="8826" y="8111"/>
                  <a:pt x="8781" y="8111"/>
                </a:cubicBezTo>
                <a:cubicBezTo>
                  <a:pt x="8756" y="8111"/>
                  <a:pt x="8748" y="8111"/>
                  <a:pt x="8731" y="8111"/>
                </a:cubicBezTo>
                <a:cubicBezTo>
                  <a:pt x="8731" y="8219"/>
                  <a:pt x="8731" y="8326"/>
                  <a:pt x="8731" y="8434"/>
                </a:cubicBezTo>
                <a:cubicBezTo>
                  <a:pt x="8805" y="8434"/>
                  <a:pt x="8880" y="8434"/>
                  <a:pt x="8954" y="8434"/>
                </a:cubicBezTo>
                <a:cubicBezTo>
                  <a:pt x="8954" y="8539"/>
                  <a:pt x="8976" y="8641"/>
                  <a:pt x="8905" y="8706"/>
                </a:cubicBezTo>
                <a:cubicBezTo>
                  <a:pt x="8866" y="8741"/>
                  <a:pt x="8823" y="8763"/>
                  <a:pt x="8781" y="8781"/>
                </a:cubicBezTo>
                <a:cubicBezTo>
                  <a:pt x="8729" y="8804"/>
                  <a:pt x="8711" y="8806"/>
                  <a:pt x="8657" y="8806"/>
                </a:cubicBezTo>
                <a:cubicBezTo>
                  <a:pt x="8618" y="8806"/>
                  <a:pt x="8632" y="8789"/>
                  <a:pt x="8632" y="8756"/>
                </a:cubicBezTo>
              </a:path>
              <a:path w="1117" h="696">
                <a:moveTo>
                  <a:pt x="9203" y="8731"/>
                </a:moveTo>
                <a:lnTo>
                  <a:pt x="9203" y="8731"/>
                </a:lnTo>
              </a:path>
              <a:path w="1117" h="696">
                <a:moveTo>
                  <a:pt x="9550" y="8235"/>
                </a:moveTo>
                <a:cubicBezTo>
                  <a:pt x="9502" y="8283"/>
                  <a:pt x="9485" y="8322"/>
                  <a:pt x="9451" y="8384"/>
                </a:cubicBezTo>
                <a:cubicBezTo>
                  <a:pt x="9426" y="8430"/>
                  <a:pt x="9429" y="8526"/>
                  <a:pt x="9401" y="8558"/>
                </a:cubicBezTo>
                <a:cubicBezTo>
                  <a:pt x="9378" y="8585"/>
                  <a:pt x="9402" y="8621"/>
                  <a:pt x="9376" y="8657"/>
                </a:cubicBezTo>
                <a:cubicBezTo>
                  <a:pt x="9358" y="8682"/>
                  <a:pt x="9351" y="8677"/>
                  <a:pt x="9351" y="8731"/>
                </a:cubicBezTo>
                <a:cubicBezTo>
                  <a:pt x="9351" y="8756"/>
                  <a:pt x="9351" y="8764"/>
                  <a:pt x="9351" y="8781"/>
                </a:cubicBezTo>
                <a:cubicBezTo>
                  <a:pt x="9434" y="8781"/>
                  <a:pt x="9587" y="8811"/>
                  <a:pt x="9649" y="8756"/>
                </a:cubicBezTo>
                <a:cubicBezTo>
                  <a:pt x="9667" y="8740"/>
                  <a:pt x="9719" y="8708"/>
                  <a:pt x="9723" y="8706"/>
                </a:cubicBezTo>
                <a:cubicBezTo>
                  <a:pt x="9758" y="8689"/>
                  <a:pt x="9748" y="8681"/>
                  <a:pt x="9748" y="8632"/>
                </a:cubicBezTo>
                <a:cubicBezTo>
                  <a:pt x="9748" y="8584"/>
                  <a:pt x="9753" y="8532"/>
                  <a:pt x="9699" y="8508"/>
                </a:cubicBezTo>
                <a:cubicBezTo>
                  <a:pt x="9665" y="8493"/>
                  <a:pt x="9675" y="8483"/>
                  <a:pt x="9624" y="8483"/>
                </a:cubicBezTo>
                <a:cubicBezTo>
                  <a:pt x="9601" y="8483"/>
                  <a:pt x="9558" y="8554"/>
                  <a:pt x="9550" y="8582"/>
                </a:cubicBezTo>
                <a:cubicBezTo>
                  <a:pt x="9535" y="8638"/>
                  <a:pt x="9550" y="8722"/>
                  <a:pt x="9550" y="8781"/>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2116080" y="3483000"/>
            <a:ext cx="162000" cy="241200"/>
          </a:xfrm>
          <a:custGeom>
            <a:avLst/>
            <a:gdLst/>
            <a:ahLst/>
            <a:rect l="l" t="t" r="r" b="b"/>
            <a:pathLst>
              <a:path w="447" h="671">
                <a:moveTo>
                  <a:pt x="5904" y="9699"/>
                </a:moveTo>
                <a:cubicBezTo>
                  <a:pt x="5918" y="9654"/>
                  <a:pt x="5975" y="9674"/>
                  <a:pt x="6028" y="9674"/>
                </a:cubicBezTo>
                <a:cubicBezTo>
                  <a:pt x="6102" y="9674"/>
                  <a:pt x="6177" y="9674"/>
                  <a:pt x="6251" y="9674"/>
                </a:cubicBezTo>
                <a:cubicBezTo>
                  <a:pt x="6251" y="9740"/>
                  <a:pt x="6168" y="9814"/>
                  <a:pt x="6127" y="9872"/>
                </a:cubicBezTo>
                <a:cubicBezTo>
                  <a:pt x="6051" y="9980"/>
                  <a:pt x="5996" y="10087"/>
                  <a:pt x="5928" y="10195"/>
                </a:cubicBezTo>
                <a:cubicBezTo>
                  <a:pt x="5921" y="10206"/>
                  <a:pt x="5905" y="10293"/>
                  <a:pt x="5904" y="10294"/>
                </a:cubicBezTo>
                <a:cubicBezTo>
                  <a:pt x="5877" y="10316"/>
                  <a:pt x="5879" y="10293"/>
                  <a:pt x="5879" y="10344"/>
                </a:cubicBezTo>
                <a:cubicBezTo>
                  <a:pt x="6028" y="10344"/>
                  <a:pt x="6176" y="10344"/>
                  <a:pt x="6325" y="10344"/>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2500200" y="3544920"/>
            <a:ext cx="152640" cy="108000"/>
          </a:xfrm>
          <a:custGeom>
            <a:avLst/>
            <a:gdLst/>
            <a:ahLst/>
            <a:rect l="l" t="t" r="r" b="b"/>
            <a:pathLst>
              <a:path w="423" h="299">
                <a:moveTo>
                  <a:pt x="6995" y="9847"/>
                </a:moveTo>
                <a:cubicBezTo>
                  <a:pt x="7119" y="9847"/>
                  <a:pt x="7243" y="9847"/>
                  <a:pt x="7367" y="9847"/>
                </a:cubicBezTo>
              </a:path>
              <a:path w="423" h="299">
                <a:moveTo>
                  <a:pt x="6970" y="10145"/>
                </a:moveTo>
                <a:cubicBezTo>
                  <a:pt x="6896" y="10145"/>
                  <a:pt x="7092" y="10145"/>
                  <a:pt x="7094" y="10145"/>
                </a:cubicBezTo>
                <a:cubicBezTo>
                  <a:pt x="7168" y="10145"/>
                  <a:pt x="7243" y="10145"/>
                  <a:pt x="7317" y="10145"/>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2884320" y="3375000"/>
            <a:ext cx="581040" cy="304920"/>
          </a:xfrm>
          <a:custGeom>
            <a:avLst/>
            <a:gdLst/>
            <a:ahLst/>
            <a:rect l="l" t="t" r="r" b="b"/>
            <a:pathLst>
              <a:path w="1613" h="845">
                <a:moveTo>
                  <a:pt x="8161" y="9599"/>
                </a:moveTo>
                <a:cubicBezTo>
                  <a:pt x="8161" y="9575"/>
                  <a:pt x="8161" y="9567"/>
                  <a:pt x="8136" y="9575"/>
                </a:cubicBezTo>
                <a:cubicBezTo>
                  <a:pt x="8106" y="9594"/>
                  <a:pt x="8070" y="9715"/>
                  <a:pt x="8062" y="9773"/>
                </a:cubicBezTo>
                <a:cubicBezTo>
                  <a:pt x="8052" y="9843"/>
                  <a:pt x="8024" y="9911"/>
                  <a:pt x="8012" y="9971"/>
                </a:cubicBezTo>
                <a:cubicBezTo>
                  <a:pt x="7997" y="10047"/>
                  <a:pt x="8012" y="10142"/>
                  <a:pt x="8012" y="10220"/>
                </a:cubicBezTo>
                <a:cubicBezTo>
                  <a:pt x="8177" y="10220"/>
                  <a:pt x="8343" y="10220"/>
                  <a:pt x="8508" y="10220"/>
                </a:cubicBezTo>
                <a:cubicBezTo>
                  <a:pt x="8508" y="10112"/>
                  <a:pt x="8508" y="10005"/>
                  <a:pt x="8508" y="9897"/>
                </a:cubicBezTo>
                <a:cubicBezTo>
                  <a:pt x="8443" y="9897"/>
                  <a:pt x="8358" y="9879"/>
                  <a:pt x="8310" y="9922"/>
                </a:cubicBezTo>
                <a:cubicBezTo>
                  <a:pt x="8275" y="9954"/>
                  <a:pt x="8277" y="10004"/>
                  <a:pt x="8260" y="10046"/>
                </a:cubicBezTo>
                <a:cubicBezTo>
                  <a:pt x="8239" y="10099"/>
                  <a:pt x="8235" y="10115"/>
                  <a:pt x="8235" y="10170"/>
                </a:cubicBezTo>
                <a:cubicBezTo>
                  <a:pt x="8235" y="10195"/>
                  <a:pt x="8235" y="10203"/>
                  <a:pt x="8260" y="10195"/>
                </a:cubicBezTo>
              </a:path>
              <a:path w="1613" h="845">
                <a:moveTo>
                  <a:pt x="8880" y="10096"/>
                </a:moveTo>
                <a:cubicBezTo>
                  <a:pt x="8880" y="10088"/>
                  <a:pt x="8880" y="10079"/>
                  <a:pt x="8880" y="10071"/>
                </a:cubicBezTo>
              </a:path>
              <a:path w="1613" h="845">
                <a:moveTo>
                  <a:pt x="9103" y="9500"/>
                </a:moveTo>
                <a:cubicBezTo>
                  <a:pt x="9128" y="9492"/>
                  <a:pt x="9169" y="9468"/>
                  <a:pt x="9203" y="9451"/>
                </a:cubicBezTo>
                <a:cubicBezTo>
                  <a:pt x="9231" y="9437"/>
                  <a:pt x="9267" y="9381"/>
                  <a:pt x="9277" y="9376"/>
                </a:cubicBezTo>
                <a:cubicBezTo>
                  <a:pt x="9334" y="9347"/>
                  <a:pt x="9429" y="9386"/>
                  <a:pt x="9475" y="9401"/>
                </a:cubicBezTo>
                <a:cubicBezTo>
                  <a:pt x="9513" y="9414"/>
                  <a:pt x="9500" y="9430"/>
                  <a:pt x="9500" y="9475"/>
                </a:cubicBezTo>
                <a:cubicBezTo>
                  <a:pt x="9500" y="9520"/>
                  <a:pt x="9526" y="9673"/>
                  <a:pt x="9475" y="9699"/>
                </a:cubicBezTo>
                <a:cubicBezTo>
                  <a:pt x="9430" y="9722"/>
                  <a:pt x="9431" y="9756"/>
                  <a:pt x="9401" y="9798"/>
                </a:cubicBezTo>
                <a:cubicBezTo>
                  <a:pt x="9372" y="9839"/>
                  <a:pt x="9297" y="9894"/>
                  <a:pt x="9277" y="9922"/>
                </a:cubicBezTo>
                <a:cubicBezTo>
                  <a:pt x="9259" y="9948"/>
                  <a:pt x="9252" y="9985"/>
                  <a:pt x="9252" y="10021"/>
                </a:cubicBezTo>
                <a:cubicBezTo>
                  <a:pt x="9252" y="10077"/>
                  <a:pt x="9227" y="10091"/>
                  <a:pt x="9227" y="10145"/>
                </a:cubicBezTo>
                <a:cubicBezTo>
                  <a:pt x="9359" y="10145"/>
                  <a:pt x="9492" y="10145"/>
                  <a:pt x="9624" y="10145"/>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1608120" y="3036960"/>
            <a:ext cx="34920" cy="1440"/>
          </a:xfrm>
          <a:custGeom>
            <a:avLst/>
            <a:gdLst/>
            <a:ahLst/>
            <a:rect l="l" t="t" r="r" b="b"/>
            <a:pathLst>
              <a:path w="100" h="1">
                <a:moveTo>
                  <a:pt x="4465" y="8434"/>
                </a:moveTo>
                <a:cubicBezTo>
                  <a:pt x="4498" y="8434"/>
                  <a:pt x="4531" y="8434"/>
                  <a:pt x="4564" y="8434"/>
                </a:cubicBez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1" name=""/>
          <p:cNvSpPr/>
          <p:nvPr/>
        </p:nvSpPr>
        <p:spPr>
          <a:xfrm>
            <a:off x="1820880" y="2963880"/>
            <a:ext cx="492120" cy="216000"/>
          </a:xfrm>
          <a:custGeom>
            <a:avLst/>
            <a:gdLst/>
            <a:ahLst/>
            <a:rect l="l" t="t" r="r" b="b"/>
            <a:pathLst>
              <a:path w="1365" h="596">
                <a:moveTo>
                  <a:pt x="5432" y="8260"/>
                </a:moveTo>
                <a:cubicBezTo>
                  <a:pt x="5419" y="8220"/>
                  <a:pt x="5384" y="8235"/>
                  <a:pt x="5333" y="8235"/>
                </a:cubicBezTo>
                <a:cubicBezTo>
                  <a:pt x="5292" y="8235"/>
                  <a:pt x="5250" y="8235"/>
                  <a:pt x="5209" y="8235"/>
                </a:cubicBezTo>
                <a:cubicBezTo>
                  <a:pt x="5209" y="8291"/>
                  <a:pt x="5191" y="8333"/>
                  <a:pt x="5184" y="8384"/>
                </a:cubicBezTo>
                <a:cubicBezTo>
                  <a:pt x="5177" y="8439"/>
                  <a:pt x="5184" y="8502"/>
                  <a:pt x="5184" y="8558"/>
                </a:cubicBezTo>
                <a:cubicBezTo>
                  <a:pt x="5282" y="8558"/>
                  <a:pt x="5314" y="8556"/>
                  <a:pt x="5383" y="8607"/>
                </a:cubicBezTo>
                <a:cubicBezTo>
                  <a:pt x="5425" y="8638"/>
                  <a:pt x="5451" y="8650"/>
                  <a:pt x="5457" y="8706"/>
                </a:cubicBezTo>
                <a:cubicBezTo>
                  <a:pt x="5465" y="8776"/>
                  <a:pt x="5367" y="8768"/>
                  <a:pt x="5333" y="8806"/>
                </a:cubicBezTo>
                <a:cubicBezTo>
                  <a:pt x="5309" y="8833"/>
                  <a:pt x="5285" y="8830"/>
                  <a:pt x="5234" y="8830"/>
                </a:cubicBezTo>
                <a:cubicBezTo>
                  <a:pt x="5176" y="8830"/>
                  <a:pt x="5118" y="8830"/>
                  <a:pt x="5060" y="8830"/>
                </a:cubicBezTo>
              </a:path>
              <a:path w="1365" h="596">
                <a:moveTo>
                  <a:pt x="5705" y="8706"/>
                </a:moveTo>
                <a:lnTo>
                  <a:pt x="5705" y="8706"/>
                </a:lnTo>
              </a:path>
              <a:path w="1365" h="596">
                <a:moveTo>
                  <a:pt x="6077" y="8260"/>
                </a:moveTo>
                <a:cubicBezTo>
                  <a:pt x="6069" y="8323"/>
                  <a:pt x="6034" y="8372"/>
                  <a:pt x="6028" y="8434"/>
                </a:cubicBezTo>
                <a:cubicBezTo>
                  <a:pt x="6024" y="8474"/>
                  <a:pt x="6003" y="8452"/>
                  <a:pt x="6003" y="8508"/>
                </a:cubicBezTo>
                <a:cubicBezTo>
                  <a:pt x="6003" y="8548"/>
                  <a:pt x="5981" y="8692"/>
                  <a:pt x="6028" y="8706"/>
                </a:cubicBezTo>
                <a:cubicBezTo>
                  <a:pt x="6083" y="8723"/>
                  <a:pt x="6142" y="8731"/>
                  <a:pt x="6201" y="8731"/>
                </a:cubicBezTo>
                <a:cubicBezTo>
                  <a:pt x="6277" y="8731"/>
                  <a:pt x="6335" y="8726"/>
                  <a:pt x="6400" y="8706"/>
                </a:cubicBezTo>
                <a:cubicBezTo>
                  <a:pt x="6437" y="8695"/>
                  <a:pt x="6424" y="8675"/>
                  <a:pt x="6424" y="8632"/>
                </a:cubicBezTo>
                <a:cubicBezTo>
                  <a:pt x="6424" y="8591"/>
                  <a:pt x="6386" y="8603"/>
                  <a:pt x="6375" y="8582"/>
                </a:cubicBezTo>
                <a:cubicBezTo>
                  <a:pt x="6358" y="8549"/>
                  <a:pt x="6347" y="8558"/>
                  <a:pt x="6300" y="8558"/>
                </a:cubicBezTo>
                <a:cubicBezTo>
                  <a:pt x="6249" y="8558"/>
                  <a:pt x="6237" y="8620"/>
                  <a:pt x="6226" y="8657"/>
                </a:cubicBezTo>
                <a:cubicBezTo>
                  <a:pt x="6218" y="8684"/>
                  <a:pt x="6226" y="8728"/>
                  <a:pt x="6226" y="8756"/>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1108080" y="4813200"/>
            <a:ext cx="71280" cy="1800"/>
          </a:xfrm>
          <a:custGeom>
            <a:avLst/>
            <a:gdLst/>
            <a:ahLst/>
            <a:rect l="l" t="t" r="r" b="b"/>
            <a:pathLst>
              <a:path w="199" h="1">
                <a:moveTo>
                  <a:pt x="3076" y="13370"/>
                </a:moveTo>
                <a:cubicBezTo>
                  <a:pt x="3142" y="13370"/>
                  <a:pt x="3208" y="13370"/>
                  <a:pt x="3274" y="13370"/>
                </a:cubicBezTo>
              </a:path>
            </a:pathLst>
          </a:custGeom>
          <a:noFill/>
          <a:ln cap="rnd" w="34920">
            <a:solidFill>
              <a:srgbClr val="ff0000"/>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63" name=""/>
          <p:cNvSpPr/>
          <p:nvPr/>
        </p:nvSpPr>
        <p:spPr>
          <a:xfrm>
            <a:off x="1312920" y="4732200"/>
            <a:ext cx="1440" cy="152640"/>
          </a:xfrm>
          <a:custGeom>
            <a:avLst/>
            <a:gdLst/>
            <a:ahLst/>
            <a:rect l="l" t="t" r="r" b="b"/>
            <a:pathLst>
              <a:path w="1" h="423">
                <a:moveTo>
                  <a:pt x="3646" y="13469"/>
                </a:moveTo>
                <a:cubicBezTo>
                  <a:pt x="3646" y="13477"/>
                  <a:pt x="3646" y="13486"/>
                  <a:pt x="3646" y="13494"/>
                </a:cubicBezTo>
              </a:path>
              <a:path w="1" h="423">
                <a:moveTo>
                  <a:pt x="3646" y="13146"/>
                </a:moveTo>
                <a:cubicBezTo>
                  <a:pt x="3646" y="13287"/>
                  <a:pt x="3646" y="13427"/>
                  <a:pt x="3646" y="13568"/>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1411200" y="4653000"/>
            <a:ext cx="133560" cy="258840"/>
          </a:xfrm>
          <a:custGeom>
            <a:avLst/>
            <a:gdLst/>
            <a:ahLst/>
            <a:rect l="l" t="t" r="r" b="b"/>
            <a:pathLst>
              <a:path w="373" h="721">
                <a:moveTo>
                  <a:pt x="3919" y="13271"/>
                </a:moveTo>
                <a:cubicBezTo>
                  <a:pt x="3919" y="13304"/>
                  <a:pt x="3919" y="13337"/>
                  <a:pt x="3919" y="13370"/>
                </a:cubicBezTo>
                <a:cubicBezTo>
                  <a:pt x="4043" y="13370"/>
                  <a:pt x="4167" y="13370"/>
                  <a:pt x="4291" y="13370"/>
                </a:cubicBezTo>
              </a:path>
              <a:path w="373" h="721">
                <a:moveTo>
                  <a:pt x="4291" y="13370"/>
                </a:moveTo>
                <a:cubicBezTo>
                  <a:pt x="4291" y="13242"/>
                  <a:pt x="4292" y="13119"/>
                  <a:pt x="4266" y="12998"/>
                </a:cubicBezTo>
                <a:cubicBezTo>
                  <a:pt x="4264" y="12988"/>
                  <a:pt x="4266" y="12880"/>
                  <a:pt x="4266" y="12948"/>
                </a:cubicBezTo>
                <a:cubicBezTo>
                  <a:pt x="4266" y="13180"/>
                  <a:pt x="4266" y="13411"/>
                  <a:pt x="4266" y="13643"/>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1928880" y="4697280"/>
            <a:ext cx="27000" cy="1800"/>
          </a:xfrm>
          <a:custGeom>
            <a:avLst/>
            <a:gdLst/>
            <a:ahLst/>
            <a:rect l="l" t="t" r="r" b="b"/>
            <a:pathLst>
              <a:path w="75" h="1">
                <a:moveTo>
                  <a:pt x="5383" y="13047"/>
                </a:moveTo>
                <a:cubicBezTo>
                  <a:pt x="5316" y="13047"/>
                  <a:pt x="5421" y="13047"/>
                  <a:pt x="5432" y="13047"/>
                </a:cubicBezTo>
              </a:path>
            </a:pathLst>
          </a:custGeom>
          <a:noFill/>
          <a:ln cap="rnd" w="34920">
            <a:solidFill>
              <a:srgbClr val="ff0000"/>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66" name=""/>
          <p:cNvSpPr/>
          <p:nvPr/>
        </p:nvSpPr>
        <p:spPr>
          <a:xfrm>
            <a:off x="2170080" y="4697280"/>
            <a:ext cx="1800" cy="81000"/>
          </a:xfrm>
          <a:custGeom>
            <a:avLst/>
            <a:gdLst/>
            <a:ahLst/>
            <a:rect l="l" t="t" r="r" b="b"/>
            <a:pathLst>
              <a:path w="1" h="225">
                <a:moveTo>
                  <a:pt x="6028" y="13047"/>
                </a:moveTo>
                <a:cubicBezTo>
                  <a:pt x="6028" y="13122"/>
                  <a:pt x="6028" y="13196"/>
                  <a:pt x="6028" y="13271"/>
                </a:cubicBezTo>
              </a:path>
            </a:pathLst>
          </a:custGeom>
          <a:noFill/>
          <a:ln cap="rnd" w="34920">
            <a:solidFill>
              <a:srgbClr val="ff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67" name=""/>
          <p:cNvSpPr/>
          <p:nvPr/>
        </p:nvSpPr>
        <p:spPr>
          <a:xfrm>
            <a:off x="2340000" y="4660920"/>
            <a:ext cx="71280" cy="169920"/>
          </a:xfrm>
          <a:custGeom>
            <a:avLst/>
            <a:gdLst/>
            <a:ahLst/>
            <a:rect l="l" t="t" r="r" b="b"/>
            <a:pathLst>
              <a:path w="199" h="472">
                <a:moveTo>
                  <a:pt x="6499" y="12948"/>
                </a:moveTo>
                <a:cubicBezTo>
                  <a:pt x="6499" y="13014"/>
                  <a:pt x="6499" y="13080"/>
                  <a:pt x="6499" y="13146"/>
                </a:cubicBezTo>
                <a:cubicBezTo>
                  <a:pt x="6568" y="13146"/>
                  <a:pt x="6615" y="13141"/>
                  <a:pt x="6672" y="13122"/>
                </a:cubicBezTo>
                <a:cubicBezTo>
                  <a:pt x="6680" y="13122"/>
                  <a:pt x="6689" y="13122"/>
                  <a:pt x="6697" y="13122"/>
                </a:cubicBezTo>
              </a:path>
              <a:path w="199" h="472">
                <a:moveTo>
                  <a:pt x="6697" y="13072"/>
                </a:moveTo>
                <a:cubicBezTo>
                  <a:pt x="6697" y="13188"/>
                  <a:pt x="6697" y="13303"/>
                  <a:pt x="6697" y="13419"/>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1204920" y="5180040"/>
            <a:ext cx="465120" cy="374760"/>
          </a:xfrm>
          <a:custGeom>
            <a:avLst/>
            <a:gdLst/>
            <a:ahLst/>
            <a:rect l="l" t="t" r="r" b="b"/>
            <a:pathLst>
              <a:path w="1290" h="1043">
                <a:moveTo>
                  <a:pt x="3497" y="14560"/>
                </a:moveTo>
                <a:cubicBezTo>
                  <a:pt x="3501" y="14521"/>
                  <a:pt x="3482" y="14465"/>
                  <a:pt x="3522" y="14436"/>
                </a:cubicBezTo>
                <a:cubicBezTo>
                  <a:pt x="3542" y="14422"/>
                  <a:pt x="3644" y="14392"/>
                  <a:pt x="3671" y="14387"/>
                </a:cubicBezTo>
                <a:cubicBezTo>
                  <a:pt x="3733" y="14375"/>
                  <a:pt x="3849" y="14377"/>
                  <a:pt x="3894" y="14412"/>
                </a:cubicBezTo>
                <a:cubicBezTo>
                  <a:pt x="3926" y="14437"/>
                  <a:pt x="3961" y="14567"/>
                  <a:pt x="3969" y="14610"/>
                </a:cubicBezTo>
                <a:cubicBezTo>
                  <a:pt x="3996" y="14750"/>
                  <a:pt x="3976" y="14937"/>
                  <a:pt x="3919" y="15056"/>
                </a:cubicBezTo>
                <a:cubicBezTo>
                  <a:pt x="3861" y="15177"/>
                  <a:pt x="3834" y="15252"/>
                  <a:pt x="3721" y="15329"/>
                </a:cubicBezTo>
                <a:cubicBezTo>
                  <a:pt x="3653" y="15376"/>
                  <a:pt x="3607" y="15425"/>
                  <a:pt x="3522" y="15429"/>
                </a:cubicBezTo>
                <a:cubicBezTo>
                  <a:pt x="3488" y="15430"/>
                  <a:pt x="3390" y="15448"/>
                  <a:pt x="3373" y="15404"/>
                </a:cubicBezTo>
                <a:cubicBezTo>
                  <a:pt x="3359" y="15369"/>
                  <a:pt x="3354" y="15356"/>
                  <a:pt x="3349" y="15329"/>
                </a:cubicBezTo>
                <a:cubicBezTo>
                  <a:pt x="3336" y="15263"/>
                  <a:pt x="3345" y="15199"/>
                  <a:pt x="3398" y="15156"/>
                </a:cubicBezTo>
                <a:cubicBezTo>
                  <a:pt x="3476" y="15093"/>
                  <a:pt x="3512" y="15105"/>
                  <a:pt x="3597" y="15081"/>
                </a:cubicBezTo>
                <a:cubicBezTo>
                  <a:pt x="3651" y="15066"/>
                  <a:pt x="3666" y="15059"/>
                  <a:pt x="3721" y="15056"/>
                </a:cubicBezTo>
                <a:cubicBezTo>
                  <a:pt x="3797" y="15052"/>
                  <a:pt x="3796" y="15086"/>
                  <a:pt x="3845" y="15106"/>
                </a:cubicBezTo>
                <a:cubicBezTo>
                  <a:pt x="3895" y="15126"/>
                  <a:pt x="3906" y="15146"/>
                  <a:pt x="3944" y="15205"/>
                </a:cubicBezTo>
                <a:cubicBezTo>
                  <a:pt x="3975" y="15254"/>
                  <a:pt x="3991" y="15275"/>
                  <a:pt x="3994" y="15329"/>
                </a:cubicBezTo>
                <a:cubicBezTo>
                  <a:pt x="3994" y="15354"/>
                  <a:pt x="3994" y="15362"/>
                  <a:pt x="3994" y="15379"/>
                </a:cubicBezTo>
              </a:path>
              <a:path w="1290" h="1043">
                <a:moveTo>
                  <a:pt x="4465" y="14610"/>
                </a:moveTo>
                <a:cubicBezTo>
                  <a:pt x="4465" y="14569"/>
                  <a:pt x="4459" y="14530"/>
                  <a:pt x="4415" y="14511"/>
                </a:cubicBezTo>
                <a:cubicBezTo>
                  <a:pt x="4381" y="14496"/>
                  <a:pt x="4374" y="14486"/>
                  <a:pt x="4316" y="14486"/>
                </a:cubicBezTo>
                <a:cubicBezTo>
                  <a:pt x="4252" y="14486"/>
                  <a:pt x="4248" y="14501"/>
                  <a:pt x="4217" y="14560"/>
                </a:cubicBezTo>
                <a:cubicBezTo>
                  <a:pt x="4190" y="14610"/>
                  <a:pt x="4152" y="14678"/>
                  <a:pt x="4142" y="14734"/>
                </a:cubicBezTo>
                <a:cubicBezTo>
                  <a:pt x="4122" y="14847"/>
                  <a:pt x="4148" y="14920"/>
                  <a:pt x="4192" y="15007"/>
                </a:cubicBezTo>
                <a:cubicBezTo>
                  <a:pt x="4205" y="15034"/>
                  <a:pt x="4223" y="15051"/>
                  <a:pt x="4266" y="15056"/>
                </a:cubicBezTo>
                <a:cubicBezTo>
                  <a:pt x="4375" y="15068"/>
                  <a:pt x="4334" y="15058"/>
                  <a:pt x="4390" y="14982"/>
                </a:cubicBezTo>
                <a:cubicBezTo>
                  <a:pt x="4444" y="14908"/>
                  <a:pt x="4465" y="14876"/>
                  <a:pt x="4465" y="14784"/>
                </a:cubicBezTo>
                <a:cubicBezTo>
                  <a:pt x="4465" y="14709"/>
                  <a:pt x="4465" y="14635"/>
                  <a:pt x="4465" y="14560"/>
                </a:cubicBezTo>
                <a:cubicBezTo>
                  <a:pt x="4533" y="14663"/>
                  <a:pt x="4538" y="14796"/>
                  <a:pt x="4589" y="14908"/>
                </a:cubicBezTo>
                <a:cubicBezTo>
                  <a:pt x="4629" y="14997"/>
                  <a:pt x="4638" y="15010"/>
                  <a:pt x="4638" y="15106"/>
                </a:cubicBezTo>
                <a:cubicBezTo>
                  <a:pt x="4638" y="15156"/>
                  <a:pt x="4638" y="15205"/>
                  <a:pt x="4638" y="15255"/>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1820880" y="5357880"/>
            <a:ext cx="501480" cy="169920"/>
          </a:xfrm>
          <a:custGeom>
            <a:avLst/>
            <a:gdLst/>
            <a:ahLst/>
            <a:rect l="l" t="t" r="r" b="b"/>
            <a:pathLst>
              <a:path w="1390" h="472">
                <a:moveTo>
                  <a:pt x="5060" y="14883"/>
                </a:moveTo>
                <a:cubicBezTo>
                  <a:pt x="5175" y="14883"/>
                  <a:pt x="5369" y="14842"/>
                  <a:pt x="5457" y="14908"/>
                </a:cubicBezTo>
              </a:path>
              <a:path w="1390" h="472">
                <a:moveTo>
                  <a:pt x="5159" y="15180"/>
                </a:moveTo>
                <a:cubicBezTo>
                  <a:pt x="5316" y="15180"/>
                  <a:pt x="5474" y="15180"/>
                  <a:pt x="5631" y="15180"/>
                </a:cubicBezTo>
              </a:path>
              <a:path w="1390" h="472">
                <a:moveTo>
                  <a:pt x="5879" y="14908"/>
                </a:moveTo>
                <a:cubicBezTo>
                  <a:pt x="5879" y="15038"/>
                  <a:pt x="5873" y="15159"/>
                  <a:pt x="5904" y="15280"/>
                </a:cubicBezTo>
                <a:cubicBezTo>
                  <a:pt x="5909" y="15301"/>
                  <a:pt x="5904" y="15332"/>
                  <a:pt x="5904" y="15354"/>
                </a:cubicBezTo>
                <a:cubicBezTo>
                  <a:pt x="5924" y="15291"/>
                  <a:pt x="5946" y="15221"/>
                  <a:pt x="5953" y="15156"/>
                </a:cubicBezTo>
                <a:cubicBezTo>
                  <a:pt x="5959" y="15096"/>
                  <a:pt x="5963" y="15062"/>
                  <a:pt x="5978" y="15032"/>
                </a:cubicBezTo>
                <a:cubicBezTo>
                  <a:pt x="5999" y="14989"/>
                  <a:pt x="6001" y="14999"/>
                  <a:pt x="6052" y="14957"/>
                </a:cubicBezTo>
                <a:cubicBezTo>
                  <a:pt x="6082" y="14932"/>
                  <a:pt x="6135" y="14918"/>
                  <a:pt x="6176" y="14908"/>
                </a:cubicBezTo>
                <a:cubicBezTo>
                  <a:pt x="6232" y="14894"/>
                  <a:pt x="6328" y="14904"/>
                  <a:pt x="6350" y="14932"/>
                </a:cubicBezTo>
                <a:cubicBezTo>
                  <a:pt x="6387" y="14980"/>
                  <a:pt x="6429" y="15025"/>
                  <a:pt x="6449" y="15081"/>
                </a:cubicBezTo>
                <a:cubicBezTo>
                  <a:pt x="6470" y="15140"/>
                  <a:pt x="6449" y="15241"/>
                  <a:pt x="6449" y="15304"/>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a:off x="1108080" y="1598760"/>
            <a:ext cx="3044880" cy="142560"/>
          </a:xfrm>
          <a:custGeom>
            <a:avLst/>
            <a:gdLst/>
            <a:ahLst/>
            <a:rect l="l" t="t" r="r" b="b"/>
            <a:pathLst>
              <a:path w="8459" h="398">
                <a:moveTo>
                  <a:pt x="3076" y="4837"/>
                </a:moveTo>
                <a:cubicBezTo>
                  <a:pt x="3319" y="4768"/>
                  <a:pt x="3557" y="4713"/>
                  <a:pt x="3820" y="4688"/>
                </a:cubicBezTo>
                <a:cubicBezTo>
                  <a:pt x="4191" y="4653"/>
                  <a:pt x="4564" y="4618"/>
                  <a:pt x="4936" y="4614"/>
                </a:cubicBezTo>
                <a:cubicBezTo>
                  <a:pt x="5371" y="4610"/>
                  <a:pt x="5822" y="4596"/>
                  <a:pt x="6251" y="4638"/>
                </a:cubicBezTo>
                <a:cubicBezTo>
                  <a:pt x="6441" y="4657"/>
                  <a:pt x="6638" y="4718"/>
                  <a:pt x="6821" y="4738"/>
                </a:cubicBezTo>
                <a:cubicBezTo>
                  <a:pt x="7264" y="4786"/>
                  <a:pt x="7728" y="4689"/>
                  <a:pt x="8161" y="4638"/>
                </a:cubicBezTo>
                <a:cubicBezTo>
                  <a:pt x="8583" y="4588"/>
                  <a:pt x="9001" y="4544"/>
                  <a:pt x="9426" y="4539"/>
                </a:cubicBezTo>
                <a:cubicBezTo>
                  <a:pt x="9946" y="4533"/>
                  <a:pt x="10533" y="4539"/>
                  <a:pt x="11013" y="4514"/>
                </a:cubicBezTo>
                <a:cubicBezTo>
                  <a:pt x="11162" y="4506"/>
                  <a:pt x="11319" y="4537"/>
                  <a:pt x="11460" y="4490"/>
                </a:cubicBezTo>
                <a:cubicBezTo>
                  <a:pt x="11484" y="4482"/>
                  <a:pt x="11532" y="4441"/>
                  <a:pt x="11534" y="4440"/>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1177920" y="3268800"/>
            <a:ext cx="2332080" cy="98280"/>
          </a:xfrm>
          <a:custGeom>
            <a:avLst/>
            <a:gdLst/>
            <a:ahLst/>
            <a:rect l="l" t="t" r="r" b="b"/>
            <a:pathLst>
              <a:path w="6475" h="273">
                <a:moveTo>
                  <a:pt x="3274" y="9351"/>
                </a:moveTo>
                <a:cubicBezTo>
                  <a:pt x="3359" y="9330"/>
                  <a:pt x="3458" y="9288"/>
                  <a:pt x="3547" y="9277"/>
                </a:cubicBezTo>
                <a:cubicBezTo>
                  <a:pt x="3633" y="9266"/>
                  <a:pt x="3712" y="9266"/>
                  <a:pt x="3795" y="9252"/>
                </a:cubicBezTo>
                <a:cubicBezTo>
                  <a:pt x="3909" y="9233"/>
                  <a:pt x="4028" y="9222"/>
                  <a:pt x="4142" y="9203"/>
                </a:cubicBezTo>
                <a:cubicBezTo>
                  <a:pt x="4386" y="9163"/>
                  <a:pt x="4639" y="9178"/>
                  <a:pt x="4887" y="9178"/>
                </a:cubicBezTo>
                <a:cubicBezTo>
                  <a:pt x="5152" y="9178"/>
                  <a:pt x="5424" y="9188"/>
                  <a:pt x="5680" y="9203"/>
                </a:cubicBezTo>
                <a:cubicBezTo>
                  <a:pt x="5813" y="9211"/>
                  <a:pt x="5944" y="9224"/>
                  <a:pt x="6077" y="9227"/>
                </a:cubicBezTo>
                <a:cubicBezTo>
                  <a:pt x="6415" y="9234"/>
                  <a:pt x="6766" y="9238"/>
                  <a:pt x="7094" y="9203"/>
                </a:cubicBezTo>
                <a:cubicBezTo>
                  <a:pt x="7328" y="9178"/>
                  <a:pt x="7557" y="9161"/>
                  <a:pt x="7789" y="9128"/>
                </a:cubicBezTo>
                <a:cubicBezTo>
                  <a:pt x="8016" y="9096"/>
                  <a:pt x="8254" y="9083"/>
                  <a:pt x="8483" y="9079"/>
                </a:cubicBezTo>
                <a:cubicBezTo>
                  <a:pt x="8904" y="9071"/>
                  <a:pt x="9327" y="9079"/>
                  <a:pt x="9748" y="9079"/>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1089000" y="4991040"/>
            <a:ext cx="2340000" cy="125640"/>
          </a:xfrm>
          <a:custGeom>
            <a:avLst/>
            <a:gdLst/>
            <a:ahLst/>
            <a:rect l="l" t="t" r="r" b="b"/>
            <a:pathLst>
              <a:path w="6500" h="348">
                <a:moveTo>
                  <a:pt x="3026" y="13915"/>
                </a:moveTo>
                <a:cubicBezTo>
                  <a:pt x="3287" y="13915"/>
                  <a:pt x="3535" y="13872"/>
                  <a:pt x="3795" y="13866"/>
                </a:cubicBezTo>
                <a:cubicBezTo>
                  <a:pt x="4326" y="13854"/>
                  <a:pt x="4861" y="13845"/>
                  <a:pt x="5383" y="13940"/>
                </a:cubicBezTo>
                <a:cubicBezTo>
                  <a:pt x="5630" y="13985"/>
                  <a:pt x="5882" y="14016"/>
                  <a:pt x="6127" y="14064"/>
                </a:cubicBezTo>
                <a:cubicBezTo>
                  <a:pt x="6434" y="14124"/>
                  <a:pt x="6731" y="14192"/>
                  <a:pt x="7045" y="14213"/>
                </a:cubicBezTo>
                <a:cubicBezTo>
                  <a:pt x="7214" y="14224"/>
                  <a:pt x="7378" y="14204"/>
                  <a:pt x="7541" y="14188"/>
                </a:cubicBezTo>
                <a:cubicBezTo>
                  <a:pt x="7689" y="14173"/>
                  <a:pt x="7838" y="14155"/>
                  <a:pt x="7987" y="14139"/>
                </a:cubicBezTo>
                <a:cubicBezTo>
                  <a:pt x="8343" y="14101"/>
                  <a:pt x="8695" y="14033"/>
                  <a:pt x="9054" y="14015"/>
                </a:cubicBezTo>
                <a:cubicBezTo>
                  <a:pt x="9210" y="14007"/>
                  <a:pt x="9369" y="14015"/>
                  <a:pt x="9525" y="14015"/>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243">
                                            <p:txEl>
                                              <p:pRg st="1" end="1"/>
                                            </p:txEl>
                                          </p:spTgt>
                                        </p:tgtEl>
                                        <p:attrNameLst>
                                          <p:attrName>style.visibility</p:attrName>
                                        </p:attrNameLst>
                                      </p:cBhvr>
                                      <p:to>
                                        <p:strVal val="visible"/>
                                      </p:to>
                                    </p:set>
                                    <p:anim calcmode="lin" valueType="num">
                                      <p:cBhvr additive="base">
                                        <p:cTn id="67" dur="500" fill="hold"/>
                                        <p:tgtEl>
                                          <p:spTgt spid="243">
                                            <p:txEl>
                                              <p:pRg st="1" end="1"/>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24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243">
                                            <p:txEl>
                                              <p:pRg st="4" end="4"/>
                                            </p:txEl>
                                          </p:spTgt>
                                        </p:tgtEl>
                                        <p:attrNameLst>
                                          <p:attrName>style.visibility</p:attrName>
                                        </p:attrNameLst>
                                      </p:cBhvr>
                                      <p:to>
                                        <p:strVal val="visible"/>
                                      </p:to>
                                    </p:set>
                                    <p:anim calcmode="lin" valueType="num">
                                      <p:cBhvr additive="base">
                                        <p:cTn id="73" dur="500" fill="hold"/>
                                        <p:tgtEl>
                                          <p:spTgt spid="243">
                                            <p:txEl>
                                              <p:pRg st="4" end="4"/>
                                            </p:txEl>
                                          </p:spTgt>
                                        </p:tgtEl>
                                        <p:attrNameLst>
                                          <p:attrName>ppt_x</p:attrName>
                                        </p:attrNameLst>
                                      </p:cBhvr>
                                      <p:tavLst>
                                        <p:tav tm="0">
                                          <p:val>
                                            <p:strVal val="#ppt_x"/>
                                          </p:val>
                                        </p:tav>
                                        <p:tav tm="100000">
                                          <p:val>
                                            <p:strVal val="#ppt_x"/>
                                          </p:val>
                                        </p:tav>
                                      </p:tavLst>
                                    </p:anim>
                                    <p:anim calcmode="lin" valueType="num">
                                      <p:cBhvr additive="base">
                                        <p:cTn id="74" dur="500" fill="hold"/>
                                        <p:tgtEl>
                                          <p:spTgt spid="24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243">
                                            <p:txEl>
                                              <p:pRg st="7" end="7"/>
                                            </p:txEl>
                                          </p:spTgt>
                                        </p:tgtEl>
                                        <p:attrNameLst>
                                          <p:attrName>style.visibility</p:attrName>
                                        </p:attrNameLst>
                                      </p:cBhvr>
                                      <p:to>
                                        <p:strVal val="visible"/>
                                      </p:to>
                                    </p:set>
                                    <p:anim calcmode="lin" valueType="num">
                                      <p:cBhvr additive="base">
                                        <p:cTn id="79" dur="500" fill="hold"/>
                                        <p:tgtEl>
                                          <p:spTgt spid="243">
                                            <p:txEl>
                                              <p:pRg st="7" end="7"/>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243">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p:nvPr>
        </p:nvSpPr>
        <p:spPr>
          <a:xfrm>
            <a:off x="685800" y="304560"/>
            <a:ext cx="7391520" cy="51814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omic Sans MS"/>
              </a:rPr>
              <a:t>Word Problem:</a:t>
            </a:r>
            <a:endParaRPr b="0" lang="en-US" sz="36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1.) This month you have talked 345 minutes on your cell phone. You can use 500 minutes before you have to pay extra fees. Write and solve an equation to find the number </a:t>
            </a:r>
            <a:r>
              <a:rPr b="0" i="1" lang="en-US" sz="2600" spc="-1" strike="noStrike">
                <a:solidFill>
                  <a:srgbClr val="000000"/>
                </a:solidFill>
                <a:latin typeface="Comic Sans MS"/>
              </a:rPr>
              <a:t>m</a:t>
            </a:r>
            <a:r>
              <a:rPr b="0" lang="en-US" sz="2600" spc="-1" strike="noStrike">
                <a:solidFill>
                  <a:srgbClr val="000000"/>
                </a:solidFill>
                <a:latin typeface="Comic Sans MS"/>
              </a:rPr>
              <a:t> of minutes before you have to pay extra fees.</a:t>
            </a:r>
            <a:r>
              <a:rPr b="0" lang="en-US" sz="2400" spc="-1" strike="noStrike">
                <a:solidFill>
                  <a:srgbClr val="000000"/>
                </a:solidFill>
                <a:latin typeface="Comic Sans MS"/>
              </a:rPr>
              <a:t> </a:t>
            </a:r>
            <a:endParaRPr b="0" lang="en-US" sz="2400" spc="-1" strike="noStrike">
              <a:solidFill>
                <a:srgbClr val="000000"/>
              </a:solidFill>
              <a:latin typeface="Comic Sans MS"/>
            </a:endParaRPr>
          </a:p>
        </p:txBody>
      </p:sp>
      <p:sp>
        <p:nvSpPr>
          <p:cNvPr id="274" name=""/>
          <p:cNvSpPr/>
          <p:nvPr/>
        </p:nvSpPr>
        <p:spPr>
          <a:xfrm>
            <a:off x="2919240" y="3741840"/>
            <a:ext cx="1108080" cy="322200"/>
          </a:xfrm>
          <a:custGeom>
            <a:avLst/>
            <a:gdLst/>
            <a:ahLst/>
            <a:rect l="l" t="t" r="r" b="b"/>
            <a:pathLst>
              <a:path w="3077" h="894">
                <a:moveTo>
                  <a:pt x="8285" y="10393"/>
                </a:moveTo>
                <a:cubicBezTo>
                  <a:pt x="8285" y="10459"/>
                  <a:pt x="8266" y="10424"/>
                  <a:pt x="8260" y="10492"/>
                </a:cubicBezTo>
                <a:cubicBezTo>
                  <a:pt x="8251" y="10595"/>
                  <a:pt x="8251" y="10692"/>
                  <a:pt x="8235" y="10790"/>
                </a:cubicBezTo>
                <a:cubicBezTo>
                  <a:pt x="8227" y="10836"/>
                  <a:pt x="8230" y="10924"/>
                  <a:pt x="8210" y="10964"/>
                </a:cubicBezTo>
                <a:cubicBezTo>
                  <a:pt x="8202" y="10972"/>
                  <a:pt x="8194" y="10980"/>
                  <a:pt x="8186" y="10988"/>
                </a:cubicBezTo>
                <a:cubicBezTo>
                  <a:pt x="8186" y="11038"/>
                  <a:pt x="8191" y="10919"/>
                  <a:pt x="8210" y="10889"/>
                </a:cubicBezTo>
                <a:cubicBezTo>
                  <a:pt x="8268" y="10800"/>
                  <a:pt x="8329" y="10798"/>
                  <a:pt x="8434" y="10790"/>
                </a:cubicBezTo>
                <a:cubicBezTo>
                  <a:pt x="8489" y="10786"/>
                  <a:pt x="8543" y="10779"/>
                  <a:pt x="8582" y="10815"/>
                </a:cubicBezTo>
                <a:cubicBezTo>
                  <a:pt x="8657" y="10884"/>
                  <a:pt x="8635" y="10935"/>
                  <a:pt x="8682" y="11013"/>
                </a:cubicBezTo>
                <a:cubicBezTo>
                  <a:pt x="8710" y="11060"/>
                  <a:pt x="8706" y="11077"/>
                  <a:pt x="8706" y="11137"/>
                </a:cubicBezTo>
                <a:cubicBezTo>
                  <a:pt x="8706" y="11196"/>
                  <a:pt x="8631" y="11240"/>
                  <a:pt x="8582" y="11261"/>
                </a:cubicBezTo>
                <a:cubicBezTo>
                  <a:pt x="8482" y="11304"/>
                  <a:pt x="8367" y="11286"/>
                  <a:pt x="8260" y="11286"/>
                </a:cubicBezTo>
                <a:cubicBezTo>
                  <a:pt x="8196" y="11286"/>
                  <a:pt x="8163" y="11296"/>
                  <a:pt x="8136" y="11261"/>
                </a:cubicBezTo>
                <a:cubicBezTo>
                  <a:pt x="8128" y="11253"/>
                  <a:pt x="8119" y="11245"/>
                  <a:pt x="8111" y="11237"/>
                </a:cubicBezTo>
              </a:path>
              <a:path w="3077" h="894">
                <a:moveTo>
                  <a:pt x="8384" y="10492"/>
                </a:moveTo>
                <a:cubicBezTo>
                  <a:pt x="8401" y="10443"/>
                  <a:pt x="8475" y="10445"/>
                  <a:pt x="8533" y="10443"/>
                </a:cubicBezTo>
                <a:cubicBezTo>
                  <a:pt x="8681" y="10438"/>
                  <a:pt x="8831" y="10443"/>
                  <a:pt x="8979" y="10443"/>
                </a:cubicBezTo>
              </a:path>
              <a:path w="3077" h="894">
                <a:moveTo>
                  <a:pt x="9302" y="10443"/>
                </a:moveTo>
                <a:cubicBezTo>
                  <a:pt x="9253" y="10467"/>
                  <a:pt x="9210" y="10535"/>
                  <a:pt x="9178" y="10592"/>
                </a:cubicBezTo>
                <a:cubicBezTo>
                  <a:pt x="9152" y="10639"/>
                  <a:pt x="9113" y="10686"/>
                  <a:pt x="9103" y="10740"/>
                </a:cubicBezTo>
                <a:cubicBezTo>
                  <a:pt x="9086" y="10833"/>
                  <a:pt x="9103" y="10942"/>
                  <a:pt x="9103" y="11038"/>
                </a:cubicBezTo>
                <a:cubicBezTo>
                  <a:pt x="9181" y="11038"/>
                  <a:pt x="9587" y="11089"/>
                  <a:pt x="9624" y="11013"/>
                </a:cubicBezTo>
                <a:cubicBezTo>
                  <a:pt x="9659" y="10943"/>
                  <a:pt x="9617" y="10774"/>
                  <a:pt x="9599" y="10740"/>
                </a:cubicBezTo>
                <a:cubicBezTo>
                  <a:pt x="9582" y="10708"/>
                  <a:pt x="9584" y="10678"/>
                  <a:pt x="9550" y="10666"/>
                </a:cubicBezTo>
                <a:cubicBezTo>
                  <a:pt x="9507" y="10651"/>
                  <a:pt x="9446" y="10626"/>
                  <a:pt x="9426" y="10616"/>
                </a:cubicBezTo>
                <a:cubicBezTo>
                  <a:pt x="9401" y="10616"/>
                  <a:pt x="9393" y="10616"/>
                  <a:pt x="9376" y="10616"/>
                </a:cubicBezTo>
              </a:path>
              <a:path w="3077" h="894">
                <a:moveTo>
                  <a:pt x="9897" y="10468"/>
                </a:moveTo>
                <a:cubicBezTo>
                  <a:pt x="9855" y="10550"/>
                  <a:pt x="9847" y="10608"/>
                  <a:pt x="9823" y="10691"/>
                </a:cubicBezTo>
                <a:cubicBezTo>
                  <a:pt x="9805" y="10755"/>
                  <a:pt x="9798" y="10795"/>
                  <a:pt x="9798" y="10864"/>
                </a:cubicBezTo>
                <a:cubicBezTo>
                  <a:pt x="9798" y="10905"/>
                  <a:pt x="9798" y="10947"/>
                  <a:pt x="9798" y="10988"/>
                </a:cubicBezTo>
                <a:cubicBezTo>
                  <a:pt x="9908" y="10988"/>
                  <a:pt x="10104" y="11026"/>
                  <a:pt x="10195" y="10964"/>
                </a:cubicBezTo>
                <a:cubicBezTo>
                  <a:pt x="10238" y="10935"/>
                  <a:pt x="10290" y="10932"/>
                  <a:pt x="10319" y="10889"/>
                </a:cubicBezTo>
                <a:cubicBezTo>
                  <a:pt x="10354" y="10837"/>
                  <a:pt x="10304" y="10711"/>
                  <a:pt x="10294" y="10691"/>
                </a:cubicBezTo>
                <a:cubicBezTo>
                  <a:pt x="10283" y="10668"/>
                  <a:pt x="10257" y="10623"/>
                  <a:pt x="10244" y="10616"/>
                </a:cubicBezTo>
                <a:cubicBezTo>
                  <a:pt x="10233" y="10610"/>
                  <a:pt x="10149" y="10597"/>
                  <a:pt x="10145" y="10592"/>
                </a:cubicBezTo>
                <a:cubicBezTo>
                  <a:pt x="10132" y="10575"/>
                  <a:pt x="10108" y="10523"/>
                  <a:pt x="10096" y="10517"/>
                </a:cubicBezTo>
                <a:cubicBezTo>
                  <a:pt x="10068" y="10503"/>
                  <a:pt x="10034" y="10517"/>
                  <a:pt x="10021" y="10492"/>
                </a:cubicBezTo>
                <a:cubicBezTo>
                  <a:pt x="10010" y="10470"/>
                  <a:pt x="9983" y="10424"/>
                  <a:pt x="9971" y="10418"/>
                </a:cubicBezTo>
                <a:cubicBezTo>
                  <a:pt x="9963" y="10418"/>
                  <a:pt x="9955" y="10418"/>
                  <a:pt x="9947" y="10418"/>
                </a:cubicBezTo>
              </a:path>
              <a:path w="3077" h="894">
                <a:moveTo>
                  <a:pt x="10517" y="10567"/>
                </a:moveTo>
                <a:cubicBezTo>
                  <a:pt x="10682" y="10567"/>
                  <a:pt x="10848" y="10567"/>
                  <a:pt x="11013" y="10567"/>
                </a:cubicBezTo>
              </a:path>
              <a:path w="3077" h="894">
                <a:moveTo>
                  <a:pt x="10740" y="10815"/>
                </a:moveTo>
                <a:cubicBezTo>
                  <a:pt x="10889" y="10815"/>
                  <a:pt x="11038" y="10815"/>
                  <a:pt x="11187" y="10815"/>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4205160" y="3633840"/>
            <a:ext cx="733680" cy="331560"/>
          </a:xfrm>
          <a:custGeom>
            <a:avLst/>
            <a:gdLst/>
            <a:ahLst/>
            <a:rect l="l" t="t" r="r" b="b"/>
            <a:pathLst>
              <a:path w="2035" h="918">
                <a:moveTo>
                  <a:pt x="11782" y="10269"/>
                </a:moveTo>
                <a:cubicBezTo>
                  <a:pt x="11782" y="10213"/>
                  <a:pt x="11810" y="10191"/>
                  <a:pt x="11881" y="10170"/>
                </a:cubicBezTo>
                <a:cubicBezTo>
                  <a:pt x="11941" y="10152"/>
                  <a:pt x="12015" y="10145"/>
                  <a:pt x="12080" y="10145"/>
                </a:cubicBezTo>
                <a:cubicBezTo>
                  <a:pt x="12111" y="10145"/>
                  <a:pt x="12216" y="10127"/>
                  <a:pt x="12229" y="10170"/>
                </a:cubicBezTo>
                <a:cubicBezTo>
                  <a:pt x="12247" y="10227"/>
                  <a:pt x="12244" y="10391"/>
                  <a:pt x="12204" y="10443"/>
                </a:cubicBezTo>
                <a:cubicBezTo>
                  <a:pt x="12170" y="10487"/>
                  <a:pt x="12081" y="10547"/>
                  <a:pt x="12030" y="10567"/>
                </a:cubicBezTo>
                <a:cubicBezTo>
                  <a:pt x="11981" y="10586"/>
                  <a:pt x="11972" y="10567"/>
                  <a:pt x="12055" y="10567"/>
                </a:cubicBezTo>
                <a:cubicBezTo>
                  <a:pt x="12138" y="10567"/>
                  <a:pt x="12220" y="10567"/>
                  <a:pt x="12303" y="10567"/>
                </a:cubicBezTo>
                <a:cubicBezTo>
                  <a:pt x="12303" y="10650"/>
                  <a:pt x="12303" y="10732"/>
                  <a:pt x="12303" y="10815"/>
                </a:cubicBezTo>
              </a:path>
              <a:path w="2035" h="918">
                <a:moveTo>
                  <a:pt x="11931" y="10964"/>
                </a:moveTo>
                <a:cubicBezTo>
                  <a:pt x="11850" y="10964"/>
                  <a:pt x="11827" y="10939"/>
                  <a:pt x="11782" y="10864"/>
                </a:cubicBezTo>
                <a:cubicBezTo>
                  <a:pt x="11742" y="10797"/>
                  <a:pt x="11683" y="10719"/>
                  <a:pt x="11683" y="10641"/>
                </a:cubicBezTo>
              </a:path>
              <a:path w="2035" h="918">
                <a:moveTo>
                  <a:pt x="12675" y="10170"/>
                </a:moveTo>
                <a:cubicBezTo>
                  <a:pt x="12675" y="10244"/>
                  <a:pt x="12675" y="10319"/>
                  <a:pt x="12675" y="10393"/>
                </a:cubicBezTo>
                <a:cubicBezTo>
                  <a:pt x="12774" y="10393"/>
                  <a:pt x="12874" y="10393"/>
                  <a:pt x="12973" y="10393"/>
                </a:cubicBezTo>
              </a:path>
              <a:path w="2035" h="918">
                <a:moveTo>
                  <a:pt x="13047" y="10616"/>
                </a:moveTo>
                <a:lnTo>
                  <a:pt x="13047" y="10616"/>
                </a:lnTo>
              </a:path>
              <a:path w="2035" h="918">
                <a:moveTo>
                  <a:pt x="13047" y="10120"/>
                </a:moveTo>
                <a:cubicBezTo>
                  <a:pt x="13047" y="10327"/>
                  <a:pt x="13047" y="10533"/>
                  <a:pt x="13047" y="10740"/>
                </a:cubicBezTo>
              </a:path>
              <a:path w="2035" h="918">
                <a:moveTo>
                  <a:pt x="13593" y="10120"/>
                </a:moveTo>
                <a:cubicBezTo>
                  <a:pt x="13580" y="10084"/>
                  <a:pt x="13563" y="10096"/>
                  <a:pt x="13519" y="10096"/>
                </a:cubicBezTo>
                <a:cubicBezTo>
                  <a:pt x="13469" y="10096"/>
                  <a:pt x="13420" y="10096"/>
                  <a:pt x="13370" y="10096"/>
                </a:cubicBezTo>
                <a:cubicBezTo>
                  <a:pt x="13370" y="10253"/>
                  <a:pt x="13279" y="10645"/>
                  <a:pt x="13370" y="10517"/>
                </a:cubicBezTo>
                <a:cubicBezTo>
                  <a:pt x="13400" y="10475"/>
                  <a:pt x="13422" y="10468"/>
                  <a:pt x="13469" y="10468"/>
                </a:cubicBezTo>
                <a:cubicBezTo>
                  <a:pt x="13494" y="10468"/>
                  <a:pt x="13502" y="10468"/>
                  <a:pt x="13519" y="10468"/>
                </a:cubicBezTo>
              </a:path>
              <a:path w="2035" h="918">
                <a:moveTo>
                  <a:pt x="13419" y="10939"/>
                </a:moveTo>
                <a:cubicBezTo>
                  <a:pt x="13352" y="10912"/>
                  <a:pt x="13348" y="10879"/>
                  <a:pt x="13320" y="10815"/>
                </a:cubicBezTo>
              </a:path>
              <a:path w="2035" h="918">
                <a:moveTo>
                  <a:pt x="13543" y="10492"/>
                </a:moveTo>
                <a:cubicBezTo>
                  <a:pt x="13551" y="10468"/>
                  <a:pt x="13599" y="10443"/>
                  <a:pt x="13618" y="10492"/>
                </a:cubicBezTo>
                <a:cubicBezTo>
                  <a:pt x="13656" y="10589"/>
                  <a:pt x="13710" y="10686"/>
                  <a:pt x="13717" y="10790"/>
                </a:cubicBezTo>
                <a:cubicBezTo>
                  <a:pt x="13722" y="10856"/>
                  <a:pt x="13730" y="10960"/>
                  <a:pt x="13692" y="10988"/>
                </a:cubicBezTo>
                <a:cubicBezTo>
                  <a:pt x="13654" y="11016"/>
                  <a:pt x="13642" y="11013"/>
                  <a:pt x="13593" y="11013"/>
                </a:cubicBezTo>
                <a:cubicBezTo>
                  <a:pt x="13509" y="11013"/>
                  <a:pt x="13548" y="10990"/>
                  <a:pt x="13494" y="10964"/>
                </a:cubicBezTo>
                <a:cubicBezTo>
                  <a:pt x="13463" y="10949"/>
                  <a:pt x="13458" y="10943"/>
                  <a:pt x="13419" y="10914"/>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5106960" y="3732120"/>
            <a:ext cx="536760" cy="216000"/>
          </a:xfrm>
          <a:custGeom>
            <a:avLst/>
            <a:gdLst/>
            <a:ahLst/>
            <a:rect l="l" t="t" r="r" b="b"/>
            <a:pathLst>
              <a:path w="1490" h="597">
                <a:moveTo>
                  <a:pt x="14337" y="10393"/>
                </a:moveTo>
                <a:cubicBezTo>
                  <a:pt x="14337" y="10344"/>
                  <a:pt x="14337" y="10524"/>
                  <a:pt x="14337" y="10567"/>
                </a:cubicBezTo>
                <a:cubicBezTo>
                  <a:pt x="14337" y="10674"/>
                  <a:pt x="14337" y="10782"/>
                  <a:pt x="14337" y="10889"/>
                </a:cubicBezTo>
              </a:path>
              <a:path w="1490" h="597">
                <a:moveTo>
                  <a:pt x="14188" y="10616"/>
                </a:moveTo>
                <a:cubicBezTo>
                  <a:pt x="14238" y="10587"/>
                  <a:pt x="14276" y="10592"/>
                  <a:pt x="14337" y="10592"/>
                </a:cubicBezTo>
                <a:cubicBezTo>
                  <a:pt x="14403" y="10592"/>
                  <a:pt x="14470" y="10592"/>
                  <a:pt x="14536" y="10592"/>
                </a:cubicBezTo>
              </a:path>
              <a:path w="1490" h="597">
                <a:moveTo>
                  <a:pt x="14908" y="10567"/>
                </a:moveTo>
                <a:cubicBezTo>
                  <a:pt x="14908" y="10691"/>
                  <a:pt x="14908" y="10815"/>
                  <a:pt x="14908" y="10939"/>
                </a:cubicBezTo>
                <a:cubicBezTo>
                  <a:pt x="14908" y="10831"/>
                  <a:pt x="14884" y="10721"/>
                  <a:pt x="14957" y="10641"/>
                </a:cubicBezTo>
                <a:cubicBezTo>
                  <a:pt x="14990" y="10605"/>
                  <a:pt x="15034" y="10596"/>
                  <a:pt x="15081" y="10592"/>
                </a:cubicBezTo>
                <a:cubicBezTo>
                  <a:pt x="15138" y="10587"/>
                  <a:pt x="15198" y="10578"/>
                  <a:pt x="15230" y="10641"/>
                </a:cubicBezTo>
                <a:cubicBezTo>
                  <a:pt x="15258" y="10697"/>
                  <a:pt x="15280" y="10798"/>
                  <a:pt x="15280" y="10864"/>
                </a:cubicBezTo>
                <a:cubicBezTo>
                  <a:pt x="15280" y="10889"/>
                  <a:pt x="15280" y="10897"/>
                  <a:pt x="15280" y="10914"/>
                </a:cubicBezTo>
                <a:cubicBezTo>
                  <a:pt x="15280" y="10803"/>
                  <a:pt x="15276" y="10689"/>
                  <a:pt x="15304" y="10592"/>
                </a:cubicBezTo>
                <a:cubicBezTo>
                  <a:pt x="15319" y="10541"/>
                  <a:pt x="15334" y="10547"/>
                  <a:pt x="15354" y="10517"/>
                </a:cubicBezTo>
                <a:cubicBezTo>
                  <a:pt x="15368" y="10495"/>
                  <a:pt x="15400" y="10470"/>
                  <a:pt x="15429" y="10468"/>
                </a:cubicBezTo>
                <a:cubicBezTo>
                  <a:pt x="15485" y="10464"/>
                  <a:pt x="15560" y="10455"/>
                  <a:pt x="15602" y="10492"/>
                </a:cubicBezTo>
                <a:cubicBezTo>
                  <a:pt x="15634" y="10520"/>
                  <a:pt x="15664" y="10599"/>
                  <a:pt x="15677" y="10641"/>
                </a:cubicBezTo>
                <a:cubicBezTo>
                  <a:pt x="15703" y="10726"/>
                  <a:pt x="15677" y="10872"/>
                  <a:pt x="15677" y="10964"/>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2741760" y="4179960"/>
            <a:ext cx="384120" cy="241200"/>
          </a:xfrm>
          <a:custGeom>
            <a:avLst/>
            <a:gdLst/>
            <a:ahLst/>
            <a:rect l="l" t="t" r="r" b="b"/>
            <a:pathLst>
              <a:path w="1068" h="670">
                <a:moveTo>
                  <a:pt x="7615" y="11956"/>
                </a:moveTo>
                <a:cubicBezTo>
                  <a:pt x="7739" y="11956"/>
                  <a:pt x="7863" y="11956"/>
                  <a:pt x="7987" y="11956"/>
                </a:cubicBezTo>
              </a:path>
              <a:path w="1068" h="670">
                <a:moveTo>
                  <a:pt x="8235" y="11633"/>
                </a:moveTo>
                <a:cubicBezTo>
                  <a:pt x="8250" y="11590"/>
                  <a:pt x="8307" y="11609"/>
                  <a:pt x="8359" y="11609"/>
                </a:cubicBezTo>
                <a:cubicBezTo>
                  <a:pt x="8409" y="11609"/>
                  <a:pt x="8458" y="11609"/>
                  <a:pt x="8508" y="11609"/>
                </a:cubicBezTo>
                <a:cubicBezTo>
                  <a:pt x="8508" y="11701"/>
                  <a:pt x="8533" y="11826"/>
                  <a:pt x="8483" y="11906"/>
                </a:cubicBezTo>
                <a:cubicBezTo>
                  <a:pt x="8464" y="11937"/>
                  <a:pt x="8348" y="11931"/>
                  <a:pt x="8384" y="11931"/>
                </a:cubicBezTo>
                <a:cubicBezTo>
                  <a:pt x="8417" y="11931"/>
                  <a:pt x="8450" y="11931"/>
                  <a:pt x="8483" y="11931"/>
                </a:cubicBezTo>
              </a:path>
              <a:path w="1068" h="670">
                <a:moveTo>
                  <a:pt x="8582" y="12129"/>
                </a:moveTo>
                <a:cubicBezTo>
                  <a:pt x="8582" y="12214"/>
                  <a:pt x="8595" y="12204"/>
                  <a:pt x="8533" y="12254"/>
                </a:cubicBezTo>
                <a:cubicBezTo>
                  <a:pt x="8492" y="12287"/>
                  <a:pt x="8463" y="12278"/>
                  <a:pt x="8409" y="12278"/>
                </a:cubicBezTo>
                <a:cubicBezTo>
                  <a:pt x="8384" y="12278"/>
                  <a:pt x="8359" y="12278"/>
                  <a:pt x="8334" y="12278"/>
                </a:cubicBezTo>
                <a:cubicBezTo>
                  <a:pt x="8325" y="12221"/>
                  <a:pt x="8292" y="12220"/>
                  <a:pt x="8285" y="12154"/>
                </a:cubicBezTo>
                <a:cubicBezTo>
                  <a:pt x="8285" y="12146"/>
                  <a:pt x="8285" y="12137"/>
                  <a:pt x="8285" y="12129"/>
                </a:cubicBezTo>
              </a:path>
              <a:path w="1068" h="670">
                <a:moveTo>
                  <a:pt x="8558" y="11956"/>
                </a:moveTo>
                <a:cubicBezTo>
                  <a:pt x="8558" y="11948"/>
                  <a:pt x="8558" y="11939"/>
                  <a:pt x="8558" y="11931"/>
                </a:cubicBezTo>
                <a:cubicBezTo>
                  <a:pt x="8612" y="11945"/>
                  <a:pt x="8619" y="11988"/>
                  <a:pt x="8657" y="12030"/>
                </a:cubicBezTo>
                <a:cubicBezTo>
                  <a:pt x="8680" y="12053"/>
                  <a:pt x="8688" y="12057"/>
                  <a:pt x="8682" y="12080"/>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3259080" y="4224240"/>
            <a:ext cx="98640" cy="285840"/>
          </a:xfrm>
          <a:custGeom>
            <a:avLst/>
            <a:gdLst/>
            <a:ahLst/>
            <a:rect l="l" t="t" r="r" b="b"/>
            <a:pathLst>
              <a:path w="274" h="794">
                <a:moveTo>
                  <a:pt x="9054" y="11733"/>
                </a:moveTo>
                <a:cubicBezTo>
                  <a:pt x="9054" y="11791"/>
                  <a:pt x="9054" y="11848"/>
                  <a:pt x="9054" y="11906"/>
                </a:cubicBezTo>
                <a:cubicBezTo>
                  <a:pt x="9145" y="11906"/>
                  <a:pt x="9236" y="11906"/>
                  <a:pt x="9327" y="11906"/>
                </a:cubicBezTo>
                <a:cubicBezTo>
                  <a:pt x="9327" y="11848"/>
                  <a:pt x="9327" y="11791"/>
                  <a:pt x="9327" y="11733"/>
                </a:cubicBezTo>
                <a:cubicBezTo>
                  <a:pt x="9327" y="11997"/>
                  <a:pt x="9327" y="12262"/>
                  <a:pt x="9327" y="12526"/>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3483000" y="4187880"/>
            <a:ext cx="106200" cy="187200"/>
          </a:xfrm>
          <a:custGeom>
            <a:avLst/>
            <a:gdLst/>
            <a:ahLst/>
            <a:rect l="l" t="t" r="r" b="b"/>
            <a:pathLst>
              <a:path w="298" h="522">
                <a:moveTo>
                  <a:pt x="9971" y="11658"/>
                </a:moveTo>
                <a:cubicBezTo>
                  <a:pt x="9949" y="11624"/>
                  <a:pt x="9923" y="11633"/>
                  <a:pt x="9872" y="11633"/>
                </a:cubicBezTo>
                <a:cubicBezTo>
                  <a:pt x="9821" y="11633"/>
                  <a:pt x="9786" y="11624"/>
                  <a:pt x="9748" y="11658"/>
                </a:cubicBezTo>
                <a:cubicBezTo>
                  <a:pt x="9724" y="11679"/>
                  <a:pt x="9678" y="11748"/>
                  <a:pt x="9674" y="11757"/>
                </a:cubicBezTo>
                <a:cubicBezTo>
                  <a:pt x="9664" y="11778"/>
                  <a:pt x="9674" y="11833"/>
                  <a:pt x="9674" y="11857"/>
                </a:cubicBezTo>
                <a:cubicBezTo>
                  <a:pt x="9741" y="11857"/>
                  <a:pt x="9842" y="11841"/>
                  <a:pt x="9872" y="11881"/>
                </a:cubicBezTo>
                <a:cubicBezTo>
                  <a:pt x="9905" y="11924"/>
                  <a:pt x="9897" y="11947"/>
                  <a:pt x="9897" y="12005"/>
                </a:cubicBezTo>
                <a:cubicBezTo>
                  <a:pt x="9897" y="12045"/>
                  <a:pt x="9916" y="12132"/>
                  <a:pt x="9872" y="12154"/>
                </a:cubicBezTo>
                <a:cubicBezTo>
                  <a:pt x="9844" y="12168"/>
                  <a:pt x="9778" y="12154"/>
                  <a:pt x="9748" y="12154"/>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4106880" y="4071960"/>
            <a:ext cx="696960" cy="312840"/>
          </a:xfrm>
          <a:custGeom>
            <a:avLst/>
            <a:gdLst/>
            <a:ahLst/>
            <a:rect l="l" t="t" r="r" b="b"/>
            <a:pathLst>
              <a:path w="1936" h="869">
                <a:moveTo>
                  <a:pt x="11435" y="11460"/>
                </a:moveTo>
                <a:cubicBezTo>
                  <a:pt x="11427" y="11460"/>
                  <a:pt x="11418" y="11460"/>
                  <a:pt x="11410" y="11460"/>
                </a:cubicBezTo>
                <a:cubicBezTo>
                  <a:pt x="11468" y="11460"/>
                  <a:pt x="11526" y="11460"/>
                  <a:pt x="11584" y="11460"/>
                </a:cubicBezTo>
              </a:path>
              <a:path w="1936" h="869">
                <a:moveTo>
                  <a:pt x="11931" y="11385"/>
                </a:moveTo>
                <a:cubicBezTo>
                  <a:pt x="11937" y="11369"/>
                  <a:pt x="11979" y="11340"/>
                  <a:pt x="12005" y="11336"/>
                </a:cubicBezTo>
                <a:cubicBezTo>
                  <a:pt x="12058" y="11328"/>
                  <a:pt x="12124" y="11336"/>
                  <a:pt x="12179" y="11336"/>
                </a:cubicBezTo>
                <a:cubicBezTo>
                  <a:pt x="12179" y="11433"/>
                  <a:pt x="12183" y="11456"/>
                  <a:pt x="12129" y="11534"/>
                </a:cubicBezTo>
                <a:cubicBezTo>
                  <a:pt x="12083" y="11600"/>
                  <a:pt x="12036" y="11651"/>
                  <a:pt x="11981" y="11708"/>
                </a:cubicBezTo>
                <a:cubicBezTo>
                  <a:pt x="12006" y="11674"/>
                  <a:pt x="12012" y="11647"/>
                  <a:pt x="12055" y="11633"/>
                </a:cubicBezTo>
                <a:cubicBezTo>
                  <a:pt x="12135" y="11606"/>
                  <a:pt x="12159" y="11653"/>
                  <a:pt x="12204" y="11683"/>
                </a:cubicBezTo>
                <a:cubicBezTo>
                  <a:pt x="12235" y="11704"/>
                  <a:pt x="12229" y="11706"/>
                  <a:pt x="12229" y="11757"/>
                </a:cubicBezTo>
                <a:cubicBezTo>
                  <a:pt x="12229" y="11835"/>
                  <a:pt x="12246" y="11877"/>
                  <a:pt x="12179" y="11931"/>
                </a:cubicBezTo>
                <a:cubicBezTo>
                  <a:pt x="12126" y="11974"/>
                  <a:pt x="12046" y="12000"/>
                  <a:pt x="11981" y="12005"/>
                </a:cubicBezTo>
                <a:cubicBezTo>
                  <a:pt x="11941" y="12008"/>
                  <a:pt x="11886" y="12020"/>
                  <a:pt x="11881" y="11981"/>
                </a:cubicBezTo>
                <a:cubicBezTo>
                  <a:pt x="11881" y="11973"/>
                  <a:pt x="11881" y="11964"/>
                  <a:pt x="11881" y="11956"/>
                </a:cubicBezTo>
              </a:path>
              <a:path w="1936" h="869">
                <a:moveTo>
                  <a:pt x="12477" y="11311"/>
                </a:moveTo>
                <a:cubicBezTo>
                  <a:pt x="12477" y="11456"/>
                  <a:pt x="12480" y="11596"/>
                  <a:pt x="12452" y="11733"/>
                </a:cubicBezTo>
                <a:cubicBezTo>
                  <a:pt x="12443" y="11779"/>
                  <a:pt x="12418" y="11765"/>
                  <a:pt x="12452" y="11782"/>
                </a:cubicBezTo>
                <a:cubicBezTo>
                  <a:pt x="12489" y="11733"/>
                  <a:pt x="12506" y="11724"/>
                  <a:pt x="12576" y="11708"/>
                </a:cubicBezTo>
                <a:cubicBezTo>
                  <a:pt x="12598" y="11703"/>
                  <a:pt x="12628" y="11708"/>
                  <a:pt x="12650" y="11708"/>
                </a:cubicBezTo>
              </a:path>
              <a:path w="1936" h="869">
                <a:moveTo>
                  <a:pt x="12725" y="11385"/>
                </a:moveTo>
                <a:cubicBezTo>
                  <a:pt x="12725" y="11600"/>
                  <a:pt x="12725" y="11815"/>
                  <a:pt x="12725" y="12030"/>
                </a:cubicBezTo>
              </a:path>
              <a:path w="1936" h="869">
                <a:moveTo>
                  <a:pt x="13221" y="11435"/>
                </a:moveTo>
                <a:cubicBezTo>
                  <a:pt x="13169" y="11457"/>
                  <a:pt x="13151" y="11460"/>
                  <a:pt x="13097" y="11460"/>
                </a:cubicBezTo>
                <a:cubicBezTo>
                  <a:pt x="13059" y="11460"/>
                  <a:pt x="13031" y="11466"/>
                  <a:pt x="13022" y="11509"/>
                </a:cubicBezTo>
                <a:cubicBezTo>
                  <a:pt x="13009" y="11568"/>
                  <a:pt x="13022" y="11647"/>
                  <a:pt x="13022" y="11708"/>
                </a:cubicBezTo>
                <a:cubicBezTo>
                  <a:pt x="13105" y="11708"/>
                  <a:pt x="13176" y="11704"/>
                  <a:pt x="13246" y="11683"/>
                </a:cubicBezTo>
                <a:cubicBezTo>
                  <a:pt x="13268" y="11676"/>
                  <a:pt x="13283" y="11638"/>
                  <a:pt x="13320" y="11658"/>
                </a:cubicBezTo>
                <a:cubicBezTo>
                  <a:pt x="13363" y="11682"/>
                  <a:pt x="13345" y="11741"/>
                  <a:pt x="13345" y="11782"/>
                </a:cubicBezTo>
                <a:cubicBezTo>
                  <a:pt x="13345" y="11853"/>
                  <a:pt x="13376" y="12080"/>
                  <a:pt x="13320" y="12105"/>
                </a:cubicBezTo>
                <a:cubicBezTo>
                  <a:pt x="13263" y="12131"/>
                  <a:pt x="13208" y="12173"/>
                  <a:pt x="13146" y="12179"/>
                </a:cubicBezTo>
                <a:cubicBezTo>
                  <a:pt x="13122" y="12179"/>
                  <a:pt x="13113" y="12179"/>
                  <a:pt x="13097" y="12179"/>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3000240" y="4660920"/>
            <a:ext cx="9720" cy="142920"/>
          </a:xfrm>
          <a:custGeom>
            <a:avLst/>
            <a:gdLst/>
            <a:ahLst/>
            <a:rect l="l" t="t" r="r" b="b"/>
            <a:pathLst>
              <a:path w="26" h="398">
                <a:moveTo>
                  <a:pt x="8359" y="12948"/>
                </a:moveTo>
                <a:cubicBezTo>
                  <a:pt x="8359" y="13067"/>
                  <a:pt x="8369" y="13192"/>
                  <a:pt x="8334" y="13295"/>
                </a:cubicBezTo>
                <a:cubicBezTo>
                  <a:pt x="8334" y="13320"/>
                  <a:pt x="8334" y="13328"/>
                  <a:pt x="8334" y="13345"/>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3152880" y="4616280"/>
            <a:ext cx="339480" cy="223920"/>
          </a:xfrm>
          <a:custGeom>
            <a:avLst/>
            <a:gdLst/>
            <a:ahLst/>
            <a:rect l="l" t="t" r="r" b="b"/>
            <a:pathLst>
              <a:path w="944" h="621">
                <a:moveTo>
                  <a:pt x="9079" y="12824"/>
                </a:moveTo>
                <a:cubicBezTo>
                  <a:pt x="8982" y="12824"/>
                  <a:pt x="8866" y="12819"/>
                  <a:pt x="8806" y="12849"/>
                </a:cubicBezTo>
                <a:cubicBezTo>
                  <a:pt x="8780" y="12862"/>
                  <a:pt x="8760" y="12864"/>
                  <a:pt x="8756" y="12898"/>
                </a:cubicBezTo>
                <a:cubicBezTo>
                  <a:pt x="8751" y="12938"/>
                  <a:pt x="8756" y="12982"/>
                  <a:pt x="8756" y="13022"/>
                </a:cubicBezTo>
                <a:cubicBezTo>
                  <a:pt x="8825" y="13022"/>
                  <a:pt x="8928" y="13001"/>
                  <a:pt x="8979" y="13047"/>
                </a:cubicBezTo>
                <a:cubicBezTo>
                  <a:pt x="9007" y="13072"/>
                  <a:pt x="9026" y="13124"/>
                  <a:pt x="9029" y="13146"/>
                </a:cubicBezTo>
                <a:cubicBezTo>
                  <a:pt x="9034" y="13184"/>
                  <a:pt x="9044" y="13276"/>
                  <a:pt x="9004" y="13295"/>
                </a:cubicBezTo>
                <a:cubicBezTo>
                  <a:pt x="8950" y="13321"/>
                  <a:pt x="8817" y="13295"/>
                  <a:pt x="8756" y="13295"/>
                </a:cubicBezTo>
              </a:path>
              <a:path w="944" h="621">
                <a:moveTo>
                  <a:pt x="9674" y="12824"/>
                </a:moveTo>
                <a:cubicBezTo>
                  <a:pt x="9570" y="12824"/>
                  <a:pt x="9535" y="12835"/>
                  <a:pt x="9451" y="12874"/>
                </a:cubicBezTo>
                <a:cubicBezTo>
                  <a:pt x="9406" y="12895"/>
                  <a:pt x="9401" y="12891"/>
                  <a:pt x="9401" y="12948"/>
                </a:cubicBezTo>
                <a:cubicBezTo>
                  <a:pt x="9401" y="13006"/>
                  <a:pt x="9401" y="13064"/>
                  <a:pt x="9401" y="13122"/>
                </a:cubicBezTo>
                <a:cubicBezTo>
                  <a:pt x="9500" y="13122"/>
                  <a:pt x="9600" y="13122"/>
                  <a:pt x="9699" y="13122"/>
                </a:cubicBezTo>
                <a:cubicBezTo>
                  <a:pt x="9699" y="13183"/>
                  <a:pt x="9724" y="13326"/>
                  <a:pt x="9674" y="13370"/>
                </a:cubicBezTo>
                <a:cubicBezTo>
                  <a:pt x="9661" y="13382"/>
                  <a:pt x="9578" y="13442"/>
                  <a:pt x="9575" y="13444"/>
                </a:cubicBezTo>
                <a:cubicBezTo>
                  <a:pt x="9529" y="13467"/>
                  <a:pt x="9487" y="13425"/>
                  <a:pt x="9475" y="13419"/>
                </a:cubicBezTo>
                <a:cubicBezTo>
                  <a:pt x="9437" y="13400"/>
                  <a:pt x="9468" y="13384"/>
                  <a:pt x="9426" y="13370"/>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3821040" y="4633920"/>
            <a:ext cx="127080" cy="162000"/>
          </a:xfrm>
          <a:custGeom>
            <a:avLst/>
            <a:gdLst/>
            <a:ahLst/>
            <a:rect l="l" t="t" r="r" b="b"/>
            <a:pathLst>
              <a:path w="349" h="447">
                <a:moveTo>
                  <a:pt x="10616" y="12874"/>
                </a:moveTo>
                <a:cubicBezTo>
                  <a:pt x="10732" y="12874"/>
                  <a:pt x="10848" y="12874"/>
                  <a:pt x="10964" y="12874"/>
                </a:cubicBezTo>
              </a:path>
              <a:path w="349" h="447">
                <a:moveTo>
                  <a:pt x="10616" y="13320"/>
                </a:moveTo>
                <a:cubicBezTo>
                  <a:pt x="10616" y="13295"/>
                  <a:pt x="10616" y="13287"/>
                  <a:pt x="10616" y="13271"/>
                </a:cubicBezTo>
                <a:cubicBezTo>
                  <a:pt x="10724" y="13271"/>
                  <a:pt x="10831" y="13271"/>
                  <a:pt x="10939" y="13271"/>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4224240" y="4626000"/>
            <a:ext cx="303480" cy="214200"/>
          </a:xfrm>
          <a:custGeom>
            <a:avLst/>
            <a:gdLst/>
            <a:ahLst/>
            <a:rect l="l" t="t" r="r" b="b"/>
            <a:pathLst>
              <a:path w="844" h="596">
                <a:moveTo>
                  <a:pt x="11733" y="12849"/>
                </a:moveTo>
                <a:cubicBezTo>
                  <a:pt x="11733" y="13014"/>
                  <a:pt x="11733" y="13460"/>
                  <a:pt x="11733" y="13295"/>
                </a:cubicBezTo>
                <a:cubicBezTo>
                  <a:pt x="11733" y="13203"/>
                  <a:pt x="11775" y="13134"/>
                  <a:pt x="11782" y="13047"/>
                </a:cubicBezTo>
                <a:cubicBezTo>
                  <a:pt x="11786" y="12999"/>
                  <a:pt x="11769" y="12990"/>
                  <a:pt x="11807" y="12973"/>
                </a:cubicBezTo>
                <a:cubicBezTo>
                  <a:pt x="11887" y="12936"/>
                  <a:pt x="11918" y="12902"/>
                  <a:pt x="12005" y="12898"/>
                </a:cubicBezTo>
                <a:cubicBezTo>
                  <a:pt x="12069" y="12895"/>
                  <a:pt x="12101" y="12855"/>
                  <a:pt x="12154" y="12849"/>
                </a:cubicBezTo>
                <a:cubicBezTo>
                  <a:pt x="12179" y="12849"/>
                  <a:pt x="12187" y="12849"/>
                  <a:pt x="12204" y="12849"/>
                </a:cubicBezTo>
                <a:cubicBezTo>
                  <a:pt x="12204" y="12998"/>
                  <a:pt x="12204" y="13146"/>
                  <a:pt x="12204" y="13295"/>
                </a:cubicBezTo>
                <a:cubicBezTo>
                  <a:pt x="12204" y="13217"/>
                  <a:pt x="12207" y="13162"/>
                  <a:pt x="12229" y="13097"/>
                </a:cubicBezTo>
                <a:cubicBezTo>
                  <a:pt x="12240" y="13063"/>
                  <a:pt x="12263" y="13066"/>
                  <a:pt x="12278" y="13022"/>
                </a:cubicBezTo>
                <a:cubicBezTo>
                  <a:pt x="12294" y="12974"/>
                  <a:pt x="12301" y="12973"/>
                  <a:pt x="12353" y="12973"/>
                </a:cubicBezTo>
                <a:cubicBezTo>
                  <a:pt x="12394" y="12973"/>
                  <a:pt x="12503" y="12952"/>
                  <a:pt x="12526" y="12998"/>
                </a:cubicBezTo>
                <a:cubicBezTo>
                  <a:pt x="12537" y="13020"/>
                  <a:pt x="12529" y="13082"/>
                  <a:pt x="12551" y="13097"/>
                </a:cubicBezTo>
                <a:cubicBezTo>
                  <a:pt x="12582" y="13118"/>
                  <a:pt x="12576" y="13120"/>
                  <a:pt x="12576" y="13171"/>
                </a:cubicBezTo>
                <a:cubicBezTo>
                  <a:pt x="12576" y="13262"/>
                  <a:pt x="12576" y="13353"/>
                  <a:pt x="12576" y="13444"/>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2874960" y="4464000"/>
            <a:ext cx="2859120" cy="54000"/>
          </a:xfrm>
          <a:custGeom>
            <a:avLst/>
            <a:gdLst/>
            <a:ahLst/>
            <a:rect l="l" t="t" r="r" b="b"/>
            <a:pathLst>
              <a:path w="7939" h="150">
                <a:moveTo>
                  <a:pt x="7987" y="12551"/>
                </a:moveTo>
                <a:cubicBezTo>
                  <a:pt x="8092" y="12524"/>
                  <a:pt x="8201" y="12499"/>
                  <a:pt x="8310" y="12477"/>
                </a:cubicBezTo>
                <a:cubicBezTo>
                  <a:pt x="8498" y="12439"/>
                  <a:pt x="8689" y="12452"/>
                  <a:pt x="8880" y="12452"/>
                </a:cubicBezTo>
                <a:cubicBezTo>
                  <a:pt x="9082" y="12452"/>
                  <a:pt x="9280" y="12465"/>
                  <a:pt x="9475" y="12477"/>
                </a:cubicBezTo>
                <a:cubicBezTo>
                  <a:pt x="9745" y="12494"/>
                  <a:pt x="10033" y="12483"/>
                  <a:pt x="10294" y="12452"/>
                </a:cubicBezTo>
                <a:cubicBezTo>
                  <a:pt x="10508" y="12427"/>
                  <a:pt x="10722" y="12405"/>
                  <a:pt x="10939" y="12402"/>
                </a:cubicBezTo>
                <a:cubicBezTo>
                  <a:pt x="11423" y="12396"/>
                  <a:pt x="11927" y="12364"/>
                  <a:pt x="12402" y="12452"/>
                </a:cubicBezTo>
                <a:cubicBezTo>
                  <a:pt x="12586" y="12486"/>
                  <a:pt x="12705" y="12542"/>
                  <a:pt x="12898" y="12551"/>
                </a:cubicBezTo>
                <a:cubicBezTo>
                  <a:pt x="13358" y="12572"/>
                  <a:pt x="13835" y="12553"/>
                  <a:pt x="14288" y="12502"/>
                </a:cubicBezTo>
                <a:cubicBezTo>
                  <a:pt x="14650" y="12461"/>
                  <a:pt x="15015" y="12477"/>
                  <a:pt x="15379" y="12477"/>
                </a:cubicBezTo>
                <a:cubicBezTo>
                  <a:pt x="15561" y="12477"/>
                  <a:pt x="15743" y="12477"/>
                  <a:pt x="15925" y="12477"/>
                </a:cubicBezTo>
              </a:path>
            </a:pathLst>
          </a:custGeom>
          <a:noFill/>
          <a:ln cap="rnd" w="34920">
            <a:solidFill>
              <a:srgbClr val="ff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273">
                                            <p:txEl>
                                              <p:pRg st="1" end="1"/>
                                            </p:txEl>
                                          </p:spTgt>
                                        </p:tgtEl>
                                        <p:attrNameLst>
                                          <p:attrName>style.visibility</p:attrName>
                                        </p:attrNameLst>
                                      </p:cBhvr>
                                      <p:to>
                                        <p:strVal val="visible"/>
                                      </p:to>
                                    </p:set>
                                    <p:anim calcmode="lin" valueType="num">
                                      <p:cBhvr additive="base">
                                        <p:cTn id="87" dur="500" fill="hold"/>
                                        <p:tgtEl>
                                          <p:spTgt spid="273">
                                            <p:txEl>
                                              <p:pRg st="1" end="1"/>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273">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Homework</a:t>
            </a:r>
            <a:endParaRPr b="0" lang="en-US" sz="4400" spc="-1" strike="noStrike">
              <a:solidFill>
                <a:srgbClr val="000000"/>
              </a:solidFill>
              <a:latin typeface="Comic Sans MS"/>
            </a:endParaRPr>
          </a:p>
        </p:txBody>
      </p:sp>
      <p:sp>
        <p:nvSpPr>
          <p:cNvPr id="287"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S addition problems only</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14T17:59:31Z</dcterms:created>
  <dc:creator>ccps</dc:creator>
  <dc:description/>
  <dc:language>en-US</dc:language>
  <cp:lastModifiedBy>deanne elizabeth mcgrath</cp:lastModifiedBy>
  <dcterms:modified xsi:type="dcterms:W3CDTF">2011-01-05T19:33:50Z</dcterms:modified>
  <cp:revision>19</cp:revision>
  <dc:subject/>
  <dc:title>Chapter 2 Integer Operations</dc:title>
</cp:coreProperties>
</file>